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211F-C1CF-4CB5-A215-D65173626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FED6-2F54-4F15-A8BB-AEBA3B48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9A85-8BDE-4DFD-A163-5461D2CA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7776-6B26-4A16-8622-C64DE6B92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EA2E-8B42-483C-87FF-D09943DC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A7E8-B1BE-4BBC-B510-6CA68150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0B66-1E76-4699-A434-185C324E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BB50-A07B-4150-B4BF-E2A8BB50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13A8-0597-460F-A399-ED128BE4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E594-18D9-45F7-985E-0920CF37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3B69-53F5-47CF-9359-171BE7C0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16A2-71A6-461C-97C7-3F8D3E7C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FBE9-9038-4192-A692-8587D12D971D}" type="slidenum">
              <a:rPr b="1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מלבן 12"/>
          <p:cNvSpPr/>
          <p:nvPr/>
        </p:nvSpPr>
        <p:spPr>
          <a:xfrm>
            <a:off x="5743440" y="1996920"/>
            <a:ext cx="1008360" cy="935280"/>
          </a:xfrm>
          <a:prstGeom prst="rect">
            <a:avLst/>
          </a:prstGeom>
          <a:solidFill>
            <a:srgbClr val="00b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Calibri"/>
              </a:rPr>
              <a:t>מות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5:28:41Z</dcterms:created>
  <dc:creator>Lord Z</dc:creator>
  <dc:description/>
  <dc:language>en-US</dc:language>
  <cp:lastModifiedBy>me</cp:lastModifiedBy>
  <dcterms:modified xsi:type="dcterms:W3CDTF">2014-04-22T01:03:35Z</dcterms:modified>
  <cp:revision>679</cp:revision>
  <dc:subject/>
  <dc:title>כותרת ראשית</dc:title>
</cp:coreProperties>
</file>