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7C0-3AEA-409C-BE05-A8A8F193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F45-B38B-4837-8C35-B245DAD7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8ED5-58FC-426A-8DF7-AB89A82C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5160-62E1-48B8-A0B8-8621AE3F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FCE-A883-44A3-A79D-7DC3F739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1571-A304-4DCA-9722-5ECA92AE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5C12-6D34-4694-B812-4047B972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3E4F-8677-419C-96D5-492C51B6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9E50-0E96-45B9-9AEB-B78510A8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56CA-56A8-4BE9-8B53-3E3D3AAF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019-13D1-4252-B650-DCE3C1FC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AA4-BDAB-4A8F-9236-B6214808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C13B-4E2B-4D56-B43D-CEAACEFA5116}" type="slidenum">
              <a:rPr b="1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מלבן 12"/>
          <p:cNvSpPr/>
          <p:nvPr/>
        </p:nvSpPr>
        <p:spPr>
          <a:xfrm>
            <a:off x="5743440" y="1996920"/>
            <a:ext cx="1008360" cy="935280"/>
          </a:xfrm>
          <a:prstGeom prst="rect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ffffff"/>
                </a:solidFill>
                <a:latin typeface="Calibri"/>
              </a:rPr>
              <a:t>מות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5:28:41Z</dcterms:created>
  <dc:creator>Lord Z</dc:creator>
  <dc:description/>
  <dc:language>en-US</dc:language>
  <cp:lastModifiedBy>me</cp:lastModifiedBy>
  <dcterms:modified xsi:type="dcterms:W3CDTF">2014-04-22T01:03:35Z</dcterms:modified>
  <cp:revision>679</cp:revision>
  <dc:subject/>
  <dc:title>כותרת ראשית</dc:title>
</cp:coreProperties>
</file>