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377-D083-40F8-9994-9BE36C45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729-8996-4A77-87E6-9EFB6080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A37-70CD-4B69-BDCE-372526D2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F3F-7E2F-4C63-B10C-7582CCD9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FF8-8A16-4F90-BD94-463AB8B9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C1C-4AAE-489E-ADE0-FF80CE8F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047-F2E1-4E4F-A4E5-09AC184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2E2-054C-4E31-ACDF-B8324E9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269-394B-40C7-B909-EEC06C2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89B-7A75-4E1D-A4AC-904BB264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8FD-EAEB-47C4-8F23-5C6A6C22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88B-FF81-4DC7-8CF0-9DD4314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DA9-9449-4D26-90D2-AE9570EC79D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581-5D6C-4C9F-837F-F1EDAB3E95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645480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457200" y="6515280"/>
            <a:ext cx="26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创新思考</a:t>
            </a:r>
            <a:r>
              <a:rPr b="0" lang="en-US" sz="1000" spc="-1" strike="noStrike">
                <a:solidFill>
                  <a:srgbClr val="ffffff"/>
                </a:solidFill>
                <a:latin typeface="FZ 黑体简体"/>
                <a:ea typeface="FZ 黑体简体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FZ 黑体简体"/>
              </a:rPr>
              <a:t>只为更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613800" y="270036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tes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5080" y="6539040"/>
            <a:ext cx="13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WWW.EIS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占位符 2"/>
          <p:cNvSpPr/>
          <p:nvPr/>
        </p:nvSpPr>
        <p:spPr>
          <a:xfrm>
            <a:off x="3276720" y="3645000"/>
            <a:ext cx="5184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st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7:01:00Z</dcterms:created>
  <dc:creator>郭慧</dc:creator>
  <dc:description/>
  <dc:language>en-US</dc:language>
  <cp:lastModifiedBy>leecky</cp:lastModifiedBy>
  <dcterms:modified xsi:type="dcterms:W3CDTF">2014-03-18T07:55:02Z</dcterms:modified>
  <cp:revision>27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