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5442-279C-4675-9445-36859C16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05EC-1A23-4B9D-B569-5218CAE2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6E7B-C49B-4959-9C2E-AEC7D889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E485-69B9-440D-B212-D3E25300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873C-6456-4560-941B-19C6C12B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40BF-E549-4AB9-BC83-515E7D3A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3AB3-385E-4120-BD3A-EA81A8FD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AE55-A28A-4926-8DE4-93D9169F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084B-3DAC-4159-A8C8-46702D57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10E8-280B-4E59-98F4-4737B543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2974-7738-4B50-9EBD-C3855685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8528-21A8-4B01-9738-B27A3DD2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8991-3FE7-4AB8-B705-92E7C5241D7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309B-B795-428F-AE6B-3D07D35EF7E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0" y="645480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457200" y="6515280"/>
            <a:ext cx="268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FZ 黑体简体"/>
              </a:rPr>
              <a:t>创新思考</a:t>
            </a:r>
            <a:r>
              <a:rPr b="0" lang="en-US" sz="1000" spc="-1" strike="noStrike">
                <a:solidFill>
                  <a:srgbClr val="ffffff"/>
                </a:solidFill>
                <a:latin typeface="FZ 黑体简体"/>
                <a:ea typeface="FZ 黑体简体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FZ 黑体简体"/>
              </a:rPr>
              <a:t>只为更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613800" y="2700360"/>
            <a:ext cx="20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微软雅黑"/>
                <a:ea typeface="微软雅黑"/>
              </a:rPr>
              <a:t>test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15080" y="6539040"/>
            <a:ext cx="135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WWW.EIS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占位符 2"/>
          <p:cNvSpPr/>
          <p:nvPr/>
        </p:nvSpPr>
        <p:spPr>
          <a:xfrm>
            <a:off x="3276720" y="3645000"/>
            <a:ext cx="5184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st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07:01:00Z</dcterms:created>
  <dc:creator>郭慧</dc:creator>
  <dc:description/>
  <dc:language>en-US</dc:language>
  <cp:lastModifiedBy>leecky</cp:lastModifiedBy>
  <dcterms:modified xsi:type="dcterms:W3CDTF">2014-03-18T07:55:02Z</dcterms:modified>
  <cp:revision>27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