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D00-4BE2-46CE-903F-ADBF855E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B3C-1B0C-4D71-8372-73F1928C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1A1-C1E4-4384-BF8F-CAFDDFBA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8C7-D64B-4E7F-913E-223807E3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08C-6C5B-41D9-8944-5C332857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8B1-9795-45EB-B10F-40866F3C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652-F15D-41C5-85CA-8DE8E5C5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C3B-9329-423F-95F0-F784546E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034-C2D6-4B8D-B5B9-1744FF47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CEB-FC3F-48D7-BA9D-AC77AF3D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B6F-3160-4800-85C9-55FF4C8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A5C-861C-4ADC-9444-EAD3F7F4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4D35-0F5F-499B-8691-1A90C0791F0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est stampa tabella p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ggetto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6327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7T13:59:28Z</dcterms:created>
  <dc:creator>Bertella Gianmarco</dc:creator>
  <dc:description/>
  <dc:language>en-US</dc:language>
  <cp:lastModifiedBy>Bertella Gianmarco</cp:lastModifiedBy>
  <dcterms:modified xsi:type="dcterms:W3CDTF">2014-01-29T12:33:44Z</dcterms:modified>
  <cp:revision>6</cp:revision>
  <dc:subject/>
  <dc:title>Test stampa tabella ptt</dc:title>
</cp:coreProperties>
</file>