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848-E8AF-4485-839C-276804EA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0AC-54C4-44B8-81F0-8E78261A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8E8-E0A3-46F6-8F7A-14B9EFD8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F20-2B15-4435-BF97-252E1B3D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50A6-2812-478C-B842-37B26185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801-0FC4-4346-BE4B-982DC70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771-AB8D-434E-9707-6F60DFA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885-1F5C-49B2-910B-0DBBAD34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F1D-5BA8-421A-B402-CF39618F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28E-E675-43BD-BFDA-CA14507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8E7-1068-4738-893A-9CAF745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21E-9CCD-4D6C-B416-7784E45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AAC-01C0-4133-BC5F-56214D8D1629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Test stampa tabella p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ggetto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6327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7T13:59:28Z</dcterms:created>
  <dc:creator>Bertella Gianmarco</dc:creator>
  <dc:description/>
  <dc:language>en-US</dc:language>
  <cp:lastModifiedBy>Bertella Gianmarco</cp:lastModifiedBy>
  <dcterms:modified xsi:type="dcterms:W3CDTF">2014-01-29T12:33:44Z</dcterms:modified>
  <cp:revision>6</cp:revision>
  <dc:subject/>
  <dc:title>Test stampa tabella ptt</dc:title>
</cp:coreProperties>
</file>