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7DE-0996-493F-BE1B-DC7DA5D1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874-EE4D-4AE0-9E86-D6DC84D8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99F-F47B-4FB0-8835-8A03308B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C8D0-234F-4F73-8C2A-423FDAEB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9D3-5F0A-4AB5-B185-32EA196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FA7-A1D2-4412-8FA1-0F884A7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670-04C4-42A8-B1AB-43B667AF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AA3-55D1-4CD6-A4DE-0AE2B4A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1DC-D9FF-4127-9BF8-18BA0F7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5F6-EA2E-468D-915B-FA67F45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5CD-01B7-4CF3-8B20-27757081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7DE-AC8C-45B9-B745-43306CAD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8EA8-5145-46E4-8EC5-687B67A4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4:55:03Z</dcterms:created>
  <dc:creator>Geraldo Augusto Vecchiato</dc:creator>
  <dc:description/>
  <dc:language>en-US</dc:language>
  <cp:lastModifiedBy>Geraldo Augusto Vecchiato</cp:lastModifiedBy>
  <dcterms:modified xsi:type="dcterms:W3CDTF">2013-10-14T14:58:12Z</dcterms:modified>
  <cp:revision>3</cp:revision>
  <dc:subject/>
  <dc:title>Test File</dc:title>
</cp:coreProperties>
</file>