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0AD4-051D-4D6C-AFD2-3FA5FBEC0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EF27-EE00-436A-901B-61925DB0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C47E-3FD8-4A3B-BCF6-21E4F463C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C8F6-7A86-4CD9-813B-90EE92706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85BB-1858-4302-9D96-1AE4C3B3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48F2-D268-4274-A2BE-2151D784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2ED9-4E25-419B-BE6C-6C800C92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17B5-B510-49A9-8991-E89882C9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B075-89F2-4B2C-9698-1407B2B0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8A40-C2AC-4FD5-81D4-1B49153B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861C-B5CF-4ECE-8205-DC919538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6CC0-C6CD-4095-BE4B-1E88EA25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2FAA-7221-40C6-A594-C84161CB6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4T14:55:03Z</dcterms:created>
  <dc:creator>Geraldo Augusto Vecchiato</dc:creator>
  <dc:description/>
  <dc:language>en-US</dc:language>
  <cp:lastModifiedBy>Geraldo Augusto Vecchiato</cp:lastModifiedBy>
  <dcterms:modified xsi:type="dcterms:W3CDTF">2013-10-14T14:58:12Z</dcterms:modified>
  <cp:revision>3</cp:revision>
  <dc:subject/>
  <dc:title>Test File</dc:title>
</cp:coreProperties>
</file>