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A0D-5AEA-493B-BC98-08E2790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921-1EA5-41F7-9B01-EC9D003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5FC-81A7-4512-95A2-6F513224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4B6-2A70-446D-8D76-5EE4393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4A1-6C81-4445-93E0-7436121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06F-B4FF-456F-83C7-88AFC0A1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88B-3474-4F68-9601-0B848004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1AE-91FD-4151-89CC-8551F30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DBF-E3CB-4FA8-9754-ACAC105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FAE-EE09-44B4-8C19-11F2243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57F-9A2A-4DC5-9A2A-05BC1AB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5E2-B3C5-4A62-8AA0-77DC8FAB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21F-81B6-4764-AC5C-F4430DD7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4:55:03Z</dcterms:created>
  <dc:creator>Geraldo Augusto Vecchiato</dc:creator>
  <dc:description/>
  <dc:language>en-US</dc:language>
  <cp:lastModifiedBy>Geraldo Augusto Vecchiato</cp:lastModifiedBy>
  <dcterms:modified xsi:type="dcterms:W3CDTF">2013-10-14T14:55:36Z</dcterms:modified>
  <cp:revision>1</cp:revision>
  <dc:subject/>
  <dc:title>Test File</dc:title>
</cp:coreProperties>
</file>