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3F565-AEC5-4458-BC3F-8EF8859BE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628B7-41E2-4373-9F37-1E0650CB9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DF56B-B5F8-479B-B8AD-734BD391E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F5EFA-34E4-4847-AB63-4FE203BBE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C5AFF-87CE-4D87-9FC5-A59280F7D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CE809-D62C-4302-815F-A5A57380F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D7977-C7E2-4DC3-A666-13A01F649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F2C8E-AD78-42E1-871C-36A6B0D56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228B3-32B0-423C-A6E5-C7BACE945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8E43A-DF09-4831-A475-2C0A003A1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1E4AA-9180-4698-80C4-09EEC7E95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F28B8-EAC3-4983-9F09-EA2EEB5C5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58076-E05E-45F2-8185-EFD8CD7B2D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4T14:55:03Z</dcterms:created>
  <dc:creator>Geraldo Augusto Vecchiato</dc:creator>
  <dc:description/>
  <dc:language>en-US</dc:language>
  <cp:lastModifiedBy>Geraldo Augusto Vecchiato</cp:lastModifiedBy>
  <dcterms:modified xsi:type="dcterms:W3CDTF">2013-10-14T14:55:36Z</dcterms:modified>
  <cp:revision>1</cp:revision>
  <dc:subject/>
  <dc:title>Test File</dc:title>
</cp:coreProperties>
</file>