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2760" y="404460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340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1952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628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276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1952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628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BF44-22A9-4284-B42A-DA0DE477A9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C5DA-83F1-4630-9683-A8D50E19D5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DBE8-E376-41D0-8C0D-4564BC6EA9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59EC-4627-487C-9599-6822720DFA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FE63-5180-4036-BACF-7619F054F3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56108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4D52-5DE2-4E43-8472-190DEA2673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181B-EE2A-4C4C-B82A-560BEC23BF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340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85DE-E4EB-4023-8E40-810747ACF4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EFAD-9594-45D0-897B-EAD62A8267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12760" y="404460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4C45-92A6-480F-B6B0-4E3F9DDF0F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340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A638-20FB-4E16-93A5-F914739B9C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1952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2628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1276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1952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2628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3196-C9A6-4892-84BD-8B57FF4942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7DF9-50B7-400F-9D0B-EBF1C35EE4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2034-D192-4345-898B-D784992D32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B308-0F69-4C1A-982B-ABB3D8CC5B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2598-D0D2-40D4-AB97-021FFAC428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07CB-0055-49C4-824D-4F2028D09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56108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8610-760F-4973-80ED-8C73E713C9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94AD-4BCA-435E-AC4E-4BADD1B5BC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6340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C4E4-144C-4866-8745-629F412D9E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B3FF-5ECD-4959-A696-960FB9B5A1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12760" y="404460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5D2A8-E616-4130-8CAA-9207F9A406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6340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DDC6-3072-4C35-8D3A-E4B4E1BFFB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1952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2628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11276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71952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32628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3D6E-B7D3-4167-BF64-64D9ABB26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56108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340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46040" y="4795920"/>
            <a:ext cx="8266320" cy="20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9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1" marL="205200" algn="ctr">
              <a:spcBef>
                <a:spcPts val="799"/>
              </a:spcBef>
              <a:buClr>
                <a:srgbClr val="333333"/>
              </a:buClr>
              <a:buFont typeface="Signik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2" marL="541080" indent="-111960" algn="ctr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3" marL="765360" indent="-111960" algn="ctr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4" marL="989280" indent="-111960" algn="ctr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5" marL="989280" indent="-111960" algn="ctr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6" marL="989280" indent="-111960" algn="ctr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1"/>
          </p:nvPr>
        </p:nvSpPr>
        <p:spPr>
          <a:xfrm>
            <a:off x="8408880" y="6429240"/>
            <a:ext cx="2779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Signika"/>
                <a:ea typeface="Signi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0BC6-81C2-48D7-8E85-30B433331CC4}" type="slidenum">
              <a:rPr b="0" lang="en-US" sz="1400" spc="-1" strike="noStrike">
                <a:solidFill>
                  <a:srgbClr val="333333"/>
                </a:solidFill>
                <a:latin typeface="Signika"/>
                <a:ea typeface="Signi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1" marL="933480" indent="-51444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2" marL="1333440" indent="-45720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4" marL="201924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5" marL="201924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6" marL="201924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Num" idx="2"/>
          </p:nvPr>
        </p:nvSpPr>
        <p:spPr>
          <a:xfrm>
            <a:off x="8408880" y="6429240"/>
            <a:ext cx="2779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Signika"/>
                <a:ea typeface="Signi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D53C-2E1C-4AC1-8888-CE8564002C25}" type="slidenum">
              <a:rPr b="0" lang="en-US" sz="1400" spc="-1" strike="noStrike">
                <a:solidFill>
                  <a:srgbClr val="cccccc"/>
                </a:solidFill>
                <a:latin typeface="Signika"/>
                <a:ea typeface="Signi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46040" y="1779480"/>
            <a:ext cx="8266320" cy="286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1" marL="289080" algn="ctr">
              <a:spcBef>
                <a:spcPts val="799"/>
              </a:spcBef>
              <a:buClr>
                <a:srgbClr val="9f9f9f"/>
              </a:buClr>
              <a:buFont typeface="Signik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2" marL="604440" algn="ctr">
              <a:spcBef>
                <a:spcPts val="799"/>
              </a:spcBef>
              <a:buClr>
                <a:srgbClr val="9f9f9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3" marL="919800" algn="ctr">
              <a:spcBef>
                <a:spcPts val="799"/>
              </a:spcBef>
              <a:buClr>
                <a:srgbClr val="9f9f9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4" marL="1235520" algn="ctr">
              <a:spcBef>
                <a:spcPts val="799"/>
              </a:spcBef>
              <a:buClr>
                <a:srgbClr val="9f9f9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5" marL="1235520" algn="ctr">
              <a:spcBef>
                <a:spcPts val="799"/>
              </a:spcBef>
              <a:buClr>
                <a:srgbClr val="333333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6" marL="1235520" algn="ctr">
              <a:spcBef>
                <a:spcPts val="799"/>
              </a:spcBef>
              <a:buClr>
                <a:srgbClr val="333333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karlpauls@gmail.com" TargetMode="External"/><Relationship Id="rId3" Type="http://schemas.openxmlformats.org/officeDocument/2006/relationships/hyperlink" Target="mailto:karlpauls@gmail.com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579920"/>
            <a:ext cx="9156600" cy="158436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17840" y="763560"/>
            <a:ext cx="2306520" cy="2351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66840" y="3114720"/>
            <a:ext cx="8280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Signika"/>
                <a:ea typeface="Signika"/>
              </a:rPr>
              <a:t>APACHE SLING &amp; FRIENDS TECH MEETUP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3429000"/>
            <a:ext cx="8280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BERLIN, 23-25 SEPTEMBER 2013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46040" y="4795920"/>
            <a:ext cx="8266320" cy="20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  <a:ea typeface="Lucida Grande"/>
              </a:rPr>
              <a:t>OSGi µServices 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121" name=""/>
          <p:cNvSpPr/>
          <p:nvPr/>
        </p:nvSpPr>
        <p:spPr>
          <a:xfrm>
            <a:off x="430200" y="5372280"/>
            <a:ext cx="8282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  <a:ea typeface="Signika"/>
              </a:rPr>
              <a:t>Karl Pauls</a:t>
            </a:r>
            <a:endParaRPr b="0" lang="en-US" sz="3200" spc="-1" strike="noStrike">
              <a:solidFill>
                <a:srgbClr val="333333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rocedur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74" name=""/>
          <p:cNvSpPr/>
          <p:nvPr/>
        </p:nvSpPr>
        <p:spPr>
          <a:xfrm>
            <a:off x="-4525200" y="1422360"/>
            <a:ext cx="1487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yte[4096] canvas;void mouseClickCallback(int x, int y) {  drawCircle(x, y, 100);}void drawCircle(int x, int y, int r) {  ...  // draws into canvas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4F3E-2C67-4223-80F9-0D897E9021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rocedur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83" name=""/>
          <p:cNvSpPr/>
          <p:nvPr/>
        </p:nvSpPr>
        <p:spPr>
          <a:xfrm>
            <a:off x="-4525200" y="1422360"/>
            <a:ext cx="1487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yte[4096] canvas;void mouseClickCallback(int x, int y) {  drawCircle(x, y, 100);}void drawCircle(int x, int y, int r) {  ...  // draws into canvas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F01C-3119-42E2-A86A-122B0B764FC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bject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93" name=""/>
          <p:cNvSpPr/>
          <p:nvPr/>
        </p:nvSpPr>
        <p:spPr>
          <a:xfrm>
            <a:off x="1079640" y="1231920"/>
            <a:ext cx="568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abstract class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E0C4-D708-4D4A-B34C-A0D3C8F3939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bject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99" name=""/>
          <p:cNvSpPr/>
          <p:nvPr/>
        </p:nvSpPr>
        <p:spPr>
          <a:xfrm>
            <a:off x="1079640" y="1231920"/>
            <a:ext cx="568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abstract class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4C24-EC6C-4F73-971F-5678EC8816E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bject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06" name=""/>
          <p:cNvSpPr/>
          <p:nvPr/>
        </p:nvSpPr>
        <p:spPr>
          <a:xfrm>
            <a:off x="1079640" y="1231920"/>
            <a:ext cx="568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abstract class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5B3C-7B12-4748-B523-362E246BA79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bject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14" name=""/>
          <p:cNvSpPr/>
          <p:nvPr/>
        </p:nvSpPr>
        <p:spPr>
          <a:xfrm>
            <a:off x="1079640" y="1231920"/>
            <a:ext cx="568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abstract class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2CAF-2F23-4C19-AADF-F476862CB09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bject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23" name=""/>
          <p:cNvSpPr/>
          <p:nvPr/>
        </p:nvSpPr>
        <p:spPr>
          <a:xfrm>
            <a:off x="1079640" y="1231920"/>
            <a:ext cx="568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abstract class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F501-AA03-4F2A-BEF9-60381D653B6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Interfac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282680"/>
            <a:ext cx="608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interface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DC91-4FD9-4E97-812B-4FD800884A8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Interfac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282680"/>
            <a:ext cx="608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interface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4BBD-95A2-4EB4-8F61-6FB7F996F24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Factori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193760"/>
            <a:ext cx="741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public static void main() {    new Paint(      new Canvas(),      ShapeFactory.createShape());  }}public class ShapeFactory {  public static Shape createShape() {    return Class.forName(        System.getProperty("shapefactory.shapeimpl"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CBD4-D2C9-4D91-8EE6-42DC500714B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$whoami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Karl Pauls -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ignika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karlpauls@gmail.co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Lucida Grande"/>
                <a:ea typeface="Lucida Grande"/>
              </a:rPr>
              <a:t>m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Member Apache Software Foundation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Lucida Grande"/>
              </a:rPr>
              <a:t>Felix, ACE, </a:t>
            </a:r>
            <a:r>
              <a:rPr b="0" lang="en-US" sz="1400" spc="-1" strike="noStrike">
                <a:solidFill>
                  <a:srgbClr val="333333"/>
                </a:solidFill>
                <a:latin typeface="Lucida Grande"/>
              </a:rPr>
              <a:t>Sling, Incubator: Celix</a:t>
            </a:r>
            <a:endParaRPr b="0" lang="en-US" sz="1400" spc="-1" strike="noStrike">
              <a:solidFill>
                <a:srgbClr val="333333"/>
              </a:solidFill>
              <a:latin typeface="Lucida Grande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Co-author of „OSGi in Action“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 rot="660000">
            <a:off x="7243560" y="4541400"/>
            <a:ext cx="1460520" cy="18162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FA9C-C1B5-4B40-A0B3-FE6CE2B5857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Factori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193760"/>
            <a:ext cx="741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public static void main() {    new Paint(      new Canvas(),      ShapeFactory.createShape());  }}public class ShapeFactory {  public static Shape createShape() {    return Class.forName(        System.getProperty("shapefactory.shapeimpl"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1BA8-AE56-4A3E-9ABA-CEC947AFF33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Factori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193760"/>
            <a:ext cx="741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public static void main() {    new Paint(      new Canvas(),      ShapeFactory.createShape());  }}public class ShapeFactory {  public static Shape createShape() {    return Class.forName(        System.getProperty("shapefactory.shapeimpl"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8666-62CB-467F-AD2B-D1E605A62E3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Factori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193760"/>
            <a:ext cx="741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public static void main() {    new Paint(      new Canvas(),      ShapeFactory.createShape());  }}public class ShapeFactory {  public static Shape createShape() {    return Class.forName(        System.getProperty("shapefactory.shapeimpl"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D0CB-6AB3-4420-B843-DE83E04B65B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85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Paint(Shape shape) { … }} public class ShapeModule extends AbstractModule {  @Override   protected void configure() {    bind(Shape.class).to(Circle.class);    bind(ShapeConsumer.class).to(Paint.class);  }}Injector injector = Guice.createInjector(new ShapeModule());ShapeConsumer consumer = injector.getInstance(ShapeConsumer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168D-9773-443A-8587-81F9F27F1D4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92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Paint(Shape shape) { … }} public class ShapeModule extends AbstractModule {  @Override   protected void configure() {    bind(Shape.class).to(Circle.class);    bind(ShapeConsumer.class).to(Paint.class);  }}Injector injector = Guice.createInjector(new ShapeModule());ShapeConsumer consumer = injector.getInstance(ShapeConsumer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9D62-D926-4751-B8BE-AD20385F4FA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00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Paint(Shape shape) { … }} public class ShapeModule extends AbstractModule {  @Override   protected void configure() {    bind(Shape.class).to(Circle.class);    bind(ShapeConsumer.class).to(Paint.class);  }}Injector injector = Guice.createInjector(new ShapeModule());ShapeConsumer consumer = injector.getInstance(ShapeConsumer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49F5-D0D1-4C86-8F47-947BBFAFE4B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09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Paint(Shape shape) { … }} public class ShapeModule extends AbstractModule {  @Override   protected void configure() {    bind(Shape.class).to(Circle.class);    bind(ShapeConsumer.class).to(Paint.class);  }}Injector injector = Guice.createInjector(new ShapeModule());ShapeConsumer consumer = injector.getInstance(ShapeConsumer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B96C-AA51-4D8F-99C3-FA86804D436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Context and Dependency Injection (CDI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19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Shape shape;} @Defaultpublic class CircleProducer {  @Produces   protected Shape createShape() {    return new CircleImpl();  }}Paint paint = beanContainer.getBeanByType(Paint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5BF1-F3BF-4CC4-96DA-33325EAD348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Context and Dependency Injection (CDI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27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Shape shape;} @Defaultpublic class CircleProducer {  @Produces   protected Shape createShape() {    return new CircleImpl();  }}Paint paint = beanContainer.getBeanByType(Paint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0A22-4851-4FB1-BBA2-0607C79439F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Context and Dependency Injection (CDI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36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Shape shape;} @Defaultpublic class CircleProducer {  @Produces   protected Shape createShape() {    return new CircleImpl();  }}Paint paint = beanContainer.getBeanByType(Paint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5C15-C508-40DC-8F38-7E78335EF4C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0840" y="138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419200"/>
            <a:ext cx="9156600" cy="158436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46040" y="1779480"/>
            <a:ext cx="8266320" cy="286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31CD-78F0-4D4A-9710-FDEAB4546F5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50840" y="138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2419200"/>
            <a:ext cx="9156600" cy="158436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46040" y="1779480"/>
            <a:ext cx="8266320" cy="286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ervice Orientation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EA6B-1A3C-40ED-B99B-CA9B01E88A8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50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Signika"/>
              </a:rPr>
              <a:t>Promoting a service-oriented interaction pattern</a:t>
            </a:r>
            <a:endParaRPr b="0" lang="en-US" sz="26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orienta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DBB4-FCA9-44D4-92EE-A30970C36BB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50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Signika"/>
              </a:rPr>
              <a:t>Promoting a service-oriented interaction pattern</a:t>
            </a:r>
            <a:endParaRPr b="0" lang="en-US" sz="26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orienta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56" name=""/>
          <p:cNvSpPr/>
          <p:nvPr/>
        </p:nvSpPr>
        <p:spPr>
          <a:xfrm>
            <a:off x="3822840" y="27939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57" name=""/>
          <p:cNvSpPr/>
          <p:nvPr/>
        </p:nvSpPr>
        <p:spPr>
          <a:xfrm>
            <a:off x="4178160" y="3111480"/>
            <a:ext cx="10670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Registry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8BFA-CE00-4ACC-8EF7-4AA2B5A2347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50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Signika"/>
              </a:rPr>
              <a:t>Promoting a service-oriented interaction pattern</a:t>
            </a:r>
            <a:endParaRPr b="0" lang="en-US" sz="26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orienta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63" name=""/>
          <p:cNvSpPr/>
          <p:nvPr/>
        </p:nvSpPr>
        <p:spPr>
          <a:xfrm>
            <a:off x="3822840" y="27939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4" name=""/>
          <p:cNvSpPr/>
          <p:nvPr/>
        </p:nvSpPr>
        <p:spPr>
          <a:xfrm>
            <a:off x="4178160" y="3111480"/>
            <a:ext cx="10670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Registry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5" name=""/>
          <p:cNvSpPr/>
          <p:nvPr/>
        </p:nvSpPr>
        <p:spPr>
          <a:xfrm>
            <a:off x="1054080" y="46227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6" name=""/>
          <p:cNvSpPr/>
          <p:nvPr/>
        </p:nvSpPr>
        <p:spPr>
          <a:xfrm>
            <a:off x="1397160" y="4940280"/>
            <a:ext cx="1066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Provider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7" name=""/>
          <p:cNvSpPr/>
          <p:nvPr/>
        </p:nvSpPr>
        <p:spPr>
          <a:xfrm>
            <a:off x="3759120" y="4546440"/>
            <a:ext cx="186696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8" name=""/>
          <p:cNvSpPr/>
          <p:nvPr/>
        </p:nvSpPr>
        <p:spPr>
          <a:xfrm>
            <a:off x="4074840" y="4546440"/>
            <a:ext cx="1233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ervice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260440" y="3213000"/>
            <a:ext cx="1270080" cy="127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70" name=""/>
          <p:cNvSpPr/>
          <p:nvPr/>
        </p:nvSpPr>
        <p:spPr>
          <a:xfrm>
            <a:off x="1535400" y="3683160"/>
            <a:ext cx="79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sh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09CA-EC69-4841-86EA-B344FCADC93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50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Signika"/>
              </a:rPr>
              <a:t>Promoting a service-oriented interaction pattern</a:t>
            </a:r>
            <a:endParaRPr b="0" lang="en-US" sz="26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orienta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76" name=""/>
          <p:cNvSpPr/>
          <p:nvPr/>
        </p:nvSpPr>
        <p:spPr>
          <a:xfrm>
            <a:off x="3822840" y="27939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77" name=""/>
          <p:cNvSpPr/>
          <p:nvPr/>
        </p:nvSpPr>
        <p:spPr>
          <a:xfrm>
            <a:off x="4178160" y="3111480"/>
            <a:ext cx="10670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Registry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78" name=""/>
          <p:cNvSpPr/>
          <p:nvPr/>
        </p:nvSpPr>
        <p:spPr>
          <a:xfrm>
            <a:off x="1054080" y="46227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79" name=""/>
          <p:cNvSpPr/>
          <p:nvPr/>
        </p:nvSpPr>
        <p:spPr>
          <a:xfrm>
            <a:off x="1397160" y="4940280"/>
            <a:ext cx="1066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Provider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0" name=""/>
          <p:cNvSpPr/>
          <p:nvPr/>
        </p:nvSpPr>
        <p:spPr>
          <a:xfrm>
            <a:off x="6578640" y="46227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1" name=""/>
          <p:cNvSpPr/>
          <p:nvPr/>
        </p:nvSpPr>
        <p:spPr>
          <a:xfrm>
            <a:off x="6921360" y="4940280"/>
            <a:ext cx="10670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Consumer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2" name=""/>
          <p:cNvSpPr/>
          <p:nvPr/>
        </p:nvSpPr>
        <p:spPr>
          <a:xfrm>
            <a:off x="3759120" y="4546440"/>
            <a:ext cx="186696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3" name=""/>
          <p:cNvSpPr/>
          <p:nvPr/>
        </p:nvSpPr>
        <p:spPr>
          <a:xfrm>
            <a:off x="4074840" y="4546440"/>
            <a:ext cx="1233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ervice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4" name=""/>
          <p:cNvSpPr/>
          <p:nvPr/>
        </p:nvSpPr>
        <p:spPr>
          <a:xfrm>
            <a:off x="5892840" y="3213000"/>
            <a:ext cx="1270080" cy="127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260440" y="3213000"/>
            <a:ext cx="1270080" cy="127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6" name=""/>
          <p:cNvSpPr/>
          <p:nvPr/>
        </p:nvSpPr>
        <p:spPr>
          <a:xfrm>
            <a:off x="1535400" y="3683160"/>
            <a:ext cx="79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sh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7" name=""/>
          <p:cNvSpPr/>
          <p:nvPr/>
        </p:nvSpPr>
        <p:spPr>
          <a:xfrm>
            <a:off x="7225920" y="3683160"/>
            <a:ext cx="46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Find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215B-68A6-4DAD-8470-3A5A0855D67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50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Signika"/>
              </a:rPr>
              <a:t>Promoting a service-oriented interaction pattern</a:t>
            </a:r>
            <a:endParaRPr b="0" lang="en-US" sz="26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orienta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93" name=""/>
          <p:cNvSpPr/>
          <p:nvPr/>
        </p:nvSpPr>
        <p:spPr>
          <a:xfrm>
            <a:off x="3822840" y="27939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>
            <a:off x="4178160" y="3111480"/>
            <a:ext cx="10670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Registry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1054080" y="46227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1397160" y="4940280"/>
            <a:ext cx="1066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Provider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6578640" y="46227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6921360" y="4940280"/>
            <a:ext cx="10670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Consumer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3759120" y="4546440"/>
            <a:ext cx="186696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0" name=""/>
          <p:cNvSpPr/>
          <p:nvPr/>
        </p:nvSpPr>
        <p:spPr>
          <a:xfrm>
            <a:off x="4074840" y="4546440"/>
            <a:ext cx="1233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ervice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5892840" y="3213000"/>
            <a:ext cx="1270080" cy="127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260440" y="3213000"/>
            <a:ext cx="1270080" cy="127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>
            <a:off x="3067200" y="5573880"/>
            <a:ext cx="3230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>
            <a:off x="1535400" y="3683160"/>
            <a:ext cx="79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sh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7225920" y="3683160"/>
            <a:ext cx="46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Find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>
            <a:off x="4326840" y="5816520"/>
            <a:ext cx="49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Signika"/>
                <a:ea typeface="Signika"/>
              </a:rPr>
              <a:t>Bind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31EB-C5DA-42B4-83D3-B2B8D4B3DA7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  <a:ea typeface="Lucida Grande"/>
              </a:rPr>
              <a:t>µServic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Interface-based programming, but more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638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Service Registry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6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Signika"/>
              </a:rPr>
              <a:t>Centrally accessible</a:t>
            </a: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6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Signika"/>
              </a:rPr>
              <a:t>Browsable</a:t>
            </a: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6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Signika"/>
              </a:rPr>
              <a:t>Notifications</a:t>
            </a: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638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Service Registry Benefits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6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Signika"/>
              </a:rPr>
              <a:t>Consuming code is in control of provider selection</a:t>
            </a: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  <a:p>
            <a:pPr lvl="2" marL="1371600" indent="-457200">
              <a:lnSpc>
                <a:spcPct val="10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Lucida Grande"/>
              </a:rPr>
              <a:t>But not provider instantiation and configuration</a:t>
            </a:r>
            <a:endParaRPr b="0" lang="en-US" sz="1900" spc="-1" strike="noStrike">
              <a:solidFill>
                <a:srgbClr val="333333"/>
              </a:solidFill>
              <a:latin typeface="Lucida Grande"/>
            </a:endParaRPr>
          </a:p>
          <a:p>
            <a:pPr lvl="1" marL="971640" indent="-514440">
              <a:lnSpc>
                <a:spcPct val="100000"/>
              </a:lnSpc>
              <a:spcBef>
                <a:spcPts val="56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Signika"/>
              </a:rPr>
              <a:t>Provider code is in control of when to provide</a:t>
            </a: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6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Signika"/>
              </a:rPr>
              <a:t>Promotes very loose coupling and late binding</a:t>
            </a: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BD7A-34B2-448D-8D78-106FC6C93C3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META-INF/servic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16" name=""/>
          <p:cNvSpPr/>
          <p:nvPr/>
        </p:nvSpPr>
        <p:spPr>
          <a:xfrm>
            <a:off x="800280" y="1434960"/>
            <a:ext cx="657828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erviceLoader&lt;ShapeFactory&gt; factories =   ServiceLoader.load(ShapeFactory.class);List&lt;Shape&gt; shapes = …for (ShapeFactory factory : factories) {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hapes.add(factory.next().createShape());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857E-95C3-409B-8B94-078CB5FCDDD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SGi servic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OSGi framework provides the concepts we need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Centralized service registry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Consumer has control over selection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Provider has control over when to provide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Plus full-blown deployment and packaging modularity with run-time dynamism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8A92-C5B7-43F9-8894-DA5FD24A964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SGi service advantag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509040" indent="-509040">
              <a:lnSpc>
                <a:spcPct val="10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Signika"/>
              </a:rPr>
              <a:t>Lightweight services</a:t>
            </a:r>
            <a:endParaRPr b="0" lang="en-US" sz="2900" spc="-1" strike="noStrike">
              <a:solidFill>
                <a:srgbClr val="333333"/>
              </a:solidFill>
              <a:latin typeface="Signika"/>
            </a:endParaRPr>
          </a:p>
          <a:p>
            <a:pPr lvl="1" marL="961920" indent="-509040">
              <a:lnSpc>
                <a:spcPct val="100000"/>
              </a:lnSpc>
              <a:spcBef>
                <a:spcPts val="62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Direct method invocation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  <a:p>
            <a:pPr marL="509040" indent="-509040">
              <a:lnSpc>
                <a:spcPct val="100000"/>
              </a:lnSpc>
              <a:spcBef>
                <a:spcPts val="726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Signika"/>
              </a:rPr>
              <a:t>Structured code</a:t>
            </a:r>
            <a:endParaRPr b="0" lang="en-US" sz="2900" spc="-1" strike="noStrike">
              <a:solidFill>
                <a:srgbClr val="333333"/>
              </a:solidFill>
              <a:latin typeface="Signika"/>
            </a:endParaRPr>
          </a:p>
          <a:p>
            <a:pPr lvl="1" marL="961920" indent="-509040">
              <a:lnSpc>
                <a:spcPct val="100000"/>
              </a:lnSpc>
              <a:spcBef>
                <a:spcPts val="62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Promotes separation of interface from implementation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  <a:p>
            <a:pPr lvl="1" marL="961920" indent="-509040">
              <a:lnSpc>
                <a:spcPct val="100000"/>
              </a:lnSpc>
              <a:spcBef>
                <a:spcPts val="62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Enables reuse, substitutability, loose coupling, and late binding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  <a:p>
            <a:pPr marL="509040" indent="-509040">
              <a:lnSpc>
                <a:spcPct val="100000"/>
              </a:lnSpc>
              <a:spcBef>
                <a:spcPts val="726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Signika"/>
              </a:rPr>
              <a:t>Dynamics</a:t>
            </a:r>
            <a:endParaRPr b="0" lang="en-US" sz="2900" spc="-1" strike="noStrike">
              <a:solidFill>
                <a:srgbClr val="333333"/>
              </a:solidFill>
              <a:latin typeface="Signika"/>
            </a:endParaRPr>
          </a:p>
          <a:p>
            <a:pPr lvl="1" marL="961920" indent="-509040">
              <a:lnSpc>
                <a:spcPct val="100000"/>
              </a:lnSpc>
              <a:spcBef>
                <a:spcPts val="62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Loose coupling and late binding make it possible to support run-time management of module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30A2-00BB-41BB-8582-FE48D0EBB1D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utline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  <a:ea typeface="Lucida Grande"/>
              </a:rPr>
              <a:t>Motivating µServices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Procedures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Objects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Interfaces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Factories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Dependency injection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587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Service orientation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  <a:ea typeface="Lucida Grande"/>
              </a:rPr>
              <a:t>µServices and OSGi Services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Dynamism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Service Dependency Injection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587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Example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Declarative Services with Configuration Admin Service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9C0C-ECA7-413C-9378-C3B1E988FC0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Using a service (1/2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4360" y="1484280"/>
            <a:ext cx="8407440" cy="67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undleContext</a:t>
            </a: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 allows bundles to find services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37" name=""/>
          <p:cNvSpPr/>
          <p:nvPr/>
        </p:nvSpPr>
        <p:spPr>
          <a:xfrm>
            <a:off x="635040" y="2184480"/>
            <a:ext cx="8039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interface BundleContext {  …  ServiceReference[] getServiceReferences(...);  ServiceReference getServiceReference(...);  Object getService(...);  boolean ungetService(...);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3509-7B60-48C2-BEF3-E76EFAABF54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Using a service (2/2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42" name=""/>
          <p:cNvSpPr/>
          <p:nvPr/>
        </p:nvSpPr>
        <p:spPr>
          <a:xfrm>
            <a:off x="419040" y="1193760"/>
            <a:ext cx="8128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BundleActivator {  public void start(BundleContext context) {    ServiceReference ref = context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getServiceReferen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      com.foo.Shape.class.getName());    if (ref != null) {      Shape s = (Hello) context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getServi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ref);      if (s != null) {        ...        context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ungetServi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h);      }    }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A488-7856-4652-B6BA-9ADC751E8BF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ublishing a service (1/2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480" y="1483920"/>
            <a:ext cx="878832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9000"/>
          </a:bodyPr>
          <a:p>
            <a:pPr marL="406080" indent="-406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undleContext</a:t>
            </a: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 allows bundles to publish services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51" name=""/>
          <p:cNvSpPr/>
          <p:nvPr/>
        </p:nvSpPr>
        <p:spPr>
          <a:xfrm>
            <a:off x="-951480" y="2374920"/>
            <a:ext cx="851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interface BundleContext {  ...  ServiceRegistration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gisterServi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...);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8C12-83BF-4FA1-85D2-2F28A5351C9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ublishing a service (1/2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56" name=""/>
          <p:cNvSpPr/>
          <p:nvPr/>
        </p:nvSpPr>
        <p:spPr>
          <a:xfrm>
            <a:off x="723960" y="1523880"/>
            <a:ext cx="7391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Activator implements BundleActivator {  private ServiceRegistration reg = null;  public void start(BundleContext context) {    reg = context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gisterServi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      com.foo.Shape.class.getName(),      new Circle(100), null);  }  public void stop(BundleContext context) {    reg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unregister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0C8E-ED8D-46FC-B02B-175B39A3BEF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dynamism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6320" y="1217160"/>
            <a:ext cx="7709040" cy="660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Services can be monitored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66" name=""/>
          <p:cNvSpPr/>
          <p:nvPr/>
        </p:nvSpPr>
        <p:spPr>
          <a:xfrm>
            <a:off x="190440" y="1739880"/>
            <a:ext cx="7988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undleContext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addServiceListener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)public interface ServiceListener extends EventListener {  public void serviceChanged(ServiceEvent event);}public class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erviceEv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extends EventObject {  public final static int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GISTERED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;  public final static int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MODIFIED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;  public final static int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UNREGISTERING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;  public ServiceReference 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getServiceReference() { … }  public int getType() { … }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794B-E2DC-470B-93F3-8A33E255F3F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Bundle-based dynamism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Signika"/>
              </a:rPr>
              <a:t>Bundle lifecycle state provides a hook for bundle-based dynamic extensibility</a:t>
            </a:r>
            <a:endParaRPr b="0" lang="en-US" sz="24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612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Signika"/>
              </a:rPr>
              <a:t>The extender pattern</a:t>
            </a:r>
            <a:endParaRPr b="0" lang="en-US" sz="24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3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33"/>
                </a:solidFill>
                <a:latin typeface="Signika"/>
              </a:rPr>
              <a:t>An application component, called the extender, listens for bundles to be started, and stopped</a:t>
            </a:r>
            <a:endParaRPr b="0" lang="en-US" sz="21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3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33"/>
                </a:solidFill>
                <a:latin typeface="Signika"/>
              </a:rPr>
              <a:t>On startup, the extender probes bundles to see if they are extensions</a:t>
            </a:r>
            <a:endParaRPr b="0" lang="en-US" sz="2100" spc="-1" strike="noStrike">
              <a:solidFill>
                <a:srgbClr val="333333"/>
              </a:solidFill>
              <a:latin typeface="Signika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</a:rPr>
              <a:t>Typically, extension contain special metadata or resources to indicate they provide an extension</a:t>
            </a:r>
            <a:endParaRPr b="0" lang="en-US" sz="1800" spc="-1" strike="noStrike">
              <a:solidFill>
                <a:srgbClr val="333333"/>
              </a:solidFill>
              <a:latin typeface="Lucida Grande"/>
            </a:endParaRPr>
          </a:p>
          <a:p>
            <a:pPr lvl="1" marL="971640" indent="-514440">
              <a:lnSpc>
                <a:spcPct val="100000"/>
              </a:lnSpc>
              <a:spcBef>
                <a:spcPts val="53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33"/>
                </a:solidFill>
                <a:latin typeface="Signika"/>
              </a:rPr>
              <a:t>When an extension is started, the extender integrates the extension into the application</a:t>
            </a:r>
            <a:endParaRPr b="0" lang="en-US" sz="21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3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33"/>
                </a:solidFill>
                <a:latin typeface="Signika"/>
              </a:rPr>
              <a:t>When an extension is stopped, the extender removes the extension from the application</a:t>
            </a:r>
            <a:endParaRPr b="0" lang="en-US" sz="21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E8B5-47E4-44A2-B86B-F3C2307EF57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-based dynamism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Service lifecycle state provides a hook for service-based dynamic extensibility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Still overall controlled by bundle state, but more fine grained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587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Treats the service registry as a whiteboard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A reverse way to create a service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587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An application component listens for services of a particular type to be added and removed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587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On addition, the service is integrated into the application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587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On removal, the service is removed from the application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3ECD-960D-445C-8E72-49EE7AC8C88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dynamism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06320" y="1217160"/>
            <a:ext cx="7709040" cy="660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Services can be monitored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82" name=""/>
          <p:cNvSpPr/>
          <p:nvPr/>
        </p:nvSpPr>
        <p:spPr>
          <a:xfrm>
            <a:off x="203040" y="1739880"/>
            <a:ext cx="7988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undleContext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addServiceListener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)public interface ServiceListener extends EventListener {  public void serviceChanged(ServiceEvent event);}public class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erviceEv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extends EventObject {  public final static int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GISTERED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;  public final static int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MODIFIED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;  public final static int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UNREGISTERING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;  public ServiceReference 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getServiceReference() { … }  public int getType() { … }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5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2E56-E734-46E1-B640-79B6DEC587F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s and 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Services and dependency injection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Complementary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Use POJOs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Avoid dependencies on OSGi API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A400-74AA-4205-BAE3-FF6EBC3E30C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s and 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21960" y="1483920"/>
            <a:ext cx="7899480" cy="76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marL="426960" indent="-4269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Here is a component providing the service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98" name=""/>
          <p:cNvSpPr/>
          <p:nvPr/>
        </p:nvSpPr>
        <p:spPr>
          <a:xfrm>
            <a:off x="398160" y="2108160"/>
            <a:ext cx="59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Circle implements Shape {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D33C-58A1-4D1D-BBA7-824740D3F03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0840" y="138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2419200"/>
            <a:ext cx="9156600" cy="158436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46040" y="1779480"/>
            <a:ext cx="8266320" cy="286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  <a:ea typeface="Lucida Grande"/>
              </a:rPr>
              <a:t>Motivating µServices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1376-829F-487D-A8FF-B3A10BC9148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s and 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21960" y="1484280"/>
            <a:ext cx="7899480" cy="3632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Here is a component providing the service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Implementation with service dependency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04" name=""/>
          <p:cNvSpPr/>
          <p:nvPr/>
        </p:nvSpPr>
        <p:spPr>
          <a:xfrm>
            <a:off x="398160" y="2108160"/>
            <a:ext cx="59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Circle implements Shape {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1155600" y="3835440"/>
            <a:ext cx="5676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feren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 public void setShape(Shape shape) {...}  public void useShape() {    ...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71B9-5A45-4340-B710-E7EAADB689E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s and 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21960" y="1484280"/>
            <a:ext cx="7899480" cy="3632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Here is a component providing the service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Implementation with service dependency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11" name=""/>
          <p:cNvSpPr/>
          <p:nvPr/>
        </p:nvSpPr>
        <p:spPr>
          <a:xfrm>
            <a:off x="398160" y="2108160"/>
            <a:ext cx="59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Circle implements Shape {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1155600" y="3835440"/>
            <a:ext cx="5676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feren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 public void setShape(Shape shape) {...}  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Activat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 public void useShape() {    ...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4699080" y="4927680"/>
            <a:ext cx="4165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D08E-CF83-4B4A-AAF1-A66F8231B9E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s and 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Advantages when combined with service orientation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Dependency injection no longer needs global view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Lucida Grande"/>
              </a:rPr>
              <a:t>Information localized to just the provider/consumer</a:t>
            </a:r>
            <a:endParaRPr b="0" lang="en-US" sz="2400" spc="-1" strike="noStrike">
              <a:solidFill>
                <a:srgbClr val="333333"/>
              </a:solidFill>
              <a:latin typeface="Lucida Grande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No longer restricted to a single DI framework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Lucida Grande"/>
              </a:rPr>
              <a:t>Different DI frameworks can play together via the service registry</a:t>
            </a:r>
            <a:endParaRPr b="0" lang="en-US" sz="2400" spc="-1" strike="noStrike">
              <a:solidFill>
                <a:srgbClr val="333333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B7A6-A91B-4F58-B642-05BBCBD7747D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50840" y="138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0" y="2419200"/>
            <a:ext cx="9156600" cy="158436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46040" y="1779480"/>
            <a:ext cx="8266320" cy="286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B92C-DBB6-47EB-A86A-CCD34311B2A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Declarative Services with Configuration Admin Service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27" name=""/>
          <p:cNvSpPr/>
          <p:nvPr/>
        </p:nvSpPr>
        <p:spPr>
          <a:xfrm>
            <a:off x="647640" y="1143000"/>
            <a:ext cx="79120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(configurationPolicy=ConfigurationPolicy.REQUIRE)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Circle implements Shape {...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rivate volatile String color;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Activate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void init(Map config){  this.color = config.get(COLOR_KEY);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584280" y="3429000"/>
            <a:ext cx="81025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(immediate=true)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ference(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ardinality=ReferenceCardinality.MULTIPLE,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olicyOption=ReferencePolicyOption.DYNAMIC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)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 public void setShape(Shape shape) {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 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void unsetShape(Shape shape){...}  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Activat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 public void drawFrame() { ...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3DAC-ADCB-4A09-BE6B-D35418B3A6B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287280" y="3147480"/>
            <a:ext cx="7709040" cy="54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Questions?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927F-3A0A-4D55-AC71-CEBE01BEB9FA}" type="slidenum">
              <a:t>5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  <a:ea typeface="Lucida Grande"/>
              </a:rPr>
              <a:t>Motivating µServic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543480" y="1943280"/>
          <a:ext cx="4711680" cy="3466800"/>
        </p:xfrm>
        <a:graphic>
          <a:graphicData uri="http://schemas.openxmlformats.org/drawingml/2006/table">
            <a:tbl>
              <a:tblPr/>
              <a:tblGrid>
                <a:gridCol w="925560"/>
                <a:gridCol w="3786120"/>
              </a:tblGrid>
              <a:tr h="866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866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86688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86688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39960" y="2044800"/>
            <a:ext cx="939600" cy="939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39960" y="3200400"/>
            <a:ext cx="939600" cy="961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939960" y="4381560"/>
            <a:ext cx="939600" cy="93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1915-DDCF-4CEA-B0C2-81FC77B5E1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rocedur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53" name=""/>
          <p:cNvSpPr/>
          <p:nvPr/>
        </p:nvSpPr>
        <p:spPr>
          <a:xfrm>
            <a:off x="-4525200" y="1422360"/>
            <a:ext cx="1487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yte[4096] canvas;void mouseClickCallback(int x, int y) {  drawCircle(x, y, 100);}void drawCircle(int x, int y, int r) {  ...  // draws into canvas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1D56-0BC1-4D4F-9B69-D199BBFAD41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rocedur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59" name=""/>
          <p:cNvSpPr/>
          <p:nvPr/>
        </p:nvSpPr>
        <p:spPr>
          <a:xfrm>
            <a:off x="-4525200" y="1422360"/>
            <a:ext cx="1487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yte[4096] canvas;void mouseClickCallback(int x, int y) {  drawCircle(x, y, 100);}void drawCircle(int x, int y, int r) {  ...  // draws into canvas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C36D-E9A4-4558-95B2-43B5672485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rocedur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66" name=""/>
          <p:cNvSpPr/>
          <p:nvPr/>
        </p:nvSpPr>
        <p:spPr>
          <a:xfrm>
            <a:off x="-4525200" y="1422360"/>
            <a:ext cx="1487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yte[4096] canvas;void mouseClickCallback(int x, int y) {  drawCircle(x, y, 100);}void drawCircle(int x, int y, int r) {  ...  // draws into canvas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D032-9DF3-40EB-9252-9A2A8D17EEC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 Seifert</dc:creator>
  <dc:description/>
  <dc:language>en-US</dc:language>
  <cp:lastModifiedBy/>
  <cp:revision>0</cp:revision>
  <dc:subject/>
  <dc:title>PowerPoint-Präsentation</dc:title>
</cp:coreProperties>
</file>