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770904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12760" y="4044600"/>
            <a:ext cx="770904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12760" y="404460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3400" y="404460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24822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19520" y="1483920"/>
            <a:ext cx="24822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26280" y="1483920"/>
            <a:ext cx="24822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12760" y="4044600"/>
            <a:ext cx="24822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19520" y="4044600"/>
            <a:ext cx="24822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26280" y="4044600"/>
            <a:ext cx="24822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B2FFB-13EF-4421-80AA-F74B07C332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2760" y="1483920"/>
            <a:ext cx="770904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93AB4-8C64-440F-891C-8420A34D3F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770904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68C53-3CEF-4089-B69B-46B3500BD8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376200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376200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B9307-C98D-43FD-A7BE-D2C8D78F53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1B91D-177E-47BF-A75A-9E5F5C3447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56108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61EAD-7939-4520-82FC-B2EAE2AE7C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376200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112760" y="404460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7C8AA-9088-4639-8588-6BF2082AB8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12760" y="1483920"/>
            <a:ext cx="770904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376200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63400" y="404460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B4F3B-5BF5-4781-8D9C-12E00AC74F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12760" y="4044600"/>
            <a:ext cx="770904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F276A-2F1E-44DC-9D84-37D59704DD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770904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112760" y="4044600"/>
            <a:ext cx="770904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27CDB-02B5-427E-82FB-6808C5EBDA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12760" y="404460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063400" y="404460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34917-0046-49BA-B157-731E645E3E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24822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19520" y="1483920"/>
            <a:ext cx="24822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26280" y="1483920"/>
            <a:ext cx="24822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112760" y="4044600"/>
            <a:ext cx="24822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19520" y="4044600"/>
            <a:ext cx="24822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326280" y="4044600"/>
            <a:ext cx="24822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DD6FB-F361-486A-B183-1125F037A53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33D21-D833-48FA-B325-5B1240CFD2C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112760" y="1483920"/>
            <a:ext cx="770904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F73B5-E3B3-49C4-8510-9A1069428F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770904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D6EF8-FB74-4617-89F3-7E19E7061B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376200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376200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07E9F-F588-4BC1-B680-4C350ED4F8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07D88-5B90-44B0-9CC0-230505235A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770904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56108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DFD6D-501D-4BD5-AB16-1D42784E324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376200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12760" y="404460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E6644-3ED3-46A2-B187-59E2890417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376200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063400" y="404460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078A8-B52A-4280-9995-90CE7A5A7F0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112760" y="4044600"/>
            <a:ext cx="770904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5F487-ADB1-4B7E-9DE9-F59FBB7459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770904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112760" y="4044600"/>
            <a:ext cx="770904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5042D-CD0D-4C64-9026-79517451B15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2760" y="404460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063400" y="404460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38ED2-5656-460C-AF9B-2649C76508F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24822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19520" y="1483920"/>
            <a:ext cx="24822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326280" y="1483920"/>
            <a:ext cx="24822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112760" y="4044600"/>
            <a:ext cx="24822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719520" y="4044600"/>
            <a:ext cx="24822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326280" y="4044600"/>
            <a:ext cx="24822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5DD22-E14A-4C28-9E70-6CE0BE1F90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376200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376200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56108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376200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12760" y="404460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376200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3400" y="404460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376200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12760" y="4044600"/>
            <a:ext cx="7709040" cy="233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2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46040" y="4795920"/>
            <a:ext cx="8266320" cy="20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49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ik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ignika"/>
            </a:endParaRPr>
          </a:p>
          <a:p>
            <a:pPr lvl="1" marL="205200" algn="ctr">
              <a:spcBef>
                <a:spcPts val="799"/>
              </a:spcBef>
              <a:buClr>
                <a:srgbClr val="333333"/>
              </a:buClr>
              <a:buFont typeface="Signik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ik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ignika"/>
            </a:endParaRPr>
          </a:p>
          <a:p>
            <a:pPr lvl="2" marL="541080" indent="-111960" algn="ctr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ik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ignika"/>
            </a:endParaRPr>
          </a:p>
          <a:p>
            <a:pPr lvl="3" marL="765360" indent="-111960" algn="ctr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ik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ignika"/>
            </a:endParaRPr>
          </a:p>
          <a:p>
            <a:pPr lvl="4" marL="989280" indent="-111960" algn="ctr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ik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ignika"/>
            </a:endParaRPr>
          </a:p>
          <a:p>
            <a:pPr lvl="5" marL="989280" indent="-111960" algn="ctr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ik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ignika"/>
            </a:endParaRPr>
          </a:p>
          <a:p>
            <a:pPr lvl="6" marL="989280" indent="-111960" algn="ctr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ik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ignik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Num" idx="1"/>
          </p:nvPr>
        </p:nvSpPr>
        <p:spPr>
          <a:xfrm>
            <a:off x="8408880" y="6429240"/>
            <a:ext cx="2779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Signika"/>
                <a:ea typeface="Signi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F292-4EBA-46E4-912E-762E587CFA6F}" type="slidenum">
              <a:rPr b="0" lang="en-US" sz="1400" spc="-1" strike="noStrike">
                <a:solidFill>
                  <a:srgbClr val="333333"/>
                </a:solidFill>
                <a:latin typeface="Signika"/>
                <a:ea typeface="Signi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body"/>
          </p:nvPr>
        </p:nvSpPr>
        <p:spPr>
          <a:xfrm>
            <a:off x="1112760" y="1483920"/>
            <a:ext cx="770904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14440" indent="-514440"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  <a:p>
            <a:pPr lvl="1" marL="933480" indent="-514440"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  <a:p>
            <a:pPr lvl="2" marL="1333440" indent="-457200"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  <a:p>
            <a:pPr lvl="4" marL="201924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  <a:p>
            <a:pPr lvl="5" marL="201924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  <a:p>
            <a:pPr lvl="6" marL="201924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2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Num" idx="2"/>
          </p:nvPr>
        </p:nvSpPr>
        <p:spPr>
          <a:xfrm>
            <a:off x="8408880" y="6429240"/>
            <a:ext cx="2779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cc"/>
                </a:solidFill>
                <a:latin typeface="Signika"/>
                <a:ea typeface="Signi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86F4-8F68-4868-8BFF-CBFF37EA3466}" type="slidenum">
              <a:rPr b="0" lang="en-US" sz="1400" spc="-1" strike="noStrike">
                <a:solidFill>
                  <a:srgbClr val="cccccc"/>
                </a:solidFill>
                <a:latin typeface="Signika"/>
                <a:ea typeface="Signi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46040" y="1779480"/>
            <a:ext cx="8266320" cy="2865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9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ik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ignika"/>
            </a:endParaRPr>
          </a:p>
          <a:p>
            <a:pPr lvl="1" marL="289080" algn="ctr">
              <a:spcBef>
                <a:spcPts val="799"/>
              </a:spcBef>
              <a:buClr>
                <a:srgbClr val="9f9f9f"/>
              </a:buClr>
              <a:buFont typeface="Signik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ik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ignika"/>
            </a:endParaRPr>
          </a:p>
          <a:p>
            <a:pPr lvl="2" marL="604440" algn="ctr">
              <a:spcBef>
                <a:spcPts val="799"/>
              </a:spcBef>
              <a:buClr>
                <a:srgbClr val="9f9f9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ik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ignika"/>
            </a:endParaRPr>
          </a:p>
          <a:p>
            <a:pPr lvl="3" marL="919800" algn="ctr">
              <a:spcBef>
                <a:spcPts val="799"/>
              </a:spcBef>
              <a:buClr>
                <a:srgbClr val="9f9f9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ik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ignika"/>
            </a:endParaRPr>
          </a:p>
          <a:p>
            <a:pPr lvl="4" marL="1235520" algn="ctr">
              <a:spcBef>
                <a:spcPts val="799"/>
              </a:spcBef>
              <a:buClr>
                <a:srgbClr val="9f9f9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ik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ignika"/>
            </a:endParaRPr>
          </a:p>
          <a:p>
            <a:pPr lvl="5" marL="1235520" algn="ctr">
              <a:spcBef>
                <a:spcPts val="799"/>
              </a:spcBef>
              <a:buClr>
                <a:srgbClr val="333333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ik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ignika"/>
            </a:endParaRPr>
          </a:p>
          <a:p>
            <a:pPr lvl="6" marL="1235520" algn="ctr">
              <a:spcBef>
                <a:spcPts val="799"/>
              </a:spcBef>
              <a:buClr>
                <a:srgbClr val="333333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ik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ignik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karlpauls@gmail.com" TargetMode="External"/><Relationship Id="rId3" Type="http://schemas.openxmlformats.org/officeDocument/2006/relationships/hyperlink" Target="mailto:karlpauls@gmail.com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2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4579920"/>
            <a:ext cx="9156600" cy="158436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417840" y="763560"/>
            <a:ext cx="2306520" cy="2351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66840" y="3114720"/>
            <a:ext cx="8280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Signika"/>
                <a:ea typeface="Signika"/>
              </a:rPr>
              <a:t>APACHE SLING &amp; FRIENDS TECH MEETUP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19" name=""/>
          <p:cNvSpPr/>
          <p:nvPr/>
        </p:nvSpPr>
        <p:spPr>
          <a:xfrm>
            <a:off x="358920" y="3429000"/>
            <a:ext cx="8280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ignika"/>
                <a:ea typeface="Signika"/>
              </a:rPr>
              <a:t>BERLIN, 23-25 SEPTEMBER 2013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46040" y="4795920"/>
            <a:ext cx="8266320" cy="206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ika"/>
                <a:ea typeface="Lucida Grande"/>
              </a:rPr>
              <a:t>OSGi µServices </a:t>
            </a:r>
            <a:endParaRPr b="0" lang="en-US" sz="3200" spc="-1" strike="noStrike">
              <a:solidFill>
                <a:srgbClr val="ffffff"/>
              </a:solidFill>
              <a:latin typeface="Signik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ika"/>
            </a:endParaRPr>
          </a:p>
        </p:txBody>
      </p:sp>
      <p:sp>
        <p:nvSpPr>
          <p:cNvPr id="121" name=""/>
          <p:cNvSpPr/>
          <p:nvPr/>
        </p:nvSpPr>
        <p:spPr>
          <a:xfrm>
            <a:off x="430200" y="5372280"/>
            <a:ext cx="8282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ika"/>
                <a:ea typeface="Signika"/>
              </a:rPr>
              <a:t>Karl Pauls</a:t>
            </a:r>
            <a:endParaRPr b="0" lang="en-US" sz="3200" spc="-1" strike="noStrike">
              <a:solidFill>
                <a:srgbClr val="333333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Procedures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74" name=""/>
          <p:cNvSpPr/>
          <p:nvPr/>
        </p:nvSpPr>
        <p:spPr>
          <a:xfrm>
            <a:off x="-4525200" y="1422360"/>
            <a:ext cx="1487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byte[4096] canvas;void mouseClickCallback(int x, int y) {  drawCircle(x, y, 100);}void drawCircle(int x, int y, int r) {  ...  // draws into canvas  ...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4851360" y="4876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4851360" y="539748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D5042-BE3D-460B-8569-146CC3DEAC9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Procedures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83" name=""/>
          <p:cNvSpPr/>
          <p:nvPr/>
        </p:nvSpPr>
        <p:spPr>
          <a:xfrm>
            <a:off x="-4525200" y="1422360"/>
            <a:ext cx="1487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byte[4096] canvas;void mouseClickCallback(int x, int y) {  drawCircle(x, y, 100);}void drawCircle(int x, int y, int r) {  ...  // draws into canvas  ...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851360" y="4876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851360" y="53974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4851360" y="591804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CE58E-86FE-4390-BFFE-C7A665BED71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Objects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93" name=""/>
          <p:cNvSpPr/>
          <p:nvPr/>
        </p:nvSpPr>
        <p:spPr>
          <a:xfrm>
            <a:off x="1079640" y="1231920"/>
            <a:ext cx="5689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abstract class Shape {  public void draw(Canvas c);}public class Paint {  private Canvas;  private Shape;  public Paint(Canvas canvas, Shape shape) { … }  public void mouseClick(int x, int y) {    shape.draw(canvas, x, y);  }  public static void main() {    new Paint(      new Canvas(),      new Circle(100));  }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E934C-8C60-4936-B7B3-668AFC29D69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Objects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99" name=""/>
          <p:cNvSpPr/>
          <p:nvPr/>
        </p:nvSpPr>
        <p:spPr>
          <a:xfrm>
            <a:off x="1079640" y="1231920"/>
            <a:ext cx="5689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abstract class Shape {  public void draw(Canvas c);}public class Paint {  private Canvas;  private Shape;  public Paint(Canvas canvas, Shape shape) { … }  public void mouseClick(int x, int y) {    shape.draw(canvas, x, y);  }  public static void main() {    new Paint(      new Canvas(),      new Circle(100));  }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7421E-7496-43D7-8B68-71F2638DD1C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Objects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206" name=""/>
          <p:cNvSpPr/>
          <p:nvPr/>
        </p:nvSpPr>
        <p:spPr>
          <a:xfrm>
            <a:off x="1079640" y="1231920"/>
            <a:ext cx="5689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abstract class Shape {  public void draw(Canvas c);}public class Paint {  private Canvas;  private Shape;  public Paint(Canvas canvas, Shape shape) { … }  public void mouseClick(int x, int y) {    shape.draw(canvas, x, y);  }  public static void main() {    new Paint(      new Canvas(),      new Circle(100));  }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851360" y="48769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0EDC6-2D78-45D8-B9E3-31CD805E2E7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Objects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214" name=""/>
          <p:cNvSpPr/>
          <p:nvPr/>
        </p:nvSpPr>
        <p:spPr>
          <a:xfrm>
            <a:off x="1079640" y="1231920"/>
            <a:ext cx="5689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abstract class Shape {  public void draw(Canvas c);}public class Paint {  private Canvas;  private Shape;  public Paint(Canvas canvas, Shape shape) { … }  public void mouseClick(int x, int y) {    shape.draw(canvas, x, y);  }  public static void main() {    new Paint(      new Canvas(),      new Circle(100));  }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851360" y="4876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4851360" y="539748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0D2E5-9F9A-4D45-9899-39E8537691D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Objects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223" name=""/>
          <p:cNvSpPr/>
          <p:nvPr/>
        </p:nvSpPr>
        <p:spPr>
          <a:xfrm>
            <a:off x="1079640" y="1231920"/>
            <a:ext cx="5689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abstract class Shape {  public void draw(Canvas c);}public class Paint {  private Canvas;  private Shape;  public Paint(Canvas canvas, Shape shape) { … }  public void mouseClick(int x, int y) {    shape.draw(canvas, x, y);  }  public static void main() {    new Paint(      new Canvas(),      new Circle(100));  }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851360" y="4876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4851360" y="53974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4851360" y="591804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5CF64-8E48-4FDC-835C-09827459E97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Interfaces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1282680"/>
            <a:ext cx="60832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interface Shape {  public void draw(Canvas c);}public class Paint {  private Canvas;  private Shape;  public Paint(Canvas canvas, Shape shape) { … }  public void mouseClick(int x, int y) {    shape.draw(canvas, x, y);  }  public static void main() {    new Paint(      new Canvas(),      new Circle(100));  }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851360" y="48769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6D1D7-50EC-4DA4-AD68-2EEF7CAF440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Interfaces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1282680"/>
            <a:ext cx="60832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interface Shape {  public void draw(Canvas c);}public class Paint {  private Canvas;  private Shape;  public Paint(Canvas canvas, Shape shape) { … }  public void mouseClick(int x, int y) {    shape.draw(canvas, x, y);  }  public static void main() {    new Paint(      new Canvas(),      new Circle(100));  }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4851360" y="4876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4851360" y="53974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>
            <a:off x="4851360" y="591804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1EB64-6E6D-44AA-AB4F-AFF68521235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Factories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1193760"/>
            <a:ext cx="7416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class Paint {  public static void main() {    new Paint(      new Canvas(),      ShapeFactory.createShape());  }}public class ShapeFactory {  public static Shape createShape() {    return Class.forName(        System.getProperty("shapefactory.shapeimpl"));  }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DBE93-0528-42B5-AD15-53AD35DFAA9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$whoami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770904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Karl Pauls -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Signika"/>
                <a:hlinkClick r:id="rId2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Lucida Grande"/>
                <a:ea typeface="Lucida Grande"/>
                <a:hlinkClick r:id="rId3"/>
              </a:rPr>
              <a:t>karlpauls@gmail.co</a:t>
            </a:r>
            <a:r>
              <a:rPr b="0" lang="en-US" sz="2000" spc="-1" strike="noStrike" u="sng">
                <a:solidFill>
                  <a:srgbClr val="333333"/>
                </a:solidFill>
                <a:uFillTx/>
                <a:latin typeface="Lucida Grande"/>
                <a:ea typeface="Lucida Grande"/>
              </a:rPr>
              <a:t>m</a:t>
            </a:r>
            <a:endParaRPr b="0" lang="en-US" sz="2000" spc="-1" strike="noStrike">
              <a:solidFill>
                <a:srgbClr val="333333"/>
              </a:solidFill>
              <a:latin typeface="Signik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Member Apache Software Foundation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Lucida Grande"/>
              </a:rPr>
              <a:t>Felix, ACE, </a:t>
            </a:r>
            <a:r>
              <a:rPr b="0" lang="en-US" sz="1400" spc="-1" strike="noStrike">
                <a:solidFill>
                  <a:srgbClr val="333333"/>
                </a:solidFill>
                <a:latin typeface="Lucida Grande"/>
              </a:rPr>
              <a:t>Sling, Incubator: Celix</a:t>
            </a:r>
            <a:endParaRPr b="0" lang="en-US" sz="1400" spc="-1" strike="noStrike">
              <a:solidFill>
                <a:srgbClr val="333333"/>
              </a:solidFill>
              <a:latin typeface="Lucida Grande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Co-author of „OSGi in Action“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 rot="660000">
            <a:off x="7243560" y="4541400"/>
            <a:ext cx="1460520" cy="18162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D3523-A42E-4EBB-BC9E-CCC1C4BF8C2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Factories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1193760"/>
            <a:ext cx="7416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class Paint {  public static void main() {    new Paint(      new Canvas(),      ShapeFactory.createShape());  }}public class ShapeFactory {  public static Shape createShape() {    return Class.forName(        System.getProperty("shapefactory.shapeimpl"));  }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851360" y="48769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D33D7-26CC-49AF-985E-87F5312A6C1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Factories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1193760"/>
            <a:ext cx="7416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class Paint {  public static void main() {    new Paint(      new Canvas(),      ShapeFactory.createShape());  }}public class ShapeFactory {  public static Shape createShape() {    return Class.forName(        System.getProperty("shapefactory.shapeimpl"));  }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4851360" y="4876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4851360" y="539748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142C2-CA40-42DF-BD9C-996B7695E54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Factories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1193760"/>
            <a:ext cx="7416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class Paint {  public static void main() {    new Paint(      new Canvas(),      ShapeFactory.createShape());  }}public class ShapeFactory {  public static Shape createShape() {    return Class.forName(        System.getProperty("shapefactory.shapeimpl"));  }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4851360" y="4876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4851360" y="53974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4851360" y="591804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5B976-32E0-428C-A2F4-94D58E8267E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Dependency injection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285" name=""/>
          <p:cNvSpPr/>
          <p:nvPr/>
        </p:nvSpPr>
        <p:spPr>
          <a:xfrm>
            <a:off x="266760" y="1193760"/>
            <a:ext cx="861048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class Paint implements ShapeConsumer {  @Inject  public Paint(Shape shape) { … }} public class ShapeModule extends AbstractModule {  @Override   protected void configure() {    bind(Shape.class).to(Circle.class);    bind(ShapeConsumer.class).to(Paint.class);  }}Injector injector = Guice.createInjector(new ShapeModule());ShapeConsumer consumer = injector.getInstance(ShapeConsumer.class); 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CFCF8-A1DF-45A3-8245-F8730A8699A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Dependency injection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292" name=""/>
          <p:cNvSpPr/>
          <p:nvPr/>
        </p:nvSpPr>
        <p:spPr>
          <a:xfrm>
            <a:off x="266760" y="1193760"/>
            <a:ext cx="861048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class Paint implements ShapeConsumer {  @Inject  public Paint(Shape shape) { … }} public class ShapeModule extends AbstractModule {  @Override   protected void configure() {    bind(Shape.class).to(Circle.class);    bind(ShapeConsumer.class).to(Paint.class);  }}Injector injector = Guice.createInjector(new ShapeModule());ShapeConsumer consumer = injector.getInstance(ShapeConsumer.class); 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4851360" y="48769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764BE-C24F-4EED-8E4B-2F8F3DEFB2B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Dependency injection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00" name=""/>
          <p:cNvSpPr/>
          <p:nvPr/>
        </p:nvSpPr>
        <p:spPr>
          <a:xfrm>
            <a:off x="266760" y="1193760"/>
            <a:ext cx="861048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class Paint implements ShapeConsumer {  @Inject  public Paint(Shape shape) { … }} public class ShapeModule extends AbstractModule {  @Override   protected void configure() {    bind(Shape.class).to(Circle.class);    bind(ShapeConsumer.class).to(Paint.class);  }}Injector injector = Guice.createInjector(new ShapeModule());ShapeConsumer consumer = injector.getInstance(ShapeConsumer.class); 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4851360" y="53974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4851360" y="48769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3C04B-76D9-491A-AD30-432C5E62417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Dependency injection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09" name=""/>
          <p:cNvSpPr/>
          <p:nvPr/>
        </p:nvSpPr>
        <p:spPr>
          <a:xfrm>
            <a:off x="266760" y="1193760"/>
            <a:ext cx="861048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class Paint implements ShapeConsumer {  @Inject  public Paint(Shape shape) { … }} public class ShapeModule extends AbstractModule {  @Override   protected void configure() {    bind(Shape.class).to(Circle.class);    bind(ShapeConsumer.class).to(Paint.class);  }}Injector injector = Guice.createInjector(new ShapeModule());ShapeConsumer consumer = injector.getInstance(ShapeConsumer.class); 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4851360" y="53974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4851360" y="591804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4851360" y="48769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D58F6-AB6A-4AE6-A9A6-94E8E72C49D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Context and Dependency Injection (CDI)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19" name=""/>
          <p:cNvSpPr/>
          <p:nvPr/>
        </p:nvSpPr>
        <p:spPr>
          <a:xfrm>
            <a:off x="266760" y="1193760"/>
            <a:ext cx="861048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class Paint implements ShapeConsumer {  @Inject  public Shape shape;} @Defaultpublic class CircleProducer {  @Produces   protected Shape createShape() {    return new CircleImpl();  }}Paint paint = beanContainer.getBeanByType(Paint.class); 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4851360" y="48769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CEA54-EF44-4274-BDCB-E9B8C2B40C2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Context and Dependency Injection (CDI)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27" name=""/>
          <p:cNvSpPr/>
          <p:nvPr/>
        </p:nvSpPr>
        <p:spPr>
          <a:xfrm>
            <a:off x="266760" y="1193760"/>
            <a:ext cx="861048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class Paint implements ShapeConsumer {  @Inject  public Shape shape;} @Defaultpublic class CircleProducer {  @Produces   protected Shape createShape() {    return new CircleImpl();  }}Paint paint = beanContainer.getBeanByType(Paint.class); 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4851360" y="4876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4851360" y="539748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3ABAF-E0DF-4478-AC50-EA3EDDB0A09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Context and Dependency Injection (CDI)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36" name=""/>
          <p:cNvSpPr/>
          <p:nvPr/>
        </p:nvSpPr>
        <p:spPr>
          <a:xfrm>
            <a:off x="266760" y="1193760"/>
            <a:ext cx="861048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class Paint implements ShapeConsumer {  @Inject  public Shape shape;} @Defaultpublic class CircleProducer {  @Produces   protected Shape createShape() {    return new CircleImpl();  }}Paint paint = beanContainer.getBeanByType(Paint.class); 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4851360" y="4876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4851360" y="53974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5"/>
          <a:stretch/>
        </p:blipFill>
        <p:spPr>
          <a:xfrm>
            <a:off x="4851360" y="591804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7C689-0433-4FE9-A8D3-0390A00F728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2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cc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0840" y="138240"/>
            <a:ext cx="847800" cy="863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2419200"/>
            <a:ext cx="9156600" cy="158436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46040" y="1779480"/>
            <a:ext cx="8266320" cy="2865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ika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Signik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56E84-C286-4ABF-982D-EEE13577711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2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cc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50840" y="138240"/>
            <a:ext cx="847800" cy="8636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0" y="2419200"/>
            <a:ext cx="9156600" cy="158436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46040" y="1779480"/>
            <a:ext cx="8266320" cy="2865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ika"/>
              </a:rPr>
              <a:t>Service Orientation</a:t>
            </a:r>
            <a:endParaRPr b="0" lang="en-US" sz="3200" spc="-1" strike="noStrike">
              <a:solidFill>
                <a:srgbClr val="ffffff"/>
              </a:solidFill>
              <a:latin typeface="Signik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037A9-A449-4DDB-A4F3-48559CC1EA1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12760" y="1483920"/>
            <a:ext cx="7709040" cy="50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9000"/>
          </a:bodyPr>
          <a:p>
            <a:pPr marL="457560" indent="-45756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Signika"/>
              </a:rPr>
              <a:t>Promoting a service-oriented interaction pattern</a:t>
            </a:r>
            <a:endParaRPr b="0" lang="en-US" sz="26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Service orientation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2452A-807E-4AFA-9FA2-CFED449650FB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112760" y="1483920"/>
            <a:ext cx="7709040" cy="50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9000"/>
          </a:bodyPr>
          <a:p>
            <a:pPr marL="457560" indent="-45756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Signika"/>
              </a:rPr>
              <a:t>Promoting a service-oriented interaction pattern</a:t>
            </a:r>
            <a:endParaRPr b="0" lang="en-US" sz="26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Service orientation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56" name=""/>
          <p:cNvSpPr/>
          <p:nvPr/>
        </p:nvSpPr>
        <p:spPr>
          <a:xfrm>
            <a:off x="3822840" y="2793960"/>
            <a:ext cx="1752480" cy="1270080"/>
          </a:xfrm>
          <a:prstGeom prst="roundRect">
            <a:avLst>
              <a:gd name="adj" fmla="val 15000"/>
            </a:avLst>
          </a:prstGeom>
          <a:solidFill>
            <a:srgbClr val="312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57" name=""/>
          <p:cNvSpPr/>
          <p:nvPr/>
        </p:nvSpPr>
        <p:spPr>
          <a:xfrm>
            <a:off x="4178160" y="3111480"/>
            <a:ext cx="10670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ignika"/>
                <a:ea typeface="Signika"/>
              </a:rPr>
              <a:t>Service Registry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DAC84-C7E9-4C15-AA95-B4607D77C562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60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1112760" y="1483920"/>
            <a:ext cx="7709040" cy="50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9000"/>
          </a:bodyPr>
          <a:p>
            <a:pPr marL="457560" indent="-45756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Signika"/>
              </a:rPr>
              <a:t>Promoting a service-oriented interaction pattern</a:t>
            </a:r>
            <a:endParaRPr b="0" lang="en-US" sz="26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Service orientation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63" name=""/>
          <p:cNvSpPr/>
          <p:nvPr/>
        </p:nvSpPr>
        <p:spPr>
          <a:xfrm>
            <a:off x="3822840" y="2793960"/>
            <a:ext cx="1752480" cy="1270080"/>
          </a:xfrm>
          <a:prstGeom prst="roundRect">
            <a:avLst>
              <a:gd name="adj" fmla="val 15000"/>
            </a:avLst>
          </a:prstGeom>
          <a:solidFill>
            <a:srgbClr val="312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64" name=""/>
          <p:cNvSpPr/>
          <p:nvPr/>
        </p:nvSpPr>
        <p:spPr>
          <a:xfrm>
            <a:off x="4178160" y="3111480"/>
            <a:ext cx="10670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ignika"/>
                <a:ea typeface="Signika"/>
              </a:rPr>
              <a:t>Service Registry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65" name=""/>
          <p:cNvSpPr/>
          <p:nvPr/>
        </p:nvSpPr>
        <p:spPr>
          <a:xfrm>
            <a:off x="1054080" y="4622760"/>
            <a:ext cx="1752480" cy="1270080"/>
          </a:xfrm>
          <a:prstGeom prst="roundRect">
            <a:avLst>
              <a:gd name="adj" fmla="val 15000"/>
            </a:avLst>
          </a:prstGeom>
          <a:solidFill>
            <a:srgbClr val="312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66" name=""/>
          <p:cNvSpPr/>
          <p:nvPr/>
        </p:nvSpPr>
        <p:spPr>
          <a:xfrm>
            <a:off x="1397160" y="4940280"/>
            <a:ext cx="10666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ignika"/>
                <a:ea typeface="Signika"/>
              </a:rPr>
              <a:t>Service Provider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67" name=""/>
          <p:cNvSpPr/>
          <p:nvPr/>
        </p:nvSpPr>
        <p:spPr>
          <a:xfrm>
            <a:off x="3759120" y="4546440"/>
            <a:ext cx="1866960" cy="609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68" name=""/>
          <p:cNvSpPr/>
          <p:nvPr/>
        </p:nvSpPr>
        <p:spPr>
          <a:xfrm>
            <a:off x="4074840" y="4546440"/>
            <a:ext cx="1233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Service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Description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2260440" y="3213000"/>
            <a:ext cx="1270080" cy="127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70" name=""/>
          <p:cNvSpPr/>
          <p:nvPr/>
        </p:nvSpPr>
        <p:spPr>
          <a:xfrm>
            <a:off x="1535400" y="3683160"/>
            <a:ext cx="79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sh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0A9F3-040F-4DB7-B4FF-8CD2D4D7162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73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112760" y="1483920"/>
            <a:ext cx="7709040" cy="50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9000"/>
          </a:bodyPr>
          <a:p>
            <a:pPr marL="457560" indent="-45756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Signika"/>
              </a:rPr>
              <a:t>Promoting a service-oriented interaction pattern</a:t>
            </a:r>
            <a:endParaRPr b="0" lang="en-US" sz="26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Service orientation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76" name=""/>
          <p:cNvSpPr/>
          <p:nvPr/>
        </p:nvSpPr>
        <p:spPr>
          <a:xfrm>
            <a:off x="3822840" y="2793960"/>
            <a:ext cx="1752480" cy="1270080"/>
          </a:xfrm>
          <a:prstGeom prst="roundRect">
            <a:avLst>
              <a:gd name="adj" fmla="val 15000"/>
            </a:avLst>
          </a:prstGeom>
          <a:solidFill>
            <a:srgbClr val="312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77" name=""/>
          <p:cNvSpPr/>
          <p:nvPr/>
        </p:nvSpPr>
        <p:spPr>
          <a:xfrm>
            <a:off x="4178160" y="3111480"/>
            <a:ext cx="10670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ignika"/>
                <a:ea typeface="Signika"/>
              </a:rPr>
              <a:t>Service Registry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78" name=""/>
          <p:cNvSpPr/>
          <p:nvPr/>
        </p:nvSpPr>
        <p:spPr>
          <a:xfrm>
            <a:off x="1054080" y="4622760"/>
            <a:ext cx="1752480" cy="1270080"/>
          </a:xfrm>
          <a:prstGeom prst="roundRect">
            <a:avLst>
              <a:gd name="adj" fmla="val 15000"/>
            </a:avLst>
          </a:prstGeom>
          <a:solidFill>
            <a:srgbClr val="312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79" name=""/>
          <p:cNvSpPr/>
          <p:nvPr/>
        </p:nvSpPr>
        <p:spPr>
          <a:xfrm>
            <a:off x="1397160" y="4940280"/>
            <a:ext cx="10666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ignika"/>
                <a:ea typeface="Signika"/>
              </a:rPr>
              <a:t>Service Provider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80" name=""/>
          <p:cNvSpPr/>
          <p:nvPr/>
        </p:nvSpPr>
        <p:spPr>
          <a:xfrm>
            <a:off x="6578640" y="4622760"/>
            <a:ext cx="1752480" cy="1270080"/>
          </a:xfrm>
          <a:prstGeom prst="roundRect">
            <a:avLst>
              <a:gd name="adj" fmla="val 15000"/>
            </a:avLst>
          </a:prstGeom>
          <a:solidFill>
            <a:srgbClr val="312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81" name=""/>
          <p:cNvSpPr/>
          <p:nvPr/>
        </p:nvSpPr>
        <p:spPr>
          <a:xfrm>
            <a:off x="6921360" y="4940280"/>
            <a:ext cx="10670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ignika"/>
                <a:ea typeface="Signika"/>
              </a:rPr>
              <a:t>Service Consumer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82" name=""/>
          <p:cNvSpPr/>
          <p:nvPr/>
        </p:nvSpPr>
        <p:spPr>
          <a:xfrm>
            <a:off x="3759120" y="4546440"/>
            <a:ext cx="1866960" cy="609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83" name=""/>
          <p:cNvSpPr/>
          <p:nvPr/>
        </p:nvSpPr>
        <p:spPr>
          <a:xfrm>
            <a:off x="4074840" y="4546440"/>
            <a:ext cx="1233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Service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Description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84" name=""/>
          <p:cNvSpPr/>
          <p:nvPr/>
        </p:nvSpPr>
        <p:spPr>
          <a:xfrm>
            <a:off x="5892840" y="3213000"/>
            <a:ext cx="1270080" cy="127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2260440" y="3213000"/>
            <a:ext cx="1270080" cy="127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86" name=""/>
          <p:cNvSpPr/>
          <p:nvPr/>
        </p:nvSpPr>
        <p:spPr>
          <a:xfrm>
            <a:off x="1535400" y="3683160"/>
            <a:ext cx="79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sh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87" name=""/>
          <p:cNvSpPr/>
          <p:nvPr/>
        </p:nvSpPr>
        <p:spPr>
          <a:xfrm>
            <a:off x="7225920" y="3683160"/>
            <a:ext cx="46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Find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9EB17-9E4C-4DEE-8009-98D87D524D6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1112760" y="1483920"/>
            <a:ext cx="7709040" cy="50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9000"/>
          </a:bodyPr>
          <a:p>
            <a:pPr marL="457560" indent="-45756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Signika"/>
              </a:rPr>
              <a:t>Promoting a service-oriented interaction pattern</a:t>
            </a:r>
            <a:endParaRPr b="0" lang="en-US" sz="26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Service orientation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393" name=""/>
          <p:cNvSpPr/>
          <p:nvPr/>
        </p:nvSpPr>
        <p:spPr>
          <a:xfrm>
            <a:off x="3822840" y="2793960"/>
            <a:ext cx="1752480" cy="1270080"/>
          </a:xfrm>
          <a:prstGeom prst="roundRect">
            <a:avLst>
              <a:gd name="adj" fmla="val 15000"/>
            </a:avLst>
          </a:prstGeom>
          <a:solidFill>
            <a:srgbClr val="312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94" name=""/>
          <p:cNvSpPr/>
          <p:nvPr/>
        </p:nvSpPr>
        <p:spPr>
          <a:xfrm>
            <a:off x="4178160" y="3111480"/>
            <a:ext cx="10670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ignika"/>
                <a:ea typeface="Signika"/>
              </a:rPr>
              <a:t>Service Registry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95" name=""/>
          <p:cNvSpPr/>
          <p:nvPr/>
        </p:nvSpPr>
        <p:spPr>
          <a:xfrm>
            <a:off x="1054080" y="4622760"/>
            <a:ext cx="1752480" cy="1270080"/>
          </a:xfrm>
          <a:prstGeom prst="roundRect">
            <a:avLst>
              <a:gd name="adj" fmla="val 15000"/>
            </a:avLst>
          </a:prstGeom>
          <a:solidFill>
            <a:srgbClr val="312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96" name=""/>
          <p:cNvSpPr/>
          <p:nvPr/>
        </p:nvSpPr>
        <p:spPr>
          <a:xfrm>
            <a:off x="1397160" y="4940280"/>
            <a:ext cx="10666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ignika"/>
                <a:ea typeface="Signika"/>
              </a:rPr>
              <a:t>Service Provider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97" name=""/>
          <p:cNvSpPr/>
          <p:nvPr/>
        </p:nvSpPr>
        <p:spPr>
          <a:xfrm>
            <a:off x="6578640" y="4622760"/>
            <a:ext cx="1752480" cy="1270080"/>
          </a:xfrm>
          <a:prstGeom prst="roundRect">
            <a:avLst>
              <a:gd name="adj" fmla="val 15000"/>
            </a:avLst>
          </a:prstGeom>
          <a:solidFill>
            <a:srgbClr val="3121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98" name=""/>
          <p:cNvSpPr/>
          <p:nvPr/>
        </p:nvSpPr>
        <p:spPr>
          <a:xfrm>
            <a:off x="6921360" y="4940280"/>
            <a:ext cx="106704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ignika"/>
                <a:ea typeface="Signika"/>
              </a:rPr>
              <a:t>Service Consumer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99" name=""/>
          <p:cNvSpPr/>
          <p:nvPr/>
        </p:nvSpPr>
        <p:spPr>
          <a:xfrm>
            <a:off x="3759120" y="4546440"/>
            <a:ext cx="1866960" cy="609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00" name=""/>
          <p:cNvSpPr/>
          <p:nvPr/>
        </p:nvSpPr>
        <p:spPr>
          <a:xfrm>
            <a:off x="4074840" y="4546440"/>
            <a:ext cx="1233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Service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Description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01" name=""/>
          <p:cNvSpPr/>
          <p:nvPr/>
        </p:nvSpPr>
        <p:spPr>
          <a:xfrm>
            <a:off x="5892840" y="3213000"/>
            <a:ext cx="1270080" cy="127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2260440" y="3213000"/>
            <a:ext cx="1270080" cy="127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03" name=""/>
          <p:cNvSpPr/>
          <p:nvPr/>
        </p:nvSpPr>
        <p:spPr>
          <a:xfrm>
            <a:off x="3067200" y="5573880"/>
            <a:ext cx="3230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04" name=""/>
          <p:cNvSpPr/>
          <p:nvPr/>
        </p:nvSpPr>
        <p:spPr>
          <a:xfrm>
            <a:off x="1535400" y="3683160"/>
            <a:ext cx="79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sh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05" name=""/>
          <p:cNvSpPr/>
          <p:nvPr/>
        </p:nvSpPr>
        <p:spPr>
          <a:xfrm>
            <a:off x="7225920" y="3683160"/>
            <a:ext cx="46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Find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06" name=""/>
          <p:cNvSpPr/>
          <p:nvPr/>
        </p:nvSpPr>
        <p:spPr>
          <a:xfrm>
            <a:off x="4326840" y="5816520"/>
            <a:ext cx="49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Signika"/>
                <a:ea typeface="Signika"/>
              </a:rPr>
              <a:t>Bind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2944F-E229-4EE3-94F1-85E3CDFBD8A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  <a:ea typeface="Lucida Grande"/>
              </a:rPr>
              <a:t>µServices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770904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14440" indent="-514440">
              <a:lnSpc>
                <a:spcPct val="100000"/>
              </a:lnSpc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Signika"/>
              </a:rPr>
              <a:t>Interface-based programming, but more</a:t>
            </a:r>
            <a:endParaRPr b="0" lang="en-US" sz="2500" spc="-1" strike="noStrike">
              <a:solidFill>
                <a:srgbClr val="333333"/>
              </a:solidFill>
              <a:latin typeface="Signika"/>
            </a:endParaRPr>
          </a:p>
          <a:p>
            <a:pPr marL="514440" indent="-514440">
              <a:lnSpc>
                <a:spcPct val="100000"/>
              </a:lnSpc>
              <a:spcBef>
                <a:spcPts val="638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Signika"/>
              </a:rPr>
              <a:t>Service Registry</a:t>
            </a:r>
            <a:endParaRPr b="0" lang="en-US" sz="25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56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Signika"/>
              </a:rPr>
              <a:t>Centrally accessible</a:t>
            </a:r>
            <a:endParaRPr b="0" lang="en-US" sz="22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56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Signika"/>
              </a:rPr>
              <a:t>Browsable</a:t>
            </a:r>
            <a:endParaRPr b="0" lang="en-US" sz="22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56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Signika"/>
              </a:rPr>
              <a:t>Notifications</a:t>
            </a:r>
            <a:endParaRPr b="0" lang="en-US" sz="22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Signika"/>
            </a:endParaRPr>
          </a:p>
          <a:p>
            <a:pPr marL="514440" indent="-514440">
              <a:lnSpc>
                <a:spcPct val="100000"/>
              </a:lnSpc>
              <a:spcBef>
                <a:spcPts val="638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Signika"/>
              </a:rPr>
              <a:t>Service Registry Benefits</a:t>
            </a:r>
            <a:endParaRPr b="0" lang="en-US" sz="25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56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Signika"/>
              </a:rPr>
              <a:t>Consuming code is in control of provider selection</a:t>
            </a:r>
            <a:endParaRPr b="0" lang="en-US" sz="2200" spc="-1" strike="noStrike">
              <a:solidFill>
                <a:srgbClr val="333333"/>
              </a:solidFill>
              <a:latin typeface="Signika"/>
            </a:endParaRPr>
          </a:p>
          <a:p>
            <a:pPr lvl="2" marL="1371600" indent="-457200">
              <a:lnSpc>
                <a:spcPct val="100000"/>
              </a:lnSpc>
              <a:spcBef>
                <a:spcPts val="476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33"/>
                </a:solidFill>
                <a:latin typeface="Lucida Grande"/>
              </a:rPr>
              <a:t>But not provider instantiation and configuration</a:t>
            </a:r>
            <a:endParaRPr b="0" lang="en-US" sz="1900" spc="-1" strike="noStrike">
              <a:solidFill>
                <a:srgbClr val="333333"/>
              </a:solidFill>
              <a:latin typeface="Lucida Grande"/>
            </a:endParaRPr>
          </a:p>
          <a:p>
            <a:pPr lvl="1" marL="971640" indent="-514440">
              <a:lnSpc>
                <a:spcPct val="100000"/>
              </a:lnSpc>
              <a:spcBef>
                <a:spcPts val="56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Signika"/>
              </a:rPr>
              <a:t>Provider code is in control of when to provide</a:t>
            </a:r>
            <a:endParaRPr b="0" lang="en-US" sz="22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56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Signika"/>
              </a:rPr>
              <a:t>Promotes very loose coupling and late binding</a:t>
            </a:r>
            <a:endParaRPr b="0" lang="en-US" sz="2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5137F-DA83-475E-971F-C016DA91C4D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META-INF/services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16" name=""/>
          <p:cNvSpPr/>
          <p:nvPr/>
        </p:nvSpPr>
        <p:spPr>
          <a:xfrm>
            <a:off x="800280" y="1434960"/>
            <a:ext cx="6578280" cy="24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ServiceLoader&lt;ShapeFactory&gt; factories =   ServiceLoader.load(ShapeFactory.class);List&lt;Shape&gt; shapes = …for (ShapeFactory factory : factories) {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	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shapes.add(factory.next().createShape());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4851360" y="591804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4"/>
          <a:stretch/>
        </p:blipFill>
        <p:spPr>
          <a:xfrm>
            <a:off x="4851360" y="4876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5"/>
          <a:stretch/>
        </p:blipFill>
        <p:spPr>
          <a:xfrm>
            <a:off x="4851360" y="539748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99D33-9740-4434-8A98-E9BEEE8F6AAD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OSGi services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770904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OSGi framework provides the concepts we need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Signika"/>
              </a:rPr>
              <a:t>Centralized service registry</a:t>
            </a:r>
            <a:endParaRPr b="0" lang="en-US" sz="28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Signika"/>
              </a:rPr>
              <a:t>Consumer has control over selection</a:t>
            </a:r>
            <a:endParaRPr b="0" lang="en-US" sz="28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Signika"/>
              </a:rPr>
              <a:t>Provider has control over when to provide</a:t>
            </a:r>
            <a:endParaRPr b="0" lang="en-US" sz="28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Signika"/>
              </a:rPr>
              <a:t>Plus full-blown deployment and packaging modularity with run-time dynamism</a:t>
            </a:r>
            <a:endParaRPr b="0" lang="en-US" sz="28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AE47F-11FE-4F21-B5DE-85925E8F9B03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OSGi service advantages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770904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marL="509040" indent="-509040">
              <a:lnSpc>
                <a:spcPct val="100000"/>
              </a:lnSpc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Signika"/>
              </a:rPr>
              <a:t>Lightweight services</a:t>
            </a:r>
            <a:endParaRPr b="0" lang="en-US" sz="2900" spc="-1" strike="noStrike">
              <a:solidFill>
                <a:srgbClr val="333333"/>
              </a:solidFill>
              <a:latin typeface="Signika"/>
            </a:endParaRPr>
          </a:p>
          <a:p>
            <a:pPr lvl="1" marL="961920" indent="-509040">
              <a:lnSpc>
                <a:spcPct val="100000"/>
              </a:lnSpc>
              <a:spcBef>
                <a:spcPts val="624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Signika"/>
              </a:rPr>
              <a:t>Direct method invocation</a:t>
            </a:r>
            <a:endParaRPr b="0" lang="en-US" sz="2500" spc="-1" strike="noStrike">
              <a:solidFill>
                <a:srgbClr val="333333"/>
              </a:solidFill>
              <a:latin typeface="Signika"/>
            </a:endParaRPr>
          </a:p>
          <a:p>
            <a:pPr marL="509040" indent="-509040">
              <a:lnSpc>
                <a:spcPct val="100000"/>
              </a:lnSpc>
              <a:spcBef>
                <a:spcPts val="726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Signika"/>
              </a:rPr>
              <a:t>Structured code</a:t>
            </a:r>
            <a:endParaRPr b="0" lang="en-US" sz="2900" spc="-1" strike="noStrike">
              <a:solidFill>
                <a:srgbClr val="333333"/>
              </a:solidFill>
              <a:latin typeface="Signika"/>
            </a:endParaRPr>
          </a:p>
          <a:p>
            <a:pPr lvl="1" marL="961920" indent="-509040">
              <a:lnSpc>
                <a:spcPct val="100000"/>
              </a:lnSpc>
              <a:spcBef>
                <a:spcPts val="624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Signika"/>
              </a:rPr>
              <a:t>Promotes separation of interface from implementation</a:t>
            </a:r>
            <a:endParaRPr b="0" lang="en-US" sz="2500" spc="-1" strike="noStrike">
              <a:solidFill>
                <a:srgbClr val="333333"/>
              </a:solidFill>
              <a:latin typeface="Signika"/>
            </a:endParaRPr>
          </a:p>
          <a:p>
            <a:pPr lvl="1" marL="961920" indent="-509040">
              <a:lnSpc>
                <a:spcPct val="100000"/>
              </a:lnSpc>
              <a:spcBef>
                <a:spcPts val="624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Signika"/>
              </a:rPr>
              <a:t>Enables reuse, substitutability, loose coupling, and late binding</a:t>
            </a:r>
            <a:endParaRPr b="0" lang="en-US" sz="2500" spc="-1" strike="noStrike">
              <a:solidFill>
                <a:srgbClr val="333333"/>
              </a:solidFill>
              <a:latin typeface="Signika"/>
            </a:endParaRPr>
          </a:p>
          <a:p>
            <a:pPr marL="509040" indent="-509040">
              <a:lnSpc>
                <a:spcPct val="100000"/>
              </a:lnSpc>
              <a:spcBef>
                <a:spcPts val="726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Signika"/>
              </a:rPr>
              <a:t>Dynamics</a:t>
            </a:r>
            <a:endParaRPr b="0" lang="en-US" sz="2900" spc="-1" strike="noStrike">
              <a:solidFill>
                <a:srgbClr val="333333"/>
              </a:solidFill>
              <a:latin typeface="Signika"/>
            </a:endParaRPr>
          </a:p>
          <a:p>
            <a:pPr lvl="1" marL="961920" indent="-509040">
              <a:lnSpc>
                <a:spcPct val="100000"/>
              </a:lnSpc>
              <a:spcBef>
                <a:spcPts val="624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Signika"/>
              </a:rPr>
              <a:t>Loose coupling and late binding make it possible to support run-time management of module</a:t>
            </a:r>
            <a:endParaRPr b="0" lang="en-US" sz="25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51EB0-FEDA-4BD9-84F3-8BBB7FE9C6B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Outline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770904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14440" indent="-514440">
              <a:lnSpc>
                <a:spcPct val="100000"/>
              </a:lnSpc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Signika"/>
                <a:ea typeface="Lucida Grande"/>
              </a:rPr>
              <a:t>Motivating µServices</a:t>
            </a:r>
            <a:endParaRPr b="0" lang="en-US" sz="23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513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Signika"/>
              </a:rPr>
              <a:t>Procedures</a:t>
            </a:r>
            <a:endParaRPr b="0" lang="en-US" sz="20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513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Signika"/>
              </a:rPr>
              <a:t>Objects</a:t>
            </a:r>
            <a:endParaRPr b="0" lang="en-US" sz="20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513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Signika"/>
              </a:rPr>
              <a:t>Interfaces</a:t>
            </a:r>
            <a:endParaRPr b="0" lang="en-US" sz="20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513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Signika"/>
              </a:rPr>
              <a:t>Factories</a:t>
            </a:r>
            <a:endParaRPr b="0" lang="en-US" sz="20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513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Signika"/>
              </a:rPr>
              <a:t>Dependency injection</a:t>
            </a:r>
            <a:endParaRPr b="0" lang="en-US" sz="2000" spc="-1" strike="noStrike">
              <a:solidFill>
                <a:srgbClr val="333333"/>
              </a:solidFill>
              <a:latin typeface="Signika"/>
            </a:endParaRPr>
          </a:p>
          <a:p>
            <a:pPr marL="514440" indent="-514440">
              <a:lnSpc>
                <a:spcPct val="100000"/>
              </a:lnSpc>
              <a:spcBef>
                <a:spcPts val="587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Signika"/>
              </a:rPr>
              <a:t>Service orientation</a:t>
            </a:r>
            <a:endParaRPr b="0" lang="en-US" sz="23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513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Signika"/>
                <a:ea typeface="Lucida Grande"/>
              </a:rPr>
              <a:t>µServices and OSGi Services</a:t>
            </a:r>
            <a:endParaRPr b="0" lang="en-US" sz="20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513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Signika"/>
              </a:rPr>
              <a:t>Dynamism</a:t>
            </a:r>
            <a:endParaRPr b="0" lang="en-US" sz="20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513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Signika"/>
              </a:rPr>
              <a:t>Service Dependency Injection</a:t>
            </a:r>
            <a:endParaRPr b="0" lang="en-US" sz="2000" spc="-1" strike="noStrike">
              <a:solidFill>
                <a:srgbClr val="333333"/>
              </a:solidFill>
              <a:latin typeface="Signika"/>
            </a:endParaRPr>
          </a:p>
          <a:p>
            <a:pPr marL="514440" indent="-514440">
              <a:lnSpc>
                <a:spcPct val="100000"/>
              </a:lnSpc>
              <a:spcBef>
                <a:spcPts val="587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Signika"/>
              </a:rPr>
              <a:t>Example</a:t>
            </a:r>
            <a:endParaRPr b="0" lang="en-US" sz="23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513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Signika"/>
              </a:rPr>
              <a:t>Declarative Services with Configuration Admin Service</a:t>
            </a:r>
            <a:endParaRPr b="0" lang="en-US" sz="2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7BE6E-F88C-4B37-A16A-5500F23950BD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34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Using a service (1/2)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4360" y="1484280"/>
            <a:ext cx="8407440" cy="673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BundleContext</a:t>
            </a: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 allows bundles to find services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37" name=""/>
          <p:cNvSpPr/>
          <p:nvPr/>
        </p:nvSpPr>
        <p:spPr>
          <a:xfrm>
            <a:off x="635040" y="2184480"/>
            <a:ext cx="8039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interface BundleContext {  …  ServiceReference[] getServiceReferences(...);  ServiceReference getServiceReference(...);  Object getService(...);  boolean ungetService(...);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F8F5D-39F4-4231-819F-66E2C22367BF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Using a service (2/2)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42" name=""/>
          <p:cNvSpPr/>
          <p:nvPr/>
        </p:nvSpPr>
        <p:spPr>
          <a:xfrm>
            <a:off x="419040" y="1193760"/>
            <a:ext cx="8128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class Paint implements BundleActivator {  public void start(BundleContext context) {    ServiceReference ref = context.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getServiceReference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(      com.foo.Shape.class.getName());    if (ref != null) {      Shape s = (Hello) context.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getService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(ref);      if (s != null) {        ...        context.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ungetService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(h);      }    }  }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3"/>
          <a:stretch/>
        </p:blipFill>
        <p:spPr>
          <a:xfrm>
            <a:off x="4851360" y="48769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D0ED8-E6DF-4AA5-97EC-6D9DEC1952A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48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Publishing a service (1/2)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3480" y="1483920"/>
            <a:ext cx="878832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79000"/>
          </a:bodyPr>
          <a:p>
            <a:pPr marL="406080" indent="-4060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BundleContext</a:t>
            </a: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 allows bundles to publish services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51" name=""/>
          <p:cNvSpPr/>
          <p:nvPr/>
        </p:nvSpPr>
        <p:spPr>
          <a:xfrm>
            <a:off x="-951480" y="2374920"/>
            <a:ext cx="8518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interface BundleContext {  ...  ServiceRegistration 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registerService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(...);  ...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0A1E4-E664-41D6-A39E-058B3269ECC4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54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Publishing a service (1/2)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56" name=""/>
          <p:cNvSpPr/>
          <p:nvPr/>
        </p:nvSpPr>
        <p:spPr>
          <a:xfrm>
            <a:off x="723960" y="1523880"/>
            <a:ext cx="7391520" cy="35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class Activator implements BundleActivator {  private ServiceRegistration reg = null;  public void start(BundleContext context) {    reg = context.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registerService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(      com.foo.Shape.class.getName(),      new Circle(100), null);  }  public void stop(BundleContext context) {    reg.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unregister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();  }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3"/>
          <a:stretch/>
        </p:blipFill>
        <p:spPr>
          <a:xfrm>
            <a:off x="4851360" y="4876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4"/>
          <a:stretch/>
        </p:blipFill>
        <p:spPr>
          <a:xfrm>
            <a:off x="4851360" y="539748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430CB-F3F1-463A-B1F5-B9A17ABC6F22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63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Service dynamism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06320" y="1217160"/>
            <a:ext cx="7709040" cy="660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Services can be monitored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66" name=""/>
          <p:cNvSpPr/>
          <p:nvPr/>
        </p:nvSpPr>
        <p:spPr>
          <a:xfrm>
            <a:off x="190440" y="1739880"/>
            <a:ext cx="7988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BundleContext.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addServiceListener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()public interface ServiceListener extends EventListener {  public void serviceChanged(ServiceEvent event);}public class 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ServiceEvent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 extends EventObject {  public final static int 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REGISTERED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;  public final static int 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MODIFIED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;  public final static int 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UNREGISTERING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;  public ServiceReference 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getServiceReference() { … }  public int getType() { … }  ...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6561D-E91F-49FB-8A81-32132231DD64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69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Bundle-based dynamism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770904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14440" indent="-514440">
              <a:lnSpc>
                <a:spcPct val="100000"/>
              </a:lnSpc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Signika"/>
              </a:rPr>
              <a:t>Bundle lifecycle state provides a hook for bundle-based dynamic extensibility</a:t>
            </a:r>
            <a:endParaRPr b="0" lang="en-US" sz="2400" spc="-1" strike="noStrike">
              <a:solidFill>
                <a:srgbClr val="333333"/>
              </a:solidFill>
              <a:latin typeface="Signika"/>
            </a:endParaRPr>
          </a:p>
          <a:p>
            <a:pPr marL="514440" indent="-514440">
              <a:lnSpc>
                <a:spcPct val="100000"/>
              </a:lnSpc>
              <a:spcBef>
                <a:spcPts val="612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Signika"/>
              </a:rPr>
              <a:t>The extender pattern</a:t>
            </a:r>
            <a:endParaRPr b="0" lang="en-US" sz="24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53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33"/>
                </a:solidFill>
                <a:latin typeface="Signika"/>
              </a:rPr>
              <a:t>An application component, called the extender, listens for bundles to be started, and stopped</a:t>
            </a:r>
            <a:endParaRPr b="0" lang="en-US" sz="21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53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33"/>
                </a:solidFill>
                <a:latin typeface="Signika"/>
              </a:rPr>
              <a:t>On startup, the extender probes bundles to see if they are extensions</a:t>
            </a:r>
            <a:endParaRPr b="0" lang="en-US" sz="2100" spc="-1" strike="noStrike">
              <a:solidFill>
                <a:srgbClr val="333333"/>
              </a:solidFill>
              <a:latin typeface="Signika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</a:rPr>
              <a:t>Typically, extension contain special metadata or resources to indicate they provide an extension</a:t>
            </a:r>
            <a:endParaRPr b="0" lang="en-US" sz="1800" spc="-1" strike="noStrike">
              <a:solidFill>
                <a:srgbClr val="333333"/>
              </a:solidFill>
              <a:latin typeface="Lucida Grande"/>
            </a:endParaRPr>
          </a:p>
          <a:p>
            <a:pPr lvl="1" marL="971640" indent="-514440">
              <a:lnSpc>
                <a:spcPct val="100000"/>
              </a:lnSpc>
              <a:spcBef>
                <a:spcPts val="53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33"/>
                </a:solidFill>
                <a:latin typeface="Signika"/>
              </a:rPr>
              <a:t>When an extension is started, the extender integrates the extension into the application</a:t>
            </a:r>
            <a:endParaRPr b="0" lang="en-US" sz="21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53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33"/>
                </a:solidFill>
                <a:latin typeface="Signika"/>
              </a:rPr>
              <a:t>When an extension is stopped, the extender removes the extension from the application</a:t>
            </a:r>
            <a:endParaRPr b="0" lang="en-US" sz="21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7B332-4D20-4C5B-9EDA-72055A1FC5FE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Service-based dynamism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770904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14440" indent="-514440">
              <a:lnSpc>
                <a:spcPct val="100000"/>
              </a:lnSpc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Signika"/>
              </a:rPr>
              <a:t>Service lifecycle state provides a hook for service-based dynamic extensibility</a:t>
            </a:r>
            <a:endParaRPr b="0" lang="en-US" sz="23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513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Signika"/>
              </a:rPr>
              <a:t>Still overall controlled by bundle state, but more fine grained</a:t>
            </a:r>
            <a:endParaRPr b="0" lang="en-US" sz="2000" spc="-1" strike="noStrike">
              <a:solidFill>
                <a:srgbClr val="333333"/>
              </a:solidFill>
              <a:latin typeface="Signika"/>
            </a:endParaRPr>
          </a:p>
          <a:p>
            <a:pPr marL="514440" indent="-514440">
              <a:lnSpc>
                <a:spcPct val="100000"/>
              </a:lnSpc>
              <a:spcBef>
                <a:spcPts val="587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Signika"/>
              </a:rPr>
              <a:t>Treats the service registry as a whiteboard</a:t>
            </a:r>
            <a:endParaRPr b="0" lang="en-US" sz="23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513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Signika"/>
              </a:rPr>
              <a:t>A reverse way to create a service</a:t>
            </a:r>
            <a:endParaRPr b="0" lang="en-US" sz="2000" spc="-1" strike="noStrike">
              <a:solidFill>
                <a:srgbClr val="333333"/>
              </a:solidFill>
              <a:latin typeface="Signika"/>
            </a:endParaRPr>
          </a:p>
          <a:p>
            <a:pPr marL="514440" indent="-514440">
              <a:lnSpc>
                <a:spcPct val="100000"/>
              </a:lnSpc>
              <a:spcBef>
                <a:spcPts val="587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Signika"/>
              </a:rPr>
              <a:t>An application component listens for services of a particular type to be added and removed</a:t>
            </a:r>
            <a:endParaRPr b="0" lang="en-US" sz="2300" spc="-1" strike="noStrike">
              <a:solidFill>
                <a:srgbClr val="333333"/>
              </a:solidFill>
              <a:latin typeface="Signika"/>
            </a:endParaRPr>
          </a:p>
          <a:p>
            <a:pPr marL="514440" indent="-514440">
              <a:lnSpc>
                <a:spcPct val="100000"/>
              </a:lnSpc>
              <a:spcBef>
                <a:spcPts val="587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Signika"/>
              </a:rPr>
              <a:t>On addition, the service is integrated into the application</a:t>
            </a:r>
            <a:endParaRPr b="0" lang="en-US" sz="2300" spc="-1" strike="noStrike">
              <a:solidFill>
                <a:srgbClr val="333333"/>
              </a:solidFill>
              <a:latin typeface="Signika"/>
            </a:endParaRPr>
          </a:p>
          <a:p>
            <a:pPr marL="514440" indent="-514440">
              <a:lnSpc>
                <a:spcPct val="100000"/>
              </a:lnSpc>
              <a:spcBef>
                <a:spcPts val="587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Signika"/>
              </a:rPr>
              <a:t>On removal, the service is removed from the application</a:t>
            </a:r>
            <a:endParaRPr b="0" lang="en-US" sz="23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18CD3-FD0C-4E9D-A1E6-600F1163AF40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Service dynamism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06320" y="1217160"/>
            <a:ext cx="7709040" cy="660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Services can be monitored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82" name=""/>
          <p:cNvSpPr/>
          <p:nvPr/>
        </p:nvSpPr>
        <p:spPr>
          <a:xfrm>
            <a:off x="203040" y="1739880"/>
            <a:ext cx="7988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BundleContext.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addServiceListener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()public interface ServiceListener extends EventListener {  public void serviceChanged(ServiceEvent event);}public class 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ServiceEvent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 extends EventObject {  public final static int 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REGISTERED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;  public final static int 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MODIFIED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;  public final static int 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UNREGISTERING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;  public ServiceReference 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  <a:p>
            <a:pPr lvl="1" marL="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getServiceReference() { … }  public int getType() { … }  ...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3"/>
          <a:stretch/>
        </p:blipFill>
        <p:spPr>
          <a:xfrm>
            <a:off x="4851360" y="4876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4"/>
          <a:stretch/>
        </p:blipFill>
        <p:spPr>
          <a:xfrm>
            <a:off x="4851360" y="53974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5"/>
          <a:stretch/>
        </p:blipFill>
        <p:spPr>
          <a:xfrm>
            <a:off x="4851360" y="591804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21C25-467D-4DF9-83FF-39B97505C91C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90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Services and dependency injection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770904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Services and dependency injection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Signika"/>
              </a:rPr>
              <a:t>Complementary</a:t>
            </a:r>
            <a:endParaRPr b="0" lang="en-US" sz="2800" spc="-1" strike="noStrike">
              <a:solidFill>
                <a:srgbClr val="333333"/>
              </a:solidFill>
              <a:latin typeface="Signik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Use POJOs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Signika"/>
              </a:rPr>
              <a:t>Avoid dependencies on OSGi API</a:t>
            </a:r>
            <a:endParaRPr b="0" lang="en-US" sz="28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C369A-E973-4E99-AA16-4C8F8E4D952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95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Services and dependency injection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21960" y="1483920"/>
            <a:ext cx="7899480" cy="76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marL="426960" indent="-42696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Here is a component providing the service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98" name=""/>
          <p:cNvSpPr/>
          <p:nvPr/>
        </p:nvSpPr>
        <p:spPr>
          <a:xfrm>
            <a:off x="398160" y="2108160"/>
            <a:ext cx="590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@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Component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class Circle implements Shape {...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F0588-437B-4E42-A699-85EE65412C96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2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cc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0840" y="138240"/>
            <a:ext cx="847800" cy="863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2419200"/>
            <a:ext cx="9156600" cy="158436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46040" y="1779480"/>
            <a:ext cx="8266320" cy="2865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ika"/>
                <a:ea typeface="Lucida Grande"/>
              </a:rPr>
              <a:t>Motivating µServices</a:t>
            </a:r>
            <a:endParaRPr b="0" lang="en-US" sz="3200" spc="-1" strike="noStrike">
              <a:solidFill>
                <a:srgbClr val="ffffff"/>
              </a:solidFill>
              <a:latin typeface="Signik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F926F-2FFA-4ACB-8597-7E21B549C9E9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Services and dependency injection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21960" y="1484280"/>
            <a:ext cx="7899480" cy="3632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Here is a component providing the service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Implementation with service dependency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504" name=""/>
          <p:cNvSpPr/>
          <p:nvPr/>
        </p:nvSpPr>
        <p:spPr>
          <a:xfrm>
            <a:off x="398160" y="2108160"/>
            <a:ext cx="590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@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Component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class Circle implements Shape {...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505" name=""/>
          <p:cNvSpPr/>
          <p:nvPr/>
        </p:nvSpPr>
        <p:spPr>
          <a:xfrm>
            <a:off x="1155600" y="3835440"/>
            <a:ext cx="56768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@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Component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class Paint {  @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Reference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  public void setShape(Shape shape) {...}  public void useShape() {    ...  }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D121C-A5EE-4864-A6B6-91743698D575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508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Services and dependency injection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21960" y="1484280"/>
            <a:ext cx="7899480" cy="3632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Here is a component providing the service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Implementation with service dependency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511" name=""/>
          <p:cNvSpPr/>
          <p:nvPr/>
        </p:nvSpPr>
        <p:spPr>
          <a:xfrm>
            <a:off x="398160" y="2108160"/>
            <a:ext cx="590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@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Component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class Circle implements Shape {...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512" name=""/>
          <p:cNvSpPr/>
          <p:nvPr/>
        </p:nvSpPr>
        <p:spPr>
          <a:xfrm>
            <a:off x="1155600" y="3835440"/>
            <a:ext cx="56768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@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Component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class Paint {  @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Reference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  public void setShape(Shape shape) {...}  @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Activate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  public void useShape() {    ...  }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4699080" y="4927680"/>
            <a:ext cx="4165560" cy="151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CA453-91F8-41F5-87CF-86F2D55238F7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516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Services and dependency Injection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112760" y="1483920"/>
            <a:ext cx="7709040" cy="4902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Advantages when combined with service orientation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Signika"/>
              </a:rPr>
              <a:t>Dependency injection no longer needs global view</a:t>
            </a:r>
            <a:endParaRPr b="0" lang="en-US" sz="2800" spc="-1" strike="noStrike">
              <a:solidFill>
                <a:srgbClr val="333333"/>
              </a:solidFill>
              <a:latin typeface="Signik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Lucida Grande"/>
              </a:rPr>
              <a:t>Information localized to just the provider/consumer</a:t>
            </a:r>
            <a:endParaRPr b="0" lang="en-US" sz="2400" spc="-1" strike="noStrike">
              <a:solidFill>
                <a:srgbClr val="333333"/>
              </a:solidFill>
              <a:latin typeface="Lucida Grande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Signika"/>
              </a:rPr>
              <a:t>No longer restricted to a single DI framework</a:t>
            </a:r>
            <a:endParaRPr b="0" lang="en-US" sz="2800" spc="-1" strike="noStrike">
              <a:solidFill>
                <a:srgbClr val="333333"/>
              </a:solidFill>
              <a:latin typeface="Signik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Lucida Grande"/>
              </a:rPr>
              <a:t>Different DI frameworks can play together via the service registry</a:t>
            </a:r>
            <a:endParaRPr b="0" lang="en-US" sz="2400" spc="-1" strike="noStrike">
              <a:solidFill>
                <a:srgbClr val="333333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59F94-0512-4B59-B36B-B5538ABFD419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20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cc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150840" y="138240"/>
            <a:ext cx="847800" cy="86364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0" y="2419200"/>
            <a:ext cx="9156600" cy="158436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446040" y="1779480"/>
            <a:ext cx="8266320" cy="2865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ika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Signik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4804F-E72F-4EA9-8835-A432E1F26BDE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525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Declarative Services with Configuration Admin Service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527" name=""/>
          <p:cNvSpPr/>
          <p:nvPr/>
        </p:nvSpPr>
        <p:spPr>
          <a:xfrm>
            <a:off x="647640" y="1143000"/>
            <a:ext cx="791208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@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Component(configurationPolicy=ConfigurationPolicy.REQUIRE)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class Circle implements Shape {...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rivate volatile String color;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@Activate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void init(Map config){  this.color = config.get(COLOR_KEY);}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528" name=""/>
          <p:cNvSpPr/>
          <p:nvPr/>
        </p:nvSpPr>
        <p:spPr>
          <a:xfrm>
            <a:off x="584280" y="3429000"/>
            <a:ext cx="81025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@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Component(immediate=true)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class Paint {  @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Reference(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cardinality=ReferenceCardinality.MULTIPLE,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olicyOption=ReferencePolicyOption.DYNAMIC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)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  public void setShape(Shape shape) {...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  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public void unsetShape(Shape shape){...}  @</a:t>
            </a:r>
            <a:r>
              <a:rPr b="1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Activate</a:t>
            </a: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  public void drawFrame() { ...}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774A5-5158-460E-A2AA-704629506880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531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287280" y="3147480"/>
            <a:ext cx="7709040" cy="54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6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ignika"/>
              </a:rPr>
              <a:t>Questions?</a:t>
            </a:r>
            <a:endParaRPr b="0" lang="en-US" sz="32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A34EA-E847-483A-B7B2-D8F42DC631E6}" type="slidenum">
              <a:t>5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  <a:ea typeface="Lucida Grande"/>
              </a:rPr>
              <a:t>Motivating µServices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543480" y="1943280"/>
          <a:ext cx="4711680" cy="3466800"/>
        </p:xfrm>
        <a:graphic>
          <a:graphicData uri="http://schemas.openxmlformats.org/drawingml/2006/table">
            <a:tbl>
              <a:tblPr/>
              <a:tblGrid>
                <a:gridCol w="925560"/>
                <a:gridCol w="3786120"/>
              </a:tblGrid>
              <a:tr h="866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866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86688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86688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939960" y="2044800"/>
            <a:ext cx="939600" cy="939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939960" y="3200400"/>
            <a:ext cx="939600" cy="961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939960" y="4381560"/>
            <a:ext cx="939600" cy="93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7BAB9-CBF9-484C-9D88-4BBEB79C31D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Procedures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53" name=""/>
          <p:cNvSpPr/>
          <p:nvPr/>
        </p:nvSpPr>
        <p:spPr>
          <a:xfrm>
            <a:off x="-4525200" y="1422360"/>
            <a:ext cx="1487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byte[4096] canvas;void mouseClickCallback(int x, int y) {  drawCircle(x, y, 100);}void drawCircle(int x, int y, int r) {  ...  // draws into canvas  ...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5114E-38CF-43B9-9BE2-E3465A34054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Procedures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59" name=""/>
          <p:cNvSpPr/>
          <p:nvPr/>
        </p:nvSpPr>
        <p:spPr>
          <a:xfrm>
            <a:off x="-4525200" y="1422360"/>
            <a:ext cx="1487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byte[4096] canvas;void mouseClickCallback(int x, int y) {  drawCircle(x, y, 100);}void drawCircle(int x, int y, int r) {  ...  // draws into canvas  ...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6FCB7-0EB8-41E7-82DF-78EE09869E0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144440" y="0"/>
            <a:ext cx="8010720" cy="1136520"/>
          </a:xfrm>
          <a:prstGeom prst="rect">
            <a:avLst/>
          </a:prstGeom>
          <a:solidFill>
            <a:srgbClr val="00ad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6453360"/>
            <a:ext cx="214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151"/>
                </a:solidFill>
                <a:latin typeface="Signika"/>
                <a:ea typeface="Signika"/>
              </a:rPr>
              <a:t>adaptTo() 2013</a:t>
            </a:r>
            <a:endParaRPr b="0" lang="en-US" sz="1400" spc="-1" strike="noStrike">
              <a:solidFill>
                <a:srgbClr val="333333"/>
              </a:solidFill>
              <a:latin typeface="Gill San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561080" cy="116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Signika"/>
              </a:rPr>
              <a:t>Procedures</a:t>
            </a:r>
            <a:endParaRPr b="0" lang="en-US" sz="3000" spc="-1" strike="noStrike">
              <a:solidFill>
                <a:srgbClr val="333333"/>
              </a:solidFill>
              <a:latin typeface="Signika"/>
            </a:endParaRPr>
          </a:p>
        </p:txBody>
      </p:sp>
      <p:sp>
        <p:nvSpPr>
          <p:cNvPr id="166" name=""/>
          <p:cNvSpPr/>
          <p:nvPr/>
        </p:nvSpPr>
        <p:spPr>
          <a:xfrm>
            <a:off x="-4525200" y="1422360"/>
            <a:ext cx="1487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Lucida Grande"/>
                <a:ea typeface="Lucida Grande"/>
              </a:rPr>
              <a:t>byte[4096] canvas;void mouseClickCallback(int x, int y) {  drawCircle(x, y, 100);}void drawCircle(int x, int y, int r) {  ...  // draws into canvas  ...}</a:t>
            </a:r>
            <a:endParaRPr b="0" lang="en-US" sz="1800" spc="-1" strike="noStrike">
              <a:solidFill>
                <a:srgbClr val="333333"/>
              </a:solidFill>
              <a:latin typeface="Gill Sans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673520" y="4280040"/>
          <a:ext cx="4089240" cy="2082600"/>
        </p:xfrm>
        <a:graphic>
          <a:graphicData uri="http://schemas.openxmlformats.org/drawingml/2006/table">
            <a:tbl>
              <a:tblPr/>
              <a:tblGrid>
                <a:gridCol w="803160"/>
                <a:gridCol w="3286080"/>
              </a:tblGrid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Data encapsulation/abstraction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upling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39096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control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  <a:tr h="650520">
                <a:tc>
                  <a:txBody>
                    <a:bodyPr lIns="50760" rIns="50760" tIns="50760" bIns="5076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Signika"/>
                          <a:ea typeface="ヒラギノ角ゴ ProN W3"/>
                        </a:rPr>
                        <a:t>Provider/Consumer dynamism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eefb"/>
                    </a:solidFill>
                  </a:tcPr>
                </a:tc>
              </a:tr>
            </a:tbl>
          </a:graphicData>
        </a:graphic>
      </p:graphicFrame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851360" y="4356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851360" y="48769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C58CA-D6A5-4A54-A74F-F367B64B9D6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fan Seifert</dc:creator>
  <dc:description/>
  <dc:language>en-US</dc:language>
  <cp:lastModifiedBy/>
  <cp:revision>0</cp:revision>
  <dc:subject/>
  <dc:title>PowerPoint-Präsentation</dc:title>
</cp:coreProperties>
</file>