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709339-1A31-4D86-914C-CCA1F871BEA0}" type="datetime">
              <a:rPr b="1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E8AB7B-5140-45BD-9550-AFECE7B6BAE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988186-4DFE-4F40-BB87-2C0BC2A576B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s of pertinant drug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a-blockers: limit the heart’s ability to beat fa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ticoaagulant – blood thinner, prevents blood from clot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ion Poin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st the classic signs and symptoms of shock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Primary assessment/ABCD’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Rapid transport, 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High flow 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Keep patient warm and dry to prevent heat lo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Head lower than fe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7BE507-F460-4873-BA37-5B31C2C2287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a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Assess scene safety and initiate Standard Precautions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169BEB-923A-49C1-A68A-C5B2F8A5FDF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b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Perform a primary assessment. Assess ABCDs and correct any problems found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EDF803-16F6-4B24-B48A-933BFEB776D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c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Call for help and arrange for transport that includes ALS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2F108-0DDB-423F-82AB-3C34DEF4F77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d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Monitor the airway and administer high-flow oxygen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B0BBED-EC75-4FC7-ADBA-8F4FE57774C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e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To prevent heat loss, keep the patient warm and dry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A942A0-65B6-4799-B24B-9C57D3B340D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f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Place the patient with the head lower than the feet while maintaining spinal integrity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cott Smi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46D17C-680D-4BDD-AD7A-A00D5EAFE8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rt – muscular organ that pumps blood throughout the body via blood vess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ded into four chambers – right &amp; left upper chambers called atria/ right and left lower chambers called ventric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Right side pumps blood to the lungs &amp; the left pumps blood to the rest of the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Veins take oxygen-depleted blood from the tissues &amp; deliver it to the superior and inferior vena cava (largest veins in the body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Right atrium receives blood from the venae cave and pumps it through a one-way valve into the right ventri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Then blood passes through another one-way valve into the pulmonary arteries and on to the lungs for oxygen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The left atrium recieves O2-rich blood from the lungs and delivers it through a valve to the left ventri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This 02-rich blood is then pumped into the aorta and then out into the art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Arteries carry oxygenated blood to the tiss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Capillary – exchange site between blood and tissu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Heart is regulated by pacemak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C Skill 10-1 Shock Management (g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Provide for rapid transport.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Copyright Selk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7BCAD2-B3D1-4E1F-AD06-F4A4FA9D34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142D23-B5A2-4B05-9767-B27289B8C6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685800" y="4343400"/>
            <a:ext cx="54864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ion Poin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 and contrast the three stages of shock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ensated shock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body’s ability to maintain blood perfusion to vital tissues under conditions that, if left uncorrected, would inevitably lead to dea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The body’s ability to do this (compensate for shock) can mask serious conditions &amp; give you a false impres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idence: tachycardia (heart rate greater than 100bpm), tachypnea (resp. rate greater than 20 rpm), delayed cap refill, cool skin, altered mental status &amp; normal B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ompensated shock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fusion hasn’t been restored, cellular hypoxia will continue, body’s systems begin to fa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rt rate will continue to rise, systolic BP will begin to fall, respirations may become shallow, skin pale or cyanotic &amp; cool/moist, cap refill issues, LOR decrease, et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reversible sho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lls die, tissues die, organs die, organ system failure &amp; dea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ter loss can occur with severe burns, dehydrating, excessive vomiting, etc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F245CF-EB3C-4153-BF46-C1351437D14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valve problems, heart attack, slow or fast heart rates, medication, trauma to he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asodilation – results in reduced blood pressure &amp; cellular hypoxi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E28F9-53C3-4BBF-B2BD-6076D713B6A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structive Shoc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results when some type of blockage prevents oxygenated blood from reaching vital org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nsion pneumothorax: air in the pleural space results in the collapse of the lung on the affected side and can compress the hea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icardial tamponade: fluid fills the sac around the heart, compressing it and impairing its pumping 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lmonary embolism: blood clot in the pulmonary circulation reduces blood flow to lung tiss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940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924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528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940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924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8AF2-0697-4BF9-BFAB-2D56F17C0F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9606-D085-4D87-B851-21661FD5B3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D476-F128-4402-AAC1-801F1307AA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6530-5306-4557-8944-623BE56298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5EB3-FC42-4B29-9611-C0DE982AB0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-49680"/>
            <a:ext cx="67802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6760-6F82-4B14-B5FA-B1EC379962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2E4B-8394-45C3-8B53-9464673577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743F-3A35-4DF8-B780-763BD1ABE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1C62-FD52-427B-961E-1C24502C2A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51C1-D2DC-4499-B26F-032E9D19AA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BD7E-79F8-48A4-9529-72167C25DE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40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924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9528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940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924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99D5-14FD-44A6-8941-F5000399B5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66680" y="-49680"/>
            <a:ext cx="67802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940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92440" y="137124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9528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7940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92440" y="3838320"/>
            <a:ext cx="237924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-49680"/>
            <a:ext cx="678024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82120" y="383832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82120" y="1371240"/>
            <a:ext cx="360612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5280" y="3838320"/>
            <a:ext cx="7390080" cy="22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2448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396120"/>
            <a:ext cx="357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Ski Patrol,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utdoor Emergency Care, 5th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2012 by Pearson Education, Inc., Upper Saddle River, NJ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66680" y="1143000"/>
            <a:ext cx="6782040" cy="763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4160" y="5562720"/>
            <a:ext cx="1357560" cy="761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1187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237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A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6360" y="6537240"/>
            <a:ext cx="914400" cy="27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3EE88-9701-45D5-8313-C4D07F06A6F8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486400" y="6396120"/>
            <a:ext cx="357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ional Ski Patrol,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door Emergency Care, 5th Ed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2012 by Pearson Education, Inc., Upper Saddle River, NJ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61920" y="6210360"/>
            <a:ext cx="1019160" cy="571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solidFill>
            <a:srgbClr val="2448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6360" y="6537240"/>
            <a:ext cx="914400" cy="273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6237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RA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6360" y="6537240"/>
            <a:ext cx="914400" cy="273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-49680"/>
            <a:ext cx="678024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95280" y="1371240"/>
            <a:ext cx="7390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youtube.com/watch?v=JA0Wb3gb4m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3124080"/>
            <a:ext cx="68677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19200" y="1828800"/>
            <a:ext cx="68677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 illness or inju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-existing medical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d-altering substances or med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cription or over-the-counter (OTC) med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ient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371600"/>
            <a:ext cx="739152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ene size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ues; suggestion possible sh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 sig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chycar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t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chypn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le, cool, diaphoretic sk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tered mental statu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ient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flow oxy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to homeosta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ce in shock 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port in head down 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2452680"/>
            <a:ext cx="69343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ll 10-1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ck Manag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a)    Assess scene safety and initiate Standard Precautions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3960" y="1116000"/>
            <a:ext cx="822960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b)    Perform a primary assessment. Assess ABCDs and correct any problems found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55520" y="1089000"/>
            <a:ext cx="70264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c)    Call for help and arrange for transport that includes ALS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8480" y="1089000"/>
            <a:ext cx="75405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d)    Monitor the airway and administer high-flow oxygen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63680" y="1089000"/>
            <a:ext cx="64101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e)    To prevent heat loss, keep the patient warm and dry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5640" y="1089000"/>
            <a:ext cx="81662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f)    Place the patient with the head lower than the feet while maintaining spinal integrity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cott Sm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74880" y="1089000"/>
            <a:ext cx="7188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173400" cy="3390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tomy and Phys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447920"/>
            <a:ext cx="48765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ur cha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rteries – away from the he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eins – toward the he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6027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ow the Heart Pumps Bl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C Skill 10-1 Shock Management (g)    Provide for rapid transport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Copyright Selk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3960" y="1117440"/>
            <a:ext cx="82296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74120" y="52689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rly recognition!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ly recognition of the potential for shock is essential in reducing the number of deaths from this condi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Shock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797040" indent="-797040">
              <a:spcBef>
                <a:spcPts val="700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lure of the circulatory system to maintain adequate blood flow to t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7040" indent="-797040">
              <a:spcBef>
                <a:spcPts val="700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s to inadequate tissue perfusion in which cells do not receive sufficient  O2 &amp; nutr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74120" y="52689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124080" y="3733920"/>
            <a:ext cx="251460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nsated shock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ompensated sh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eversible sh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term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chypnea &amp; tachycard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74120" y="52689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ovolem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from a critical decrease in circulating blood vol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d by a loss of circulating blood or internal body wa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74120" y="52689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diogen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art cannot adequately pump blo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fect occurs within the heart itsel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37160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ood vessels lose their ability to constrict appropriat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subtypes: septic, anaphylactic, neurogen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121932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used by an infection known as sep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phylac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vere allergic rea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gen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used by disruptions of the C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62320" y="472428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46080"/>
            <a:ext cx="678204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Sh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447920"/>
            <a:ext cx="739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d71a21"/>
              </a:buClr>
              <a:buSzPct val="68000"/>
              <a:buFont typeface="Web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tructive sh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nsion pneumothor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icardial tampona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5e9d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lmonary embo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2768400" cy="333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8:17:53Z</dcterms:created>
  <dc:creator>MMS</dc:creator>
  <dc:description/>
  <dc:language>en-US</dc:language>
  <cp:lastModifiedBy>Danielle Fahoome</cp:lastModifiedBy>
  <dcterms:modified xsi:type="dcterms:W3CDTF">2011-10-08T11:53:53Z</dcterms:modified>
  <cp:revision>131</cp:revision>
  <dc:subject/>
  <dc:title>Slide 1</dc:title>
</cp:coreProperties>
</file>