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1210C-97A0-4673-B05F-20911BA7FCAD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B06D28-55F5-46C4-BA5F-91DBD97DF8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A13E2-2A1B-43FD-BF7E-1C973FDF76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 of pertinant drug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a-blockers: limit the heart’s ability to beat fa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coaagulant – blood thinner, prevents blood from clot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Poin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st the classic signs and symptoms of shoc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Primary assessment/ABCD’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apid transport, 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igh flow 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Keep patient warm and dry to prevent heat lo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ead lower than f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5720A-B895-4BBC-AC28-2547FD77DF9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a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Assess scene safety and initiate Standard Precaution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1822E-1809-4744-B41A-AAC7FDD84F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b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erform a primary assessment. Assess ABCDs and correct any problems found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9DBB57-85D9-42BE-B29D-3EB35A117CA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c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Call for help and arrange for transport that includes AL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A9B9D-872A-483F-B97E-DE4544AD72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d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Monitor the airway and administer high-flow oxygen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BFAD3-3A40-4A09-975F-234F1F07987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e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To prevent heat loss, keep the patient warm and dry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F04CD-9559-48B8-9E38-1CCBC3326E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f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lace the patient with the head lower than the feet while maintaining spinal integrity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D4721-D2FC-4819-86B7-E5138EC846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rt – muscular organ that pumps blood throughout the body via blood vess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ded into four chambers – right &amp; left upper chambers called atria/ right and left lower chambers called ventric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Right side pumps blood to the lungs &amp; the left pumps blood to the rest of the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Veins take oxygen-depleted blood from the tissues &amp; deliver it to the superior and inferior vena cava (largest veins in the body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ight atrium receives blood from the venae cave and pumps it through a one-way valve into the right ventri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en blood passes through another one-way valve into the pulmonary arteries and on to the lungs for oxygen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e left atrium recieves O2-rich blood from the lungs and delivers it through a valve to the left ventri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is 02-rich blood is then pumped into the aorta and then out into the art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Arteries carry oxygenated blood to the tiss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Capillary – exchange site between blood and tissu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eart is regulated by pacemak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g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rovide for rapid transpor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elk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4CC86-71FF-48EF-9293-0C6A8CE805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A3238-5CD9-4889-B4AA-967861DF58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685800" y="4343400"/>
            <a:ext cx="54864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Poin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 and contrast the three stages of shoc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ensated shock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ody’s ability to maintain blood perfusion to vital tissues under conditions that, if left uncorrected, would inevitably lead to de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The body’s ability to do this (compensate for shock) can mask serious conditions &amp; give you a false im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idence: tachycardia (heart rate greater than 100bpm), tachypnea (resp. rate greater than 20 rpm), delayed cap refill, cool skin, altered mental status &amp; normal B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mpensated shock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fusion hasn’t been restored, cellular hypoxia will continue, body’s systems begin to fa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rt rate will continue to rise, systolic BP will begin to fall, respirations may become shallow, skin pale or cyanotic &amp; cool/moist, cap refill issues, LOR decrease, et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reversible sho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s die, tissues die, organs die, organ system failure &amp; de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ter loss can occur with severe burns, dehydrating, excessive vomiting, etc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CB1045-F843-4853-A43C-7150FE31A3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valve problems, heart attack, slow or fast heart rates, medication, trauma to he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sodilation – results in reduced blood pressure &amp; cellular hypox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A6B93-3196-4304-81E3-B9554B0D7B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structive Sho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esults when some type of blockage prevents oxygenated blood from reaching vital org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nsion pneumothorax: air in the pleural space results in the collapse of the lung on the affected side and can compress the he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icardial tamponade: fluid fills the sac around the heart, compressing it and impairing its pumping 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lmonary embolism: blood clot in the pulmonary circulation reduces blood flow to lung tiss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9FF7-F1B8-4441-89F8-0E96209EF7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132D-27B3-42D9-9B4E-0F66885B3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E570-BB77-4CA3-8E6F-C56E9F9D74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9E78-E570-4688-A35F-B10B2A0995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4ED1-1F01-4522-A97C-28E7C466D0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7B24-168B-4E90-99B9-2E1F49180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CBB9-BF59-407A-B9C4-912C6389E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BFEB-C5FA-4B42-B6A5-8ED84A9AB8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9E5F-B3C4-45CC-9CD4-4AF3D8173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EA06-9F9D-4381-B16A-F6AD56A69F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C0EF-D0B0-441A-A284-486289F7B1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E4A8-5A89-4594-BAC4-89A490F9FF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244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396120"/>
            <a:ext cx="357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Ski Patrol,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utdoor Emergency Care, 5t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2012 by Pearson Education, Inc., Upper Saddle River, N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6680" y="1143000"/>
            <a:ext cx="6782040" cy="76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4160" y="5562720"/>
            <a:ext cx="135756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237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4CD1F-D169-4034-A09F-61FA76548767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486400" y="6396120"/>
            <a:ext cx="357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Ski Patrol,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door Emergency Care, 5th Ed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2012 by Pearson Education, Inc., Upper Saddle River, N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61920" y="6210360"/>
            <a:ext cx="101916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244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37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RA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JA0Wb3gb4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3124080"/>
            <a:ext cx="6867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9200" y="1828800"/>
            <a:ext cx="6867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illness or inj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existing medical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d-altering substances or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cription or over-the-counter (OTC)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ient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371600"/>
            <a:ext cx="73915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ene size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ues; suggestion possible sh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 sig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car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pn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le, cool, diaphoretic sk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ed mental statu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ient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flow oxy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to homeosta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 in shock 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in head down 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2452680"/>
            <a:ext cx="6934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10-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ck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a)    Assess scene safety and initiate Standard Precautions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3960" y="1116000"/>
            <a:ext cx="82296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b)    Perform a primary assessment. Assess ABCDs and correct any problems found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55520" y="1089000"/>
            <a:ext cx="7026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c)    Call for help and arrange for transport that includes ALS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8480" y="1089000"/>
            <a:ext cx="7540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d)    Monitor the airway and administer high-flow oxygen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63680" y="1089000"/>
            <a:ext cx="6410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e)    To prevent heat loss, keep the patient warm and dry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640" y="1089000"/>
            <a:ext cx="8166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f)    Place the patient with the head lower than the feet while maintaining spinal integrity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4880" y="1089000"/>
            <a:ext cx="7188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173400" cy="339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447920"/>
            <a:ext cx="4876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cha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teries – away from the he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ins – toward the he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6027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ow the Heart Pumps Bl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g)    Provide for rapid transport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elk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3960" y="1117440"/>
            <a:ext cx="8229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rly recognition!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recognition of the potential for shock is essential in reducing the number of deaths from this condi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Shock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97040" indent="-797040">
              <a:spcBef>
                <a:spcPts val="700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of the circulatory system to maintain adequate blood flow to t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797040">
              <a:spcBef>
                <a:spcPts val="700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s to inadequate tissue perfusion in which cells do not receive sufficient  O2 &amp; nutr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51460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ed shoc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ensated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eversible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term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pnea &amp; tachycar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vole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from a critical decrease in circulating blood 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d by a loss of circulating blood or internal body w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ge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rt cannot adequately pump bl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fect occurs within the heart itse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ood vessels lose their ability to constrict appropria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subtypes: septic, anaphylactic, neuroge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121932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an infection known as sep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ylac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vere allergic re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gen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disruptions of the C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44792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tructive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sion pneumothor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cardial tampon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768400" cy="33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8:17:53Z</dcterms:created>
  <dc:creator>MMS</dc:creator>
  <dc:description/>
  <dc:language>en-US</dc:language>
  <cp:lastModifiedBy>Danielle Fahoome</cp:lastModifiedBy>
  <dcterms:modified xsi:type="dcterms:W3CDTF">2011-10-08T11:53:53Z</dcterms:modified>
  <cp:revision>131</cp:revision>
  <dc:subject/>
  <dc:title>Slide 1</dc:title>
</cp:coreProperties>
</file>