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659-6E44-4F82-B87B-BC14C8C7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A33-402A-4FDB-9F32-95EE6A18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3C1-3ECC-4AC6-99AE-3973BC99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B81-9B6A-4D4F-ADE0-9D15C860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DFB-43FD-4BC3-81C3-FE8E34CF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242-B78E-466F-8996-F7EBB5A0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B4A-C627-433A-93AF-5F0368C5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888-4907-41DC-82D5-F8B6AA53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9E6-7680-415E-B12D-D45D1B6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BB3-1A63-48C2-8B59-20693EE9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6D9-E7E7-43B5-A727-B315509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AE6-4B07-428D-8311-E5B306A6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4A0B-01B0-408B-A928-8C9C27E3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LO 4.1 – showing wrong colo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Edwin Guenthner</cp:lastModifiedBy>
  <dcterms:modified xsi:type="dcterms:W3CDTF">2013-08-27T07:11:39Z</dcterms:modified>
  <cp:revision>1</cp:revision>
  <dc:subject/>
  <dc:title>LO 4.1 – showing wrong colors!</dc:title>
</cp:coreProperties>
</file>