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FAD-9DA6-4BD2-9BB1-5C1A8D8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AA2-1044-4D2D-9756-36A44BA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7DD-B584-4FA1-B2EB-63E6BDF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BC6-56E0-4EB6-B444-AC1CF2C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1DE-0468-4E90-9B8B-D85F6A15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6F5-72BA-4743-B694-F499EEE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C91-24F9-4523-B612-E03F568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680-5EC3-416F-91E2-B55BDB26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2A0-016C-4F89-94AB-657CF58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0BE-97CF-455A-B785-62D397C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A80-8D2D-4867-B5F8-47D18ED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9B8-58B7-4CFA-A57A-A99E052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F58-F5C1-4EA7-9167-63D0538F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 4.1 – showing wrong colo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Edwin Guenthner</cp:lastModifiedBy>
  <dcterms:modified xsi:type="dcterms:W3CDTF">2013-08-27T07:11:39Z</dcterms:modified>
  <cp:revision>1</cp:revision>
  <dc:subject/>
  <dc:title>LO 4.1 – showing wrong colors!</dc:title>
</cp:coreProperties>
</file>