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move the slide</a:t>
            </a:r>
            <a:endParaRPr b="1" lang="en-US" sz="4400" spc="-1" strike="noStrike">
              <a:solidFill>
                <a:srgbClr val="eb613d"/>
              </a:solidFill>
              <a:latin typeface="Arial"/>
            </a:endParaRPr>
          </a:p>
        </p:txBody>
      </p:sp>
      <p:sp>
        <p:nvSpPr>
          <p:cNvPr id="52"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3"/>
          <p:cNvSpPr>
            <a:spLocks noGrp="1"/>
          </p:cNvSpPr>
          <p:nvPr>
            <p:ph type="hdr"/>
          </p:nvPr>
        </p:nvSpPr>
        <p:spPr>
          <a:xfrm>
            <a:off x="-360" y="0"/>
            <a:ext cx="3267000" cy="52056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4" name="PlaceHolder 4"/>
          <p:cNvSpPr>
            <a:spLocks noGrp="1"/>
          </p:cNvSpPr>
          <p:nvPr>
            <p:ph type="dt" idx="4"/>
          </p:nvPr>
        </p:nvSpPr>
        <p:spPr>
          <a:xfrm>
            <a:off x="4277880" y="0"/>
            <a:ext cx="3267000" cy="52056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5" name="PlaceHolder 5"/>
          <p:cNvSpPr>
            <a:spLocks noGrp="1"/>
          </p:cNvSpPr>
          <p:nvPr>
            <p:ph type="ftr" idx="5"/>
          </p:nvPr>
        </p:nvSpPr>
        <p:spPr>
          <a:xfrm>
            <a:off x="-360" y="10155240"/>
            <a:ext cx="3267000" cy="52056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 name="PlaceHolder 6"/>
          <p:cNvSpPr>
            <a:spLocks noGrp="1"/>
          </p:cNvSpPr>
          <p:nvPr>
            <p:ph type="sldNum" idx="6"/>
          </p:nvPr>
        </p:nvSpPr>
        <p:spPr>
          <a:xfrm>
            <a:off x="4277880" y="10155240"/>
            <a:ext cx="3267000" cy="5205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6BED12-EDBC-42E3-A7A0-42ED3F511647}" type="slidenum">
              <a:rPr b="0" lang="bg-BG"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38440" cy="4002120"/>
          </a:xfrm>
          <a:prstGeom prst="rect">
            <a:avLst/>
          </a:prstGeom>
          <a:ln w="0">
            <a:noFill/>
          </a:ln>
        </p:spPr>
      </p:sp>
      <p:sp>
        <p:nvSpPr>
          <p:cNvPr id="9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50DA2-48CE-49F0-B718-0BFDA252A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8" name="PlaceHolder 2"/>
          <p:cNvSpPr>
            <a:spLocks noGrp="1"/>
          </p:cNvSpPr>
          <p:nvPr>
            <p:ph/>
          </p:nvPr>
        </p:nvSpPr>
        <p:spPr>
          <a:xfrm>
            <a:off x="720720" y="176796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F461-57BD-45C9-83E5-28EC52F6C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1"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5"/>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E81B-E1F9-4A65-A81D-CA699DDF9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6" name="PlaceHolder 2"/>
          <p:cNvSpPr>
            <a:spLocks noGrp="1"/>
          </p:cNvSpPr>
          <p:nvPr>
            <p:ph/>
          </p:nvPr>
        </p:nvSpPr>
        <p:spPr>
          <a:xfrm>
            <a:off x="72072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37101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66999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72072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6"/>
          <p:cNvSpPr>
            <a:spLocks noGrp="1"/>
          </p:cNvSpPr>
          <p:nvPr>
            <p:ph/>
          </p:nvPr>
        </p:nvSpPr>
        <p:spPr>
          <a:xfrm>
            <a:off x="37101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7"/>
          <p:cNvSpPr>
            <a:spLocks noGrp="1"/>
          </p:cNvSpPr>
          <p:nvPr>
            <p:ph/>
          </p:nvPr>
        </p:nvSpPr>
        <p:spPr>
          <a:xfrm>
            <a:off x="66999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5167-C295-4950-BBAC-83C26D110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7" name="PlaceHolder 2"/>
          <p:cNvSpPr>
            <a:spLocks noGrp="1"/>
          </p:cNvSpPr>
          <p:nvPr>
            <p:ph type="subTitle"/>
          </p:nvPr>
        </p:nvSpPr>
        <p:spPr>
          <a:xfrm>
            <a:off x="720720" y="1767960"/>
            <a:ext cx="8842320" cy="5064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C5D1-EF55-4589-B7D9-75F5705A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9" name="PlaceHolder 2"/>
          <p:cNvSpPr>
            <a:spLocks noGrp="1"/>
          </p:cNvSpPr>
          <p:nvPr>
            <p:ph/>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60A4-3546-4B23-BA46-6A6B30AD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1"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1230-D032-4FE6-93C1-ECB83E48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62AC-7AF2-4423-9AD5-F833EF8A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155160"/>
            <a:ext cx="9172800" cy="6123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9B116-12BA-4E8A-86A7-7DC0B0765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6"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2B88-AEB1-4C8F-AC80-C518697B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0"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4"/>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FE89-5078-493F-BB14-9E1CE71E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4"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4"/>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27A7-9407-4BF9-B03E-D60493C94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3080"/>
            <a:ext cx="10078920" cy="7632720"/>
          </a:xfrm>
          <a:prstGeom prst="rect">
            <a:avLst/>
          </a:prstGeom>
          <a:ln w="0">
            <a:noFill/>
          </a:ln>
        </p:spPr>
      </p:pic>
      <p:sp>
        <p:nvSpPr>
          <p:cNvPr id="1"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edit the title text format</a:t>
            </a:r>
            <a:endParaRPr b="1" lang="en-US" sz="4400" spc="-1" strike="noStrike">
              <a:solidFill>
                <a:srgbClr val="eb613d"/>
              </a:solidFill>
              <a:latin typeface="Arial"/>
            </a:endParaRPr>
          </a:p>
        </p:txBody>
      </p:sp>
      <p:sp>
        <p:nvSpPr>
          <p:cNvPr id="2" name="PlaceHolder 2"/>
          <p:cNvSpPr>
            <a:spLocks noGrp="1"/>
          </p:cNvSpPr>
          <p:nvPr>
            <p:ph type="body"/>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2AFC67-73E1-4768-8AF6-C02775E755C5}" type="slidenum">
              <a:rPr b="0" lang="bg-BG"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20520" y="2250720"/>
            <a:ext cx="8404200" cy="17542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6000" spc="-1" strike="noStrike">
                <a:solidFill>
                  <a:srgbClr val="eb613d"/>
                </a:solidFill>
                <a:latin typeface="Arial"/>
              </a:rPr>
              <a:t>Някои идеи за успешни продажби</a:t>
            </a:r>
            <a:endParaRPr b="1" lang="en-US" sz="6000" spc="-1" strike="noStrike">
              <a:solidFill>
                <a:srgbClr val="eb613d"/>
              </a:solidFill>
              <a:latin typeface="Arial"/>
            </a:endParaRPr>
          </a:p>
        </p:txBody>
      </p:sp>
      <p:sp>
        <p:nvSpPr>
          <p:cNvPr id="58" name=""/>
          <p:cNvSpPr/>
          <p:nvPr/>
        </p:nvSpPr>
        <p:spPr>
          <a:xfrm>
            <a:off x="3959280" y="4680000"/>
            <a:ext cx="2124000" cy="487440"/>
          </a:xfrm>
          <a:prstGeom prst="rect">
            <a:avLst/>
          </a:prstGeom>
          <a:noFill/>
          <a:ln w="0">
            <a:noFill/>
          </a:ln>
        </p:spPr>
        <p:style>
          <a:lnRef idx="0"/>
          <a:fillRef idx="0"/>
          <a:effectRef idx="0"/>
          <a:fontRef idx="minor"/>
        </p:style>
        <p:txBody>
          <a:bodyPr wrap="none" lIns="90000" rIns="90000" tIns="69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Black"/>
              </a:rPr>
              <a:t>К. Иванов</a:t>
            </a:r>
            <a:endParaRPr b="0" lang="en-US" sz="28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02920" y="2195640"/>
            <a:ext cx="9070920" cy="4970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върде много продавачи прибързват да разкажат своята история за продукта. Макар, че повечето хора търсят решение, продавачите им говорят за продукта. Понеже са склонни повече да говорят, отколкото да слушат, те правят небалансирано предложение (вместо 50/50) относно това, какво дават и какво ще искат насреща.</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Като цяло, качеството на подготовката и умението за разпитване не са измерими. Повечето търговски организации имат добри търговци, но им липсват превъзходни търговци, такива, които могат да предизвикат растежа, нужен им за успех.</a:t>
            </a:r>
            <a:endParaRPr b="0" lang="en-US" sz="2800" spc="-1" strike="noStrike">
              <a:solidFill>
                <a:srgbClr val="000000"/>
              </a:solidFill>
              <a:latin typeface="Arial"/>
            </a:endParaRPr>
          </a:p>
        </p:txBody>
      </p:sp>
      <p:sp>
        <p:nvSpPr>
          <p:cNvPr id="60" name="PlaceHolder 2"/>
          <p:cNvSpPr>
            <a:spLocks noGrp="1"/>
          </p:cNvSpPr>
          <p:nvPr>
            <p:ph type="title"/>
          </p:nvPr>
        </p:nvSpPr>
        <p:spPr>
          <a:xfrm>
            <a:off x="502920" y="-44640"/>
            <a:ext cx="9070920" cy="2531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леди как говориш за продажба! Контролирай  какво даваш и какво получаваш в замяна!</a:t>
            </a:r>
            <a:endParaRPr b="1" lang="en-US" sz="4400" spc="-1" strike="noStrike">
              <a:solidFill>
                <a:srgbClr val="eb613d"/>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716360" y="1695600"/>
            <a:ext cx="5005440" cy="5583240"/>
          </a:xfrm>
          <a:prstGeom prst="rect">
            <a:avLst/>
          </a:prstGeom>
          <a:noFill/>
          <a:ln w="0">
            <a:noFill/>
          </a:ln>
        </p:spPr>
        <p:style>
          <a:lnRef idx="0"/>
          <a:fillRef idx="0"/>
          <a:effectRef idx="0"/>
          <a:fontRef idx="minor"/>
        </p:style>
        <p:txBody>
          <a:bodyPr lIns="0" rIns="0" tIns="28080" bIns="0" anchor="t">
            <a:noAutofit/>
          </a:bodyPr>
          <a:p>
            <a:pPr marL="343080" indent="-335160" algn="just">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bg-BG" sz="2800" spc="-1" strike="noStrike">
                <a:solidFill>
                  <a:srgbClr val="000000"/>
                </a:solidFill>
                <a:latin typeface="Arial"/>
              </a:rPr>
              <a:t> </a:t>
            </a:r>
            <a:r>
              <a:rPr b="0" lang="bg-BG" sz="2800" spc="-1" strike="noStrike">
                <a:solidFill>
                  <a:srgbClr val="000000"/>
                </a:solidFill>
                <a:latin typeface="Arial"/>
              </a:rPr>
              <a:t>Колкото повече всичко друго се променя, толкова по-безполезни стават старите формули за продажби, чрез изтъкване свойствата на продукта и ползите от него. Но този подход все още се среща в практиката, за да може тези идеи за продаване да продължават да блокират диалога и за да пречат на добрите търгов-ци, да станат превъзходни продавачи.</a:t>
            </a:r>
            <a:endParaRPr b="0" lang="en-US" sz="2800" spc="-1" strike="noStrike">
              <a:solidFill>
                <a:srgbClr val="000000"/>
              </a:solidFill>
              <a:latin typeface="Arial"/>
            </a:endParaRPr>
          </a:p>
        </p:txBody>
      </p:sp>
      <p:pic>
        <p:nvPicPr>
          <p:cNvPr id="62" name="" descr=""/>
          <p:cNvPicPr/>
          <p:nvPr/>
        </p:nvPicPr>
        <p:blipFill>
          <a:blip r:embed=""/>
          <a:stretch/>
        </p:blipFill>
        <p:spPr>
          <a:xfrm>
            <a:off x="231840" y="2271600"/>
            <a:ext cx="4627440" cy="3965760"/>
          </a:xfrm>
          <a:prstGeom prst="rect">
            <a:avLst/>
          </a:prstGeom>
          <a:ln w="0">
            <a:noFill/>
          </a:ln>
        </p:spPr>
      </p:pic>
      <p:sp>
        <p:nvSpPr>
          <p:cNvPr id="63" name="PlaceHolder 1"/>
          <p:cNvSpPr>
            <a:spLocks noGrp="1"/>
          </p:cNvSpPr>
          <p:nvPr>
            <p:ph type="title"/>
          </p:nvPr>
        </p:nvSpPr>
        <p:spPr>
          <a:xfrm>
            <a:off x="1027080" y="271440"/>
            <a:ext cx="8398080" cy="123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енките от миналото ...</a:t>
            </a:r>
            <a:endParaRPr b="1" lang="en-US" sz="4400" spc="-1" strike="noStrike">
              <a:solidFill>
                <a:srgbClr val="eb613d"/>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02920" y="2160720"/>
            <a:ext cx="9070920" cy="53654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Границата между псевдо консултативните продажби и истинските консултативни продажби е тънка, но ако всички останали фактори се окажат приблизително еднакви, тази линия означава разликата между печелившия бизнес и загубата на сделки отишли при конкурентите.</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ова е факторът, който определя дали Ви възприемат само като технически специалист или като доверен съветник. При относително равностойни конкуренти, начинът на говорене на търговеца или на екипа от търговци, е с решаващо значение за спечелването или загубата на сделката.</a:t>
            </a:r>
            <a:endParaRPr b="0" lang="en-US" sz="2800" spc="-1" strike="noStrike">
              <a:solidFill>
                <a:srgbClr val="000000"/>
              </a:solidFill>
              <a:latin typeface="Arial"/>
            </a:endParaRPr>
          </a:p>
        </p:txBody>
      </p:sp>
      <p:sp>
        <p:nvSpPr>
          <p:cNvPr id="65" name="PlaceHolder 2"/>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Разшири диалога си за продажба, за да увеличиш продажбите си!</a:t>
            </a:r>
            <a:endParaRPr b="1" lang="en-US" sz="4400" spc="-1" strike="noStrike">
              <a:solidFill>
                <a:srgbClr val="eb613d"/>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5640" y="936360"/>
            <a:ext cx="8809200" cy="61592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подготвяйте материалите, които считате, че ще са Ви необходими и внимателно прецизирайте всичко друго, което искате да дадете на клиента, така че те да отговарят точно на особеностите на съответния клиент.</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глеждайте плана си за вербуване на клиента, за да сте сигурен, че през цялото време ще бъдете фокусирани върху клиента. Винаги, когато е възможно, още преди да му се обадите, имайте в предвид мнението на клиента в своя план. Но дори и да ползвате неговото мнение, постоянно контролирайте и нагаждайте плана си, като своевременно отразявате получената обратна информация, нужна, за да накарате клиента да купува.     </a:t>
            </a:r>
            <a:endParaRPr b="0" lang="en-US" sz="28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484000" y="624960"/>
            <a:ext cx="7380360" cy="612468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Ето няколко идеи, как да подготвяте срещите с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се подготвяйте за всяко обаждане на клиент. Поставете си измерими цели с точни срокове за всяко едно обаждане. Това ще Ви помогне да поддържате ефективността си и да увеличавате броя на сключените сделки. </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цизно преценявайте всички материали. Демонстрирайте на клиента, че сте фокусирани върху неговите нужд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ставете си своето обаждане, планирайте го и го организирайте така, че клиентът да може да говори </a:t>
            </a:r>
            <a:endParaRPr b="0" lang="en-US" sz="2800" spc="-1" strike="noStrike">
              <a:solidFill>
                <a:srgbClr val="000000"/>
              </a:solidFill>
              <a:latin typeface="Arial"/>
            </a:endParaRPr>
          </a:p>
        </p:txBody>
      </p:sp>
      <p:pic>
        <p:nvPicPr>
          <p:cNvPr id="68" name="" descr=""/>
          <p:cNvPicPr/>
          <p:nvPr/>
        </p:nvPicPr>
        <p:blipFill>
          <a:blip r:embed=""/>
          <a:stretch/>
        </p:blipFill>
        <p:spPr>
          <a:xfrm>
            <a:off x="533520" y="4189320"/>
            <a:ext cx="1734840" cy="230508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9540720" cy="1874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Перфектните продавачи се създават, а не се раждат такива.</a:t>
            </a:r>
            <a:endParaRPr b="1" lang="en-US" sz="4400" spc="-1" strike="noStrike">
              <a:solidFill>
                <a:srgbClr val="eb613d"/>
              </a:solidFill>
              <a:latin typeface="Arial"/>
            </a:endParaRPr>
          </a:p>
        </p:txBody>
      </p:sp>
      <p:sp>
        <p:nvSpPr>
          <p:cNvPr id="70" name="PlaceHolder 2"/>
          <p:cNvSpPr>
            <a:spLocks noGrp="1"/>
          </p:cNvSpPr>
          <p:nvPr>
            <p:ph/>
          </p:nvPr>
        </p:nvSpPr>
        <p:spPr>
          <a:xfrm>
            <a:off x="468000" y="1979280"/>
            <a:ext cx="9070920" cy="52196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одажбата чрез диалог изисква знания за продукта и техническа компетентност, но заедно с това, в не по-малка степен трябва да имате висока компетентност и умения за клиентите. При продажбите чрез диалог, продавачът става ценен ресурс, понеже напълно разбира конкретните нужди на клиента, може да открие онези нужди, които са свързани с неговия продукт, а освен това, умее да открива и да удовлетворява чрез кръстосани продажби (cross sell) широкия спектър от нужди и интереси на клиентите.</a:t>
            </a:r>
            <a:endParaRPr b="0" lang="en-US" sz="28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280" y="1768320"/>
            <a:ext cx="9029880" cy="501192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да имате успех в продажбите чрез диалог, трябва перфектно да владеете и постоянно да усъвършенствате 6-те особено важни умения:</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a:t>
            </a:r>
            <a:r>
              <a:rPr b="1" lang="bg-BG" sz="2800" spc="-1" strike="noStrike">
                <a:solidFill>
                  <a:srgbClr val="000000"/>
                </a:solidFill>
                <a:latin typeface="Arial"/>
              </a:rPr>
              <a:t>присъстви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връзка (комуникативност и сближа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разпит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слуш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заемане на позиция,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умения за контрол и проверки</a:t>
            </a:r>
            <a:r>
              <a:rPr b="0" lang="bg-BG"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1</a:t>
            </a:r>
            <a:endParaRPr b="1" lang="en-US" sz="4400" spc="-1" strike="noStrike">
              <a:solidFill>
                <a:srgbClr val="eb613d"/>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2</a:t>
            </a:r>
            <a:endParaRPr b="1" lang="en-US" sz="4400" spc="-1" strike="noStrike">
              <a:solidFill>
                <a:srgbClr val="eb613d"/>
              </a:solidFill>
              <a:latin typeface="Arial"/>
            </a:endParaRPr>
          </a:p>
        </p:txBody>
      </p:sp>
      <p:sp>
        <p:nvSpPr>
          <p:cNvPr id="74" name="PlaceHolder 2"/>
          <p:cNvSpPr>
            <a:spLocks noGrp="1"/>
          </p:cNvSpPr>
          <p:nvPr>
            <p:ph/>
          </p:nvPr>
        </p:nvSpPr>
        <p:spPr>
          <a:xfrm>
            <a:off x="647280" y="1802880"/>
            <a:ext cx="9029880" cy="5365800"/>
          </a:xfrm>
          <a:prstGeom prst="rect">
            <a:avLst/>
          </a:prstGeom>
          <a:noFill/>
          <a:ln w="0">
            <a:noFill/>
          </a:ln>
        </p:spPr>
        <p:txBody>
          <a:bodyPr lIns="0" rIns="0" tIns="28080" bIns="0" anchor="t">
            <a:normAutofit/>
          </a:bodyPr>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Наблягайте на тези умения.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Открийте силните и слабите си страни и непрекъснато се усъвършенствайте в тази област.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ъсредоточавайте се върху тях, едно по едно и ги „полирайте и шлифовайте“ неуморно! Постоянно работете за овладяването им във възможно по-висока степен.</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Бъдете самокритични.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лед края на всяко обаждане или среща, преглеждайте критично своето представяне и своите умения, както и хода на самия контакт.</a:t>
            </a:r>
            <a:endParaRPr b="0" lang="en-US" sz="28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9:51Z</dcterms:created>
  <dc:creator>Krasimir Ivanov</dc:creator>
  <dc:description/>
  <dc:language>en-US</dc:language>
  <cp:lastModifiedBy>Krasimir Ivanov</cp:lastModifiedBy>
  <dcterms:modified xsi:type="dcterms:W3CDTF">2008-10-10T20:20:20Z</dcterms:modified>
  <cp:revision>18</cp:revision>
  <dc:subject/>
  <dc:title/>
</cp:coreProperties>
</file>