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6800"/>
                </a:solidFill>
                <a:latin typeface="Century Gothic"/>
              </a:rPr>
              <a:t>Click to move the slide</a:t>
            </a:r>
            <a:endParaRPr b="0" lang="en-US" sz="3200" spc="-1" strike="noStrike">
              <a:solidFill>
                <a:srgbClr val="ff6800"/>
              </a:solidFill>
              <a:latin typeface="Century Gothic"/>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9C0F-B731-430A-B670-8C8B186BD98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380880" y="685800"/>
            <a:ext cx="609624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peaker No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nalysis of overall Northwind sales in 2011 shows that Contoso-produced Northwind brand products are making up an increasing share of overall sa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me example is 3D TVs, which saw a marked increase to 60% of overall Northwind 3D TV sales in 2011.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look at 3D TV Sales over 2010 and 2011, we can clearly the overall trend of customers increasingly choosing Northwind brand 3D TV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half of 2010, Contoso brand 3D TVs made up just 27% of overall 3D TV sa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y the end of the first half of 2011, that had increased to 4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2011, it had increased to just over 60%.</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for Contoso is to meet growing demand before competitors enter the market with similar products, but not to overspend on new infrastructure. In other words, Contoso must increase capacity while minimizing expansion costs in order to gain a rapid return on investment (ROI).</a:t>
            </a:r>
            <a:r>
              <a:rPr b="0" lang="en-US" sz="1200" spc="-1" strike="noStrike">
                <a:solidFill>
                  <a:srgbClr val="000000"/>
                </a:solidFill>
                <a:latin typeface="Cambria Math"/>
              </a:rPr>
              <a:t>"Type equation her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DF57-8E34-4C0B-8610-1579D2E7F93E}" type="slidenum">
              <a:rPr b="0" lang="en-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0063A4-3EDD-40EE-A8BD-3D66849482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29" name="PlaceHolder 2"/>
          <p:cNvSpPr>
            <a:spLocks noGrp="1"/>
          </p:cNvSpPr>
          <p:nvPr>
            <p:ph/>
          </p:nvPr>
        </p:nvSpPr>
        <p:spPr>
          <a:xfrm>
            <a:off x="836640" y="193824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0" name="PlaceHolder 3"/>
          <p:cNvSpPr>
            <a:spLocks noGrp="1"/>
          </p:cNvSpPr>
          <p:nvPr>
            <p:ph/>
          </p:nvPr>
        </p:nvSpPr>
        <p:spPr>
          <a:xfrm>
            <a:off x="836640" y="429660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6D4D8E-DC9A-461E-AFB4-28D190A3C7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32"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3"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4" name="PlaceHolder 4"/>
          <p:cNvSpPr>
            <a:spLocks noGrp="1"/>
          </p:cNvSpPr>
          <p:nvPr>
            <p:ph/>
          </p:nvPr>
        </p:nvSpPr>
        <p:spPr>
          <a:xfrm>
            <a:off x="83664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5" name="PlaceHolder 5"/>
          <p:cNvSpPr>
            <a:spLocks noGrp="1"/>
          </p:cNvSpPr>
          <p:nvPr>
            <p:ph/>
          </p:nvPr>
        </p:nvSpPr>
        <p:spPr>
          <a:xfrm>
            <a:off x="622980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0D8E71-0000-48B4-9C66-274686BB42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37" name="PlaceHolder 2"/>
          <p:cNvSpPr>
            <a:spLocks noGrp="1"/>
          </p:cNvSpPr>
          <p:nvPr>
            <p:ph/>
          </p:nvPr>
        </p:nvSpPr>
        <p:spPr>
          <a:xfrm>
            <a:off x="83664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8" name="PlaceHolder 3"/>
          <p:cNvSpPr>
            <a:spLocks noGrp="1"/>
          </p:cNvSpPr>
          <p:nvPr>
            <p:ph/>
          </p:nvPr>
        </p:nvSpPr>
        <p:spPr>
          <a:xfrm>
            <a:off x="439524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9" name="PlaceHolder 4"/>
          <p:cNvSpPr>
            <a:spLocks noGrp="1"/>
          </p:cNvSpPr>
          <p:nvPr>
            <p:ph/>
          </p:nvPr>
        </p:nvSpPr>
        <p:spPr>
          <a:xfrm>
            <a:off x="795348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0" name="PlaceHolder 5"/>
          <p:cNvSpPr>
            <a:spLocks noGrp="1"/>
          </p:cNvSpPr>
          <p:nvPr>
            <p:ph/>
          </p:nvPr>
        </p:nvSpPr>
        <p:spPr>
          <a:xfrm>
            <a:off x="83664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1" name="PlaceHolder 6"/>
          <p:cNvSpPr>
            <a:spLocks noGrp="1"/>
          </p:cNvSpPr>
          <p:nvPr>
            <p:ph/>
          </p:nvPr>
        </p:nvSpPr>
        <p:spPr>
          <a:xfrm>
            <a:off x="439524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2" name="PlaceHolder 7"/>
          <p:cNvSpPr>
            <a:spLocks noGrp="1"/>
          </p:cNvSpPr>
          <p:nvPr>
            <p:ph/>
          </p:nvPr>
        </p:nvSpPr>
        <p:spPr>
          <a:xfrm>
            <a:off x="795348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58CB2C-C4DD-43C4-82C2-B1295013CB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B89294C-A332-42B9-B8B1-6DB7B9DA36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52" name="PlaceHolder 2"/>
          <p:cNvSpPr>
            <a:spLocks noGrp="1"/>
          </p:cNvSpPr>
          <p:nvPr>
            <p:ph type="subTitle"/>
          </p:nvPr>
        </p:nvSpPr>
        <p:spPr>
          <a:xfrm>
            <a:off x="836640" y="1938240"/>
            <a:ext cx="10524960" cy="4515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A34D62-ECCE-4A06-AA8E-A56B62B583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54" name="PlaceHolder 2"/>
          <p:cNvSpPr>
            <a:spLocks noGrp="1"/>
          </p:cNvSpPr>
          <p:nvPr>
            <p:ph/>
          </p:nvPr>
        </p:nvSpPr>
        <p:spPr>
          <a:xfrm>
            <a:off x="836640" y="1938240"/>
            <a:ext cx="1052496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E4F3F7-526A-4ABA-B8F3-7CD3C322A9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56" name="PlaceHolder 2"/>
          <p:cNvSpPr>
            <a:spLocks noGrp="1"/>
          </p:cNvSpPr>
          <p:nvPr>
            <p:ph/>
          </p:nvPr>
        </p:nvSpPr>
        <p:spPr>
          <a:xfrm>
            <a:off x="83664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57" name="PlaceHolder 3"/>
          <p:cNvSpPr>
            <a:spLocks noGrp="1"/>
          </p:cNvSpPr>
          <p:nvPr>
            <p:ph/>
          </p:nvPr>
        </p:nvSpPr>
        <p:spPr>
          <a:xfrm>
            <a:off x="622980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CE8B4B-0691-47F8-BEE7-4EA95DFD92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94D47A-B4CF-4F42-AE4B-61591C120C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8080" y="450720"/>
            <a:ext cx="10515600" cy="38059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69105C4-B8FB-4994-A5ED-9133AE7A33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61"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2" name="PlaceHolder 3"/>
          <p:cNvSpPr>
            <a:spLocks noGrp="1"/>
          </p:cNvSpPr>
          <p:nvPr>
            <p:ph/>
          </p:nvPr>
        </p:nvSpPr>
        <p:spPr>
          <a:xfrm>
            <a:off x="622980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3" name="PlaceHolder 4"/>
          <p:cNvSpPr>
            <a:spLocks noGrp="1"/>
          </p:cNvSpPr>
          <p:nvPr>
            <p:ph/>
          </p:nvPr>
        </p:nvSpPr>
        <p:spPr>
          <a:xfrm>
            <a:off x="83664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60182B-66AA-4922-A777-389BB47570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8" name="PlaceHolder 2"/>
          <p:cNvSpPr>
            <a:spLocks noGrp="1"/>
          </p:cNvSpPr>
          <p:nvPr>
            <p:ph type="subTitle"/>
          </p:nvPr>
        </p:nvSpPr>
        <p:spPr>
          <a:xfrm>
            <a:off x="836640" y="1938240"/>
            <a:ext cx="10524960" cy="4515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FB9B5C-8F70-4202-B8AA-D61BEE490F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65" name="PlaceHolder 2"/>
          <p:cNvSpPr>
            <a:spLocks noGrp="1"/>
          </p:cNvSpPr>
          <p:nvPr>
            <p:ph/>
          </p:nvPr>
        </p:nvSpPr>
        <p:spPr>
          <a:xfrm>
            <a:off x="83664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6"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7" name="PlaceHolder 4"/>
          <p:cNvSpPr>
            <a:spLocks noGrp="1"/>
          </p:cNvSpPr>
          <p:nvPr>
            <p:ph/>
          </p:nvPr>
        </p:nvSpPr>
        <p:spPr>
          <a:xfrm>
            <a:off x="622980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74ED99-DAA3-43CC-BA5D-6161B8AABC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69"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0"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1" name="PlaceHolder 4"/>
          <p:cNvSpPr>
            <a:spLocks noGrp="1"/>
          </p:cNvSpPr>
          <p:nvPr>
            <p:ph/>
          </p:nvPr>
        </p:nvSpPr>
        <p:spPr>
          <a:xfrm>
            <a:off x="836640" y="429660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B91E34-AF00-48FB-9E3B-6FE839E741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73" name="PlaceHolder 2"/>
          <p:cNvSpPr>
            <a:spLocks noGrp="1"/>
          </p:cNvSpPr>
          <p:nvPr>
            <p:ph/>
          </p:nvPr>
        </p:nvSpPr>
        <p:spPr>
          <a:xfrm>
            <a:off x="836640" y="193824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4" name="PlaceHolder 3"/>
          <p:cNvSpPr>
            <a:spLocks noGrp="1"/>
          </p:cNvSpPr>
          <p:nvPr>
            <p:ph/>
          </p:nvPr>
        </p:nvSpPr>
        <p:spPr>
          <a:xfrm>
            <a:off x="836640" y="429660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010496-E07D-482D-83C3-87C3D51F9A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76"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7"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8" name="PlaceHolder 4"/>
          <p:cNvSpPr>
            <a:spLocks noGrp="1"/>
          </p:cNvSpPr>
          <p:nvPr>
            <p:ph/>
          </p:nvPr>
        </p:nvSpPr>
        <p:spPr>
          <a:xfrm>
            <a:off x="83664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9" name="PlaceHolder 5"/>
          <p:cNvSpPr>
            <a:spLocks noGrp="1"/>
          </p:cNvSpPr>
          <p:nvPr>
            <p:ph/>
          </p:nvPr>
        </p:nvSpPr>
        <p:spPr>
          <a:xfrm>
            <a:off x="622980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838E65E-1B79-4CB2-99FA-23F5C608C0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81" name="PlaceHolder 2"/>
          <p:cNvSpPr>
            <a:spLocks noGrp="1"/>
          </p:cNvSpPr>
          <p:nvPr>
            <p:ph/>
          </p:nvPr>
        </p:nvSpPr>
        <p:spPr>
          <a:xfrm>
            <a:off x="83664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82" name="PlaceHolder 3"/>
          <p:cNvSpPr>
            <a:spLocks noGrp="1"/>
          </p:cNvSpPr>
          <p:nvPr>
            <p:ph/>
          </p:nvPr>
        </p:nvSpPr>
        <p:spPr>
          <a:xfrm>
            <a:off x="439524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83" name="PlaceHolder 4"/>
          <p:cNvSpPr>
            <a:spLocks noGrp="1"/>
          </p:cNvSpPr>
          <p:nvPr>
            <p:ph/>
          </p:nvPr>
        </p:nvSpPr>
        <p:spPr>
          <a:xfrm>
            <a:off x="7953480" y="193824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84" name="PlaceHolder 5"/>
          <p:cNvSpPr>
            <a:spLocks noGrp="1"/>
          </p:cNvSpPr>
          <p:nvPr>
            <p:ph/>
          </p:nvPr>
        </p:nvSpPr>
        <p:spPr>
          <a:xfrm>
            <a:off x="83664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85" name="PlaceHolder 6"/>
          <p:cNvSpPr>
            <a:spLocks noGrp="1"/>
          </p:cNvSpPr>
          <p:nvPr>
            <p:ph/>
          </p:nvPr>
        </p:nvSpPr>
        <p:spPr>
          <a:xfrm>
            <a:off x="439524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86" name="PlaceHolder 7"/>
          <p:cNvSpPr>
            <a:spLocks noGrp="1"/>
          </p:cNvSpPr>
          <p:nvPr>
            <p:ph/>
          </p:nvPr>
        </p:nvSpPr>
        <p:spPr>
          <a:xfrm>
            <a:off x="7953480" y="4296600"/>
            <a:ext cx="338868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5169610-52BC-438E-A3C2-138F731970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10" name="PlaceHolder 2"/>
          <p:cNvSpPr>
            <a:spLocks noGrp="1"/>
          </p:cNvSpPr>
          <p:nvPr>
            <p:ph/>
          </p:nvPr>
        </p:nvSpPr>
        <p:spPr>
          <a:xfrm>
            <a:off x="836640" y="1938240"/>
            <a:ext cx="1052496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C040AD-D20C-4041-9F2B-637B5A1E54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12" name="PlaceHolder 2"/>
          <p:cNvSpPr>
            <a:spLocks noGrp="1"/>
          </p:cNvSpPr>
          <p:nvPr>
            <p:ph/>
          </p:nvPr>
        </p:nvSpPr>
        <p:spPr>
          <a:xfrm>
            <a:off x="83664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13" name="PlaceHolder 3"/>
          <p:cNvSpPr>
            <a:spLocks noGrp="1"/>
          </p:cNvSpPr>
          <p:nvPr>
            <p:ph/>
          </p:nvPr>
        </p:nvSpPr>
        <p:spPr>
          <a:xfrm>
            <a:off x="622980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01AEF7-EFD1-42A7-AD67-A85B443FA9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F1BEA-9E6B-4BFD-89F7-6E769A72E1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450720"/>
            <a:ext cx="10515600" cy="3805920"/>
          </a:xfrm>
          <a:prstGeom prst="rect">
            <a:avLst/>
          </a:prstGeom>
          <a:noFill/>
          <a:ln w="0">
            <a:noFill/>
          </a:ln>
        </p:spPr>
        <p:txBody>
          <a:bodyPr lIns="0" rIns="0" tIns="0" bIns="0" anchor="ctr">
            <a:noAutofit/>
          </a:bodyPr>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EFAB44-77A5-448A-A4FB-B8872AA683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17"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18" name="PlaceHolder 3"/>
          <p:cNvSpPr>
            <a:spLocks noGrp="1"/>
          </p:cNvSpPr>
          <p:nvPr>
            <p:ph/>
          </p:nvPr>
        </p:nvSpPr>
        <p:spPr>
          <a:xfrm>
            <a:off x="622980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19" name="PlaceHolder 4"/>
          <p:cNvSpPr>
            <a:spLocks noGrp="1"/>
          </p:cNvSpPr>
          <p:nvPr>
            <p:ph/>
          </p:nvPr>
        </p:nvSpPr>
        <p:spPr>
          <a:xfrm>
            <a:off x="83664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09203A-A856-4F22-BEFD-48AD8809AF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21" name="PlaceHolder 2"/>
          <p:cNvSpPr>
            <a:spLocks noGrp="1"/>
          </p:cNvSpPr>
          <p:nvPr>
            <p:ph/>
          </p:nvPr>
        </p:nvSpPr>
        <p:spPr>
          <a:xfrm>
            <a:off x="836640" y="1938240"/>
            <a:ext cx="5136120" cy="45151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22"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23" name="PlaceHolder 4"/>
          <p:cNvSpPr>
            <a:spLocks noGrp="1"/>
          </p:cNvSpPr>
          <p:nvPr>
            <p:ph/>
          </p:nvPr>
        </p:nvSpPr>
        <p:spPr>
          <a:xfrm>
            <a:off x="6229800" y="429660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6CC66-AD44-432A-98BC-602D9A4897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6800"/>
              </a:solidFill>
              <a:latin typeface="Century Gothic"/>
            </a:endParaRPr>
          </a:p>
        </p:txBody>
      </p:sp>
      <p:sp>
        <p:nvSpPr>
          <p:cNvPr id="25" name="PlaceHolder 2"/>
          <p:cNvSpPr>
            <a:spLocks noGrp="1"/>
          </p:cNvSpPr>
          <p:nvPr>
            <p:ph/>
          </p:nvPr>
        </p:nvSpPr>
        <p:spPr>
          <a:xfrm>
            <a:off x="83664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26" name="PlaceHolder 3"/>
          <p:cNvSpPr>
            <a:spLocks noGrp="1"/>
          </p:cNvSpPr>
          <p:nvPr>
            <p:ph/>
          </p:nvPr>
        </p:nvSpPr>
        <p:spPr>
          <a:xfrm>
            <a:off x="6229800" y="1938240"/>
            <a:ext cx="513612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27" name="PlaceHolder 4"/>
          <p:cNvSpPr>
            <a:spLocks noGrp="1"/>
          </p:cNvSpPr>
          <p:nvPr>
            <p:ph/>
          </p:nvPr>
        </p:nvSpPr>
        <p:spPr>
          <a:xfrm>
            <a:off x="836640" y="4296600"/>
            <a:ext cx="10524960" cy="2153520"/>
          </a:xfrm>
          <a:prstGeom prst="rect">
            <a:avLst/>
          </a:prstGeom>
          <a:noFill/>
          <a:ln w="0">
            <a:noFill/>
          </a:ln>
        </p:spPr>
        <p:txBody>
          <a:bodyPr lIns="90000" rIns="90000" tIns="46800" bIns="46800" anchor="t">
            <a:normAutofit/>
          </a:bodyPr>
          <a:p>
            <a:pPr indent="0">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dddcd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8D9E39-5DAF-4F68-ADCA-53715AEC9E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14"/>
          <p:cNvGrpSpPr/>
          <p:nvPr/>
        </p:nvGrpSpPr>
        <p:grpSpPr>
          <a:xfrm>
            <a:off x="-847800" y="2889360"/>
            <a:ext cx="2378160" cy="2377800"/>
            <a:chOff x="-847800" y="2889360"/>
            <a:chExt cx="2378160" cy="2377800"/>
          </a:xfrm>
        </p:grpSpPr>
        <p:pic>
          <p:nvPicPr>
            <p:cNvPr id="1" name="Oval 14" descr=""/>
            <p:cNvPicPr/>
            <p:nvPr/>
          </p:nvPicPr>
          <p:blipFill>
            <a:blip r:embed="rId3"/>
            <a:stretch/>
          </p:blipFill>
          <p:spPr>
            <a:xfrm>
              <a:off x="-847800" y="2889360"/>
              <a:ext cx="2378160" cy="2377800"/>
            </a:xfrm>
            <a:prstGeom prst="rect">
              <a:avLst/>
            </a:prstGeom>
            <a:ln w="0">
              <a:noFill/>
            </a:ln>
          </p:spPr>
        </p:pic>
        <p:sp>
          <p:nvSpPr>
            <p:cNvPr id="2"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grpSp>
      <p:sp>
        <p:nvSpPr>
          <p:cNvPr id="3" name="PlaceHolder 1"/>
          <p:cNvSpPr>
            <a:spLocks noGrp="1"/>
          </p:cNvSpPr>
          <p:nvPr>
            <p:ph type="body"/>
          </p:nvPr>
        </p:nvSpPr>
        <p:spPr>
          <a:xfrm>
            <a:off x="836640" y="1938240"/>
            <a:ext cx="10524960" cy="4515120"/>
          </a:xfrm>
          <a:prstGeom prst="rect">
            <a:avLst/>
          </a:prstGeom>
          <a:noFill/>
          <a:ln w="0">
            <a:noFill/>
          </a:ln>
        </p:spPr>
        <p:txBody>
          <a:bodyPr lIns="90000" rIns="90000" tIns="46800" bIns="46800" anchor="t">
            <a:normAutofit/>
          </a:bodyPr>
          <a:p>
            <a:pPr indent="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Click to edit the outline text format</a:t>
            </a:r>
            <a:endParaRPr b="0" lang="en-US" sz="2400" spc="-1" strike="noStrike">
              <a:solidFill>
                <a:srgbClr val="dddcd0"/>
              </a:solidFill>
              <a:latin typeface="Century Gothic"/>
            </a:endParaRPr>
          </a:p>
          <a:p>
            <a:pPr lvl="1" marL="743040" indent="-285840">
              <a:spcBef>
                <a:spcPts val="601"/>
              </a:spcBef>
              <a:spcAft>
                <a:spcPts val="601"/>
              </a:spcAft>
              <a:buClr>
                <a:srgbClr val="ff6800"/>
              </a:buClr>
              <a:buSzPct val="80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econd Outline Level</a:t>
            </a:r>
            <a:endParaRPr b="0" lang="en-US" sz="2400" spc="-1" strike="noStrike">
              <a:solidFill>
                <a:srgbClr val="dddcd0"/>
              </a:solidFill>
              <a:latin typeface="Century Gothic"/>
            </a:endParaRPr>
          </a:p>
          <a:p>
            <a:pPr lvl="2" marL="11430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Third Outline Level</a:t>
            </a:r>
            <a:endParaRPr b="0" lang="en-US" sz="2400" spc="-1" strike="noStrike">
              <a:solidFill>
                <a:srgbClr val="dddcd0"/>
              </a:solidFill>
              <a:latin typeface="Century Gothic"/>
            </a:endParaRPr>
          </a:p>
          <a:p>
            <a:pPr lvl="3" marL="16002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Fourth Outline Level</a:t>
            </a:r>
            <a:endParaRPr b="0" lang="en-US" sz="2400" spc="-1" strike="noStrike">
              <a:solidFill>
                <a:srgbClr val="dddcd0"/>
              </a:solidFill>
              <a:latin typeface="Century Gothic"/>
            </a:endParaRPr>
          </a:p>
          <a:p>
            <a:pPr lvl="4" marL="20574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Fifth Outline Level</a:t>
            </a:r>
            <a:endParaRPr b="0" lang="en-US" sz="2400" spc="-1" strike="noStrike">
              <a:solidFill>
                <a:srgbClr val="dddcd0"/>
              </a:solidFill>
              <a:latin typeface="Century Gothic"/>
            </a:endParaRPr>
          </a:p>
          <a:p>
            <a:pPr lvl="5" marL="2057400" indent="-228600">
              <a:spcBef>
                <a:spcPts val="601"/>
              </a:spcBef>
              <a:spcAft>
                <a:spcPts val="601"/>
              </a:spcAft>
              <a:buClr>
                <a:srgbClr val="ffffff"/>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ixth Outline Level</a:t>
            </a:r>
            <a:endParaRPr b="0" lang="en-US" sz="2400" spc="-1" strike="noStrike">
              <a:solidFill>
                <a:srgbClr val="dddcd0"/>
              </a:solidFill>
              <a:latin typeface="Century Gothic"/>
            </a:endParaRPr>
          </a:p>
          <a:p>
            <a:pPr lvl="6" marL="2057400" indent="-228600">
              <a:spcBef>
                <a:spcPts val="601"/>
              </a:spcBef>
              <a:spcAft>
                <a:spcPts val="601"/>
              </a:spcAft>
              <a:buClr>
                <a:srgbClr val="ffffff"/>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eventh Outline Level</a:t>
            </a:r>
            <a:endParaRPr b="0" lang="en-US" sz="2400" spc="-1" strike="noStrike">
              <a:solidFill>
                <a:srgbClr val="dddcd0"/>
              </a:solidFill>
              <a:latin typeface="Century Gothic"/>
            </a:endParaRPr>
          </a:p>
        </p:txBody>
      </p:sp>
      <p:sp>
        <p:nvSpPr>
          <p:cNvPr id="4" name="PlaceHolder 2"/>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6800"/>
                </a:solidFill>
                <a:latin typeface="Century Gothic"/>
              </a:rPr>
              <a:t>Click to edit the title text format</a:t>
            </a:r>
            <a:endParaRPr b="0" lang="en-US" sz="3200" spc="-1" strike="noStrike">
              <a:solidFill>
                <a:srgbClr val="ff6800"/>
              </a:solidFill>
              <a:latin typeface="Century Gothic"/>
            </a:endParaRPr>
          </a:p>
        </p:txBody>
      </p:sp>
      <p:sp>
        <p:nvSpPr>
          <p:cNvPr id="5" name="PlaceHolder 3"/>
          <p:cNvSpPr>
            <a:spLocks noGrp="1"/>
          </p:cNvSpPr>
          <p:nvPr>
            <p:ph type="ftr" idx="1"/>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oso</a:t>
            </a:r>
            <a:endParaRPr b="0" lang="en-US" sz="1200" spc="-1" strike="noStrike">
              <a:solidFill>
                <a:srgbClr val="ffffff"/>
              </a:solidFill>
              <a:latin typeface="Times New Roman"/>
            </a:endParaRPr>
          </a:p>
        </p:txBody>
      </p:sp>
      <p:sp>
        <p:nvSpPr>
          <p:cNvPr id="6" name="PlaceHolder 4"/>
          <p:cNvSpPr>
            <a:spLocks noGrp="1"/>
          </p:cNvSpPr>
          <p:nvPr>
            <p:ph type="sldNum" idx="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A32B-BB94-47D4-9130-7FC8876DFD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 name="Oval 14"/>
          <p:cNvGrpSpPr/>
          <p:nvPr/>
        </p:nvGrpSpPr>
        <p:grpSpPr>
          <a:xfrm>
            <a:off x="-847800" y="2889360"/>
            <a:ext cx="2378160" cy="2377800"/>
            <a:chOff x="-847800" y="2889360"/>
            <a:chExt cx="2378160" cy="2377800"/>
          </a:xfrm>
        </p:grpSpPr>
        <p:pic>
          <p:nvPicPr>
            <p:cNvPr id="44" name="Oval 14" descr=""/>
            <p:cNvPicPr/>
            <p:nvPr/>
          </p:nvPicPr>
          <p:blipFill>
            <a:blip r:embed="rId3"/>
            <a:stretch/>
          </p:blipFill>
          <p:spPr>
            <a:xfrm>
              <a:off x="-847800" y="2889360"/>
              <a:ext cx="2378160" cy="2377800"/>
            </a:xfrm>
            <a:prstGeom prst="rect">
              <a:avLst/>
            </a:prstGeom>
            <a:ln w="0">
              <a:noFill/>
            </a:ln>
          </p:spPr>
        </p:pic>
        <p:sp>
          <p:nvSpPr>
            <p:cNvPr id="45"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grpSp>
      <p:sp>
        <p:nvSpPr>
          <p:cNvPr id="46" name="Parallelogram 6"/>
          <p:cNvSpPr/>
          <p:nvPr/>
        </p:nvSpPr>
        <p:spPr>
          <a:xfrm>
            <a:off x="714240" y="0"/>
            <a:ext cx="3227400" cy="1932120"/>
          </a:xfrm>
          <a:prstGeom prst="parallelogram">
            <a:avLst>
              <a:gd name="adj" fmla="val 8924"/>
            </a:avLst>
          </a:prstGeom>
          <a:solidFill>
            <a:srgbClr val="55555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1"/>
          <p:cNvSpPr>
            <a:spLocks noGrp="1"/>
          </p:cNvSpPr>
          <p:nvPr>
            <p:ph type="body"/>
          </p:nvPr>
        </p:nvSpPr>
        <p:spPr>
          <a:xfrm>
            <a:off x="836640" y="1938240"/>
            <a:ext cx="10524960" cy="4515120"/>
          </a:xfrm>
          <a:prstGeom prst="rect">
            <a:avLst/>
          </a:prstGeom>
          <a:noFill/>
          <a:ln w="0">
            <a:noFill/>
          </a:ln>
        </p:spPr>
        <p:txBody>
          <a:bodyPr lIns="90000" rIns="90000" tIns="46800" bIns="46800" anchor="t">
            <a:normAutofit/>
          </a:bodyPr>
          <a:p>
            <a:pPr indent="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Click to edit the outline text format</a:t>
            </a:r>
            <a:endParaRPr b="0" lang="en-US" sz="2400" spc="-1" strike="noStrike">
              <a:solidFill>
                <a:srgbClr val="dddcd0"/>
              </a:solidFill>
              <a:latin typeface="Century Gothic"/>
            </a:endParaRPr>
          </a:p>
          <a:p>
            <a:pPr lvl="1" marL="743040" indent="-285840">
              <a:spcBef>
                <a:spcPts val="601"/>
              </a:spcBef>
              <a:spcAft>
                <a:spcPts val="601"/>
              </a:spcAft>
              <a:buClr>
                <a:srgbClr val="ff6800"/>
              </a:buClr>
              <a:buSzPct val="80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econd Outline Level</a:t>
            </a:r>
            <a:endParaRPr b="0" lang="en-US" sz="2400" spc="-1" strike="noStrike">
              <a:solidFill>
                <a:srgbClr val="dddcd0"/>
              </a:solidFill>
              <a:latin typeface="Century Gothic"/>
            </a:endParaRPr>
          </a:p>
          <a:p>
            <a:pPr lvl="2" marL="11430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Third Outline Level</a:t>
            </a:r>
            <a:endParaRPr b="0" lang="en-US" sz="2400" spc="-1" strike="noStrike">
              <a:solidFill>
                <a:srgbClr val="dddcd0"/>
              </a:solidFill>
              <a:latin typeface="Century Gothic"/>
            </a:endParaRPr>
          </a:p>
          <a:p>
            <a:pPr lvl="3" marL="16002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Fourth Outline Level</a:t>
            </a:r>
            <a:endParaRPr b="0" lang="en-US" sz="2400" spc="-1" strike="noStrike">
              <a:solidFill>
                <a:srgbClr val="dddcd0"/>
              </a:solidFill>
              <a:latin typeface="Century Gothic"/>
            </a:endParaRPr>
          </a:p>
          <a:p>
            <a:pPr lvl="4" marL="2057400" indent="-228600">
              <a:spcBef>
                <a:spcPts val="601"/>
              </a:spcBef>
              <a:spcAft>
                <a:spcPts val="601"/>
              </a:spcAft>
              <a:buClr>
                <a:srgbClr val="a4a4a4"/>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Fifth Outline Level</a:t>
            </a:r>
            <a:endParaRPr b="0" lang="en-US" sz="2400" spc="-1" strike="noStrike">
              <a:solidFill>
                <a:srgbClr val="dddcd0"/>
              </a:solidFill>
              <a:latin typeface="Century Gothic"/>
            </a:endParaRPr>
          </a:p>
          <a:p>
            <a:pPr lvl="5" marL="2057400" indent="-228600">
              <a:spcBef>
                <a:spcPts val="601"/>
              </a:spcBef>
              <a:spcAft>
                <a:spcPts val="601"/>
              </a:spcAft>
              <a:buClr>
                <a:srgbClr val="ffffff"/>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ixth Outline Level</a:t>
            </a:r>
            <a:endParaRPr b="0" lang="en-US" sz="2400" spc="-1" strike="noStrike">
              <a:solidFill>
                <a:srgbClr val="dddcd0"/>
              </a:solidFill>
              <a:latin typeface="Century Gothic"/>
            </a:endParaRPr>
          </a:p>
          <a:p>
            <a:pPr lvl="6" marL="2057400" indent="-228600">
              <a:spcBef>
                <a:spcPts val="601"/>
              </a:spcBef>
              <a:spcAft>
                <a:spcPts val="601"/>
              </a:spcAft>
              <a:buClr>
                <a:srgbClr val="ffffff"/>
              </a:buClr>
              <a:buSzPct val="80000"/>
              <a:buFont typeface="Wingdings 3"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dddcd0"/>
                </a:solidFill>
                <a:latin typeface="Century Gothic"/>
              </a:rPr>
              <a:t>Seventh Outline Level</a:t>
            </a:r>
            <a:endParaRPr b="0" lang="en-US" sz="2400" spc="-1" strike="noStrike">
              <a:solidFill>
                <a:srgbClr val="dddcd0"/>
              </a:solidFill>
              <a:latin typeface="Century Gothic"/>
            </a:endParaRPr>
          </a:p>
        </p:txBody>
      </p:sp>
      <p:sp>
        <p:nvSpPr>
          <p:cNvPr id="48" name="PlaceHolder 2"/>
          <p:cNvSpPr>
            <a:spLocks noGrp="1"/>
          </p:cNvSpPr>
          <p:nvPr>
            <p:ph type="title"/>
          </p:nvPr>
        </p:nvSpPr>
        <p:spPr>
          <a:xfrm>
            <a:off x="838080" y="450720"/>
            <a:ext cx="10515600" cy="8208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6800"/>
                </a:solidFill>
                <a:latin typeface="Century Gothic"/>
              </a:rPr>
              <a:t>Click to edit the title text format</a:t>
            </a:r>
            <a:endParaRPr b="0" lang="en-US" sz="3200" spc="-1" strike="noStrike">
              <a:solidFill>
                <a:srgbClr val="ff6800"/>
              </a:solidFill>
              <a:latin typeface="Century Gothic"/>
            </a:endParaRPr>
          </a:p>
        </p:txBody>
      </p:sp>
      <p:sp>
        <p:nvSpPr>
          <p:cNvPr id="49" name="PlaceHolder 3"/>
          <p:cNvSpPr>
            <a:spLocks noGrp="1"/>
          </p:cNvSpPr>
          <p:nvPr>
            <p:ph type="ftr" idx="3"/>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oso</a:t>
            </a:r>
            <a:endParaRPr b="0" lang="en-US" sz="1200" spc="-1" strike="noStrike">
              <a:solidFill>
                <a:srgbClr val="ffffff"/>
              </a:solidFill>
              <a:latin typeface="Times New Roman"/>
            </a:endParaRPr>
          </a:p>
        </p:txBody>
      </p:sp>
      <p:sp>
        <p:nvSpPr>
          <p:cNvPr id="50" name="PlaceHolder 4"/>
          <p:cNvSpPr>
            <a:spLocks noGrp="1"/>
          </p:cNvSpPr>
          <p:nvPr>
            <p:ph type="sldNum" idx="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FFA8-14EC-4603-BF73-F234C3B4A5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633240" y="444600"/>
            <a:ext cx="3152880" cy="1347840"/>
          </a:xfrm>
          <a:prstGeom prst="rect">
            <a:avLst/>
          </a:prstGeom>
          <a:ln w="0">
            <a:noFill/>
          </a:ln>
        </p:spPr>
      </p:pic>
      <p:sp>
        <p:nvSpPr>
          <p:cNvPr id="95" name="Rectangle 3"/>
          <p:cNvSpPr/>
          <p:nvPr/>
        </p:nvSpPr>
        <p:spPr>
          <a:xfrm>
            <a:off x="-5837400" y="2421000"/>
            <a:ext cx="14955840" cy="4325760"/>
          </a:xfrm>
          <a:prstGeom prst="rect">
            <a:avLst/>
          </a:prstGeom>
          <a:gradFill rotWithShape="0">
            <a:gsLst>
              <a:gs pos="0">
                <a:srgbClr val="dddcd0"/>
              </a:gs>
              <a:gs pos="100000">
                <a:srgbClr val="262626">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pic>
        <p:nvPicPr>
          <p:cNvPr id="96" name="Content Placeholder 4" descr=""/>
          <p:cNvPicPr/>
          <p:nvPr/>
        </p:nvPicPr>
        <p:blipFill>
          <a:blip r:embed="rId2"/>
          <a:stretch/>
        </p:blipFill>
        <p:spPr>
          <a:xfrm>
            <a:off x="619200" y="3247920"/>
            <a:ext cx="5811840" cy="3227400"/>
          </a:xfrm>
          <a:prstGeom prst="rect">
            <a:avLst/>
          </a:prstGeom>
          <a:ln w="0">
            <a:noFill/>
          </a:ln>
        </p:spPr>
      </p:pic>
      <p:sp>
        <p:nvSpPr>
          <p:cNvPr id="97" name="Freeform 5"/>
          <p:cNvSpPr/>
          <p:nvPr/>
        </p:nvSpPr>
        <p:spPr>
          <a:xfrm>
            <a:off x="1095480" y="3192480"/>
            <a:ext cx="492120" cy="658800"/>
          </a:xfrm>
          <a:custGeom>
            <a:avLst/>
            <a:gdLst/>
            <a:ahLst/>
            <a:rect l="l" t="t" r="r" b="b"/>
            <a:pathLst>
              <a:path w="1352550" h="1809750">
                <a:moveTo>
                  <a:pt x="300038" y="1376362"/>
                </a:moveTo>
                <a:cubicBezTo>
                  <a:pt x="213239" y="1376362"/>
                  <a:pt x="142875" y="1446726"/>
                  <a:pt x="142875" y="1533525"/>
                </a:cubicBezTo>
                <a:cubicBezTo>
                  <a:pt x="142875" y="1620324"/>
                  <a:pt x="213239" y="1690688"/>
                  <a:pt x="300038" y="1690688"/>
                </a:cubicBezTo>
                <a:cubicBezTo>
                  <a:pt x="386837" y="1690688"/>
                  <a:pt x="457201" y="1620324"/>
                  <a:pt x="457201" y="1533525"/>
                </a:cubicBezTo>
                <a:cubicBezTo>
                  <a:pt x="457201" y="1446726"/>
                  <a:pt x="386837" y="1376362"/>
                  <a:pt x="300038" y="1376362"/>
                </a:cubicBezTo>
                <a:close/>
                <a:moveTo>
                  <a:pt x="1052513" y="1376361"/>
                </a:moveTo>
                <a:cubicBezTo>
                  <a:pt x="965714" y="1376361"/>
                  <a:pt x="895350" y="1446725"/>
                  <a:pt x="895350" y="1533524"/>
                </a:cubicBezTo>
                <a:cubicBezTo>
                  <a:pt x="895350" y="1620323"/>
                  <a:pt x="965714" y="1690687"/>
                  <a:pt x="1052513" y="1690687"/>
                </a:cubicBezTo>
                <a:cubicBezTo>
                  <a:pt x="1139312" y="1690687"/>
                  <a:pt x="1209676" y="1620323"/>
                  <a:pt x="1209676" y="1533524"/>
                </a:cubicBezTo>
                <a:cubicBezTo>
                  <a:pt x="1209676" y="1446725"/>
                  <a:pt x="1139312" y="1376361"/>
                  <a:pt x="1052513" y="1376361"/>
                </a:cubicBezTo>
                <a:close/>
                <a:moveTo>
                  <a:pt x="676273" y="556258"/>
                </a:moveTo>
                <a:cubicBezTo>
                  <a:pt x="583688" y="556258"/>
                  <a:pt x="508633" y="631313"/>
                  <a:pt x="508633" y="723898"/>
                </a:cubicBezTo>
                <a:cubicBezTo>
                  <a:pt x="508633" y="816483"/>
                  <a:pt x="583688" y="891538"/>
                  <a:pt x="676273" y="891538"/>
                </a:cubicBezTo>
                <a:cubicBezTo>
                  <a:pt x="768858" y="891538"/>
                  <a:pt x="843913" y="816483"/>
                  <a:pt x="843913" y="723898"/>
                </a:cubicBezTo>
                <a:cubicBezTo>
                  <a:pt x="843913" y="631313"/>
                  <a:pt x="768858" y="556258"/>
                  <a:pt x="676273" y="556258"/>
                </a:cubicBezTo>
                <a:close/>
                <a:moveTo>
                  <a:pt x="676274" y="266700"/>
                </a:moveTo>
                <a:cubicBezTo>
                  <a:pt x="928778" y="266700"/>
                  <a:pt x="1133473" y="471395"/>
                  <a:pt x="1133473" y="723899"/>
                </a:cubicBezTo>
                <a:cubicBezTo>
                  <a:pt x="1133473" y="976403"/>
                  <a:pt x="928778" y="1181098"/>
                  <a:pt x="676274" y="1181098"/>
                </a:cubicBezTo>
                <a:cubicBezTo>
                  <a:pt x="423770" y="1181098"/>
                  <a:pt x="219075" y="976403"/>
                  <a:pt x="219075" y="723899"/>
                </a:cubicBezTo>
                <a:cubicBezTo>
                  <a:pt x="219075" y="471395"/>
                  <a:pt x="423770" y="266700"/>
                  <a:pt x="676274" y="266700"/>
                </a:cubicBezTo>
                <a:close/>
                <a:moveTo>
                  <a:pt x="676275" y="190500"/>
                </a:moveTo>
                <a:cubicBezTo>
                  <a:pt x="381686" y="190500"/>
                  <a:pt x="142875" y="429311"/>
                  <a:pt x="142875" y="723900"/>
                </a:cubicBezTo>
                <a:cubicBezTo>
                  <a:pt x="142875" y="1018489"/>
                  <a:pt x="381686" y="1257300"/>
                  <a:pt x="676275" y="1257300"/>
                </a:cubicBezTo>
                <a:cubicBezTo>
                  <a:pt x="970864" y="1257300"/>
                  <a:pt x="1209675" y="1018489"/>
                  <a:pt x="1209675" y="723900"/>
                </a:cubicBezTo>
                <a:cubicBezTo>
                  <a:pt x="1209675" y="429311"/>
                  <a:pt x="970864" y="190500"/>
                  <a:pt x="676275" y="190500"/>
                </a:cubicBezTo>
                <a:close/>
                <a:moveTo>
                  <a:pt x="0" y="0"/>
                </a:moveTo>
                <a:lnTo>
                  <a:pt x="1352550" y="0"/>
                </a:lnTo>
                <a:lnTo>
                  <a:pt x="1352550" y="1809750"/>
                </a:lnTo>
                <a:lnTo>
                  <a:pt x="0" y="180975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98" name="Freeform 6"/>
          <p:cNvSpPr/>
          <p:nvPr/>
        </p:nvSpPr>
        <p:spPr>
          <a:xfrm flipH="1">
            <a:off x="1943280" y="3192480"/>
            <a:ext cx="979200" cy="658800"/>
          </a:xfrm>
          <a:custGeom>
            <a:avLst/>
            <a:gdLst/>
            <a:ahLst/>
            <a:rect l="l" t="t" r="r" b="b"/>
            <a:pathLst>
              <a:path w="979612" h="658446">
                <a:moveTo>
                  <a:pt x="626694" y="500766"/>
                </a:moveTo>
                <a:cubicBezTo>
                  <a:pt x="658274" y="500766"/>
                  <a:pt x="683875" y="526366"/>
                  <a:pt x="683875" y="557947"/>
                </a:cubicBezTo>
                <a:cubicBezTo>
                  <a:pt x="683875" y="589527"/>
                  <a:pt x="658274" y="615128"/>
                  <a:pt x="626694" y="615128"/>
                </a:cubicBezTo>
                <a:cubicBezTo>
                  <a:pt x="595113" y="615128"/>
                  <a:pt x="569513" y="589527"/>
                  <a:pt x="569513" y="557947"/>
                </a:cubicBezTo>
                <a:cubicBezTo>
                  <a:pt x="569513" y="526366"/>
                  <a:pt x="595113" y="500766"/>
                  <a:pt x="626694" y="500766"/>
                </a:cubicBezTo>
                <a:close/>
                <a:moveTo>
                  <a:pt x="352919" y="500765"/>
                </a:moveTo>
                <a:cubicBezTo>
                  <a:pt x="384499" y="500765"/>
                  <a:pt x="410100" y="526366"/>
                  <a:pt x="410100" y="557946"/>
                </a:cubicBezTo>
                <a:cubicBezTo>
                  <a:pt x="410100" y="589527"/>
                  <a:pt x="384499" y="615127"/>
                  <a:pt x="352919" y="615127"/>
                </a:cubicBezTo>
                <a:cubicBezTo>
                  <a:pt x="321338" y="615127"/>
                  <a:pt x="295737" y="589527"/>
                  <a:pt x="295737" y="557946"/>
                </a:cubicBezTo>
                <a:cubicBezTo>
                  <a:pt x="295737" y="526366"/>
                  <a:pt x="321338" y="500765"/>
                  <a:pt x="352919" y="500765"/>
                </a:cubicBezTo>
                <a:close/>
                <a:moveTo>
                  <a:pt x="489807" y="202385"/>
                </a:moveTo>
                <a:cubicBezTo>
                  <a:pt x="523492" y="202385"/>
                  <a:pt x="550800" y="229692"/>
                  <a:pt x="550800" y="263378"/>
                </a:cubicBezTo>
                <a:cubicBezTo>
                  <a:pt x="550800" y="297063"/>
                  <a:pt x="523492" y="324371"/>
                  <a:pt x="489807" y="324371"/>
                </a:cubicBezTo>
                <a:cubicBezTo>
                  <a:pt x="456122" y="324371"/>
                  <a:pt x="428814" y="297063"/>
                  <a:pt x="428814" y="263378"/>
                </a:cubicBezTo>
                <a:cubicBezTo>
                  <a:pt x="428814" y="229692"/>
                  <a:pt x="456122" y="202385"/>
                  <a:pt x="489807" y="202385"/>
                </a:cubicBezTo>
                <a:close/>
                <a:moveTo>
                  <a:pt x="175791" y="200142"/>
                </a:moveTo>
                <a:cubicBezTo>
                  <a:pt x="137652" y="200142"/>
                  <a:pt x="106735" y="246628"/>
                  <a:pt x="106735" y="303972"/>
                </a:cubicBezTo>
                <a:cubicBezTo>
                  <a:pt x="106735" y="361316"/>
                  <a:pt x="137652" y="407802"/>
                  <a:pt x="175791" y="407802"/>
                </a:cubicBezTo>
                <a:cubicBezTo>
                  <a:pt x="154055" y="383291"/>
                  <a:pt x="141263" y="344823"/>
                  <a:pt x="141263" y="303972"/>
                </a:cubicBezTo>
                <a:cubicBezTo>
                  <a:pt x="141263" y="263120"/>
                  <a:pt x="154055" y="224653"/>
                  <a:pt x="175791" y="200142"/>
                </a:cubicBezTo>
                <a:close/>
                <a:moveTo>
                  <a:pt x="803821" y="200142"/>
                </a:moveTo>
                <a:cubicBezTo>
                  <a:pt x="825557" y="224653"/>
                  <a:pt x="838349" y="263120"/>
                  <a:pt x="838349" y="303972"/>
                </a:cubicBezTo>
                <a:cubicBezTo>
                  <a:pt x="838349" y="344823"/>
                  <a:pt x="825557" y="383291"/>
                  <a:pt x="803821" y="407802"/>
                </a:cubicBezTo>
                <a:cubicBezTo>
                  <a:pt x="841960" y="407802"/>
                  <a:pt x="872877" y="361316"/>
                  <a:pt x="872877" y="303972"/>
                </a:cubicBezTo>
                <a:cubicBezTo>
                  <a:pt x="872877" y="246628"/>
                  <a:pt x="841960" y="200142"/>
                  <a:pt x="803821" y="200142"/>
                </a:cubicBezTo>
                <a:close/>
                <a:moveTo>
                  <a:pt x="489807" y="97034"/>
                </a:moveTo>
                <a:cubicBezTo>
                  <a:pt x="397937" y="97034"/>
                  <a:pt x="323463" y="171509"/>
                  <a:pt x="323463" y="263378"/>
                </a:cubicBezTo>
                <a:cubicBezTo>
                  <a:pt x="323463" y="355247"/>
                  <a:pt x="397937" y="429722"/>
                  <a:pt x="489807" y="429722"/>
                </a:cubicBezTo>
                <a:cubicBezTo>
                  <a:pt x="581676" y="429722"/>
                  <a:pt x="656151" y="355247"/>
                  <a:pt x="656151" y="263378"/>
                </a:cubicBezTo>
                <a:cubicBezTo>
                  <a:pt x="656151" y="171509"/>
                  <a:pt x="581676" y="97034"/>
                  <a:pt x="489807" y="97034"/>
                </a:cubicBezTo>
                <a:close/>
                <a:moveTo>
                  <a:pt x="139849" y="93700"/>
                </a:moveTo>
                <a:cubicBezTo>
                  <a:pt x="62613" y="93700"/>
                  <a:pt x="0" y="187842"/>
                  <a:pt x="0" y="303971"/>
                </a:cubicBezTo>
                <a:cubicBezTo>
                  <a:pt x="0" y="420100"/>
                  <a:pt x="62613" y="514242"/>
                  <a:pt x="139849" y="514242"/>
                </a:cubicBezTo>
                <a:cubicBezTo>
                  <a:pt x="80774" y="482466"/>
                  <a:pt x="41350" y="398306"/>
                  <a:pt x="41350" y="303971"/>
                </a:cubicBezTo>
                <a:cubicBezTo>
                  <a:pt x="41350" y="209636"/>
                  <a:pt x="80774" y="125476"/>
                  <a:pt x="139849" y="93700"/>
                </a:cubicBezTo>
                <a:close/>
                <a:moveTo>
                  <a:pt x="839763" y="93700"/>
                </a:moveTo>
                <a:cubicBezTo>
                  <a:pt x="898838" y="125476"/>
                  <a:pt x="938262" y="209636"/>
                  <a:pt x="938262" y="303971"/>
                </a:cubicBezTo>
                <a:cubicBezTo>
                  <a:pt x="938262" y="398306"/>
                  <a:pt x="898838" y="482466"/>
                  <a:pt x="839763" y="514242"/>
                </a:cubicBezTo>
                <a:cubicBezTo>
                  <a:pt x="916999" y="514242"/>
                  <a:pt x="979612" y="420100"/>
                  <a:pt x="979612" y="303971"/>
                </a:cubicBezTo>
                <a:cubicBezTo>
                  <a:pt x="979612" y="187842"/>
                  <a:pt x="916999" y="93700"/>
                  <a:pt x="839763" y="93700"/>
                </a:cubicBezTo>
                <a:close/>
                <a:moveTo>
                  <a:pt x="489806" y="69310"/>
                </a:moveTo>
                <a:cubicBezTo>
                  <a:pt x="596987" y="69310"/>
                  <a:pt x="683875" y="156198"/>
                  <a:pt x="683875" y="263379"/>
                </a:cubicBezTo>
                <a:cubicBezTo>
                  <a:pt x="683875" y="370560"/>
                  <a:pt x="596987" y="457447"/>
                  <a:pt x="489806" y="457447"/>
                </a:cubicBezTo>
                <a:cubicBezTo>
                  <a:pt x="382625" y="457447"/>
                  <a:pt x="295738" y="370560"/>
                  <a:pt x="295738" y="263379"/>
                </a:cubicBezTo>
                <a:cubicBezTo>
                  <a:pt x="295738" y="156198"/>
                  <a:pt x="382625" y="69310"/>
                  <a:pt x="489806" y="69310"/>
                </a:cubicBezTo>
                <a:close/>
                <a:moveTo>
                  <a:pt x="735857" y="0"/>
                </a:moveTo>
                <a:lnTo>
                  <a:pt x="243755" y="0"/>
                </a:lnTo>
                <a:lnTo>
                  <a:pt x="243755" y="658446"/>
                </a:lnTo>
                <a:lnTo>
                  <a:pt x="735857" y="658446"/>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Century Gothic"/>
            </a:endParaRPr>
          </a:p>
        </p:txBody>
      </p:sp>
      <p:sp>
        <p:nvSpPr>
          <p:cNvPr id="99" name="Freeform 7"/>
          <p:cNvSpPr/>
          <p:nvPr/>
        </p:nvSpPr>
        <p:spPr>
          <a:xfrm>
            <a:off x="3090960" y="3192480"/>
            <a:ext cx="868320" cy="601560"/>
          </a:xfrm>
          <a:custGeom>
            <a:avLst/>
            <a:gdLst/>
            <a:ahLst/>
            <a:rect l="l" t="t" r="r" b="b"/>
            <a:pathLst>
              <a:path w="3352800" h="2324100">
                <a:moveTo>
                  <a:pt x="967740" y="1988820"/>
                </a:moveTo>
                <a:lnTo>
                  <a:pt x="1465614" y="1988820"/>
                </a:lnTo>
                <a:lnTo>
                  <a:pt x="1465614" y="2145205"/>
                </a:lnTo>
                <a:cubicBezTo>
                  <a:pt x="1465614" y="2201921"/>
                  <a:pt x="1559986" y="2247899"/>
                  <a:pt x="1676400" y="2247899"/>
                </a:cubicBezTo>
                <a:cubicBezTo>
                  <a:pt x="1792815" y="2247899"/>
                  <a:pt x="1887187" y="2201921"/>
                  <a:pt x="1887187" y="2145205"/>
                </a:cubicBezTo>
                <a:lnTo>
                  <a:pt x="1887187" y="1988820"/>
                </a:lnTo>
                <a:lnTo>
                  <a:pt x="2385060" y="1988820"/>
                </a:lnTo>
                <a:lnTo>
                  <a:pt x="2468880" y="2324100"/>
                </a:lnTo>
                <a:lnTo>
                  <a:pt x="883920" y="2324100"/>
                </a:lnTo>
                <a:close/>
                <a:moveTo>
                  <a:pt x="224790" y="207645"/>
                </a:moveTo>
                <a:lnTo>
                  <a:pt x="3128010" y="207645"/>
                </a:lnTo>
                <a:lnTo>
                  <a:pt x="3128010" y="1678305"/>
                </a:lnTo>
                <a:lnTo>
                  <a:pt x="224790" y="1678305"/>
                </a:lnTo>
                <a:close/>
                <a:moveTo>
                  <a:pt x="137160" y="102870"/>
                </a:moveTo>
                <a:lnTo>
                  <a:pt x="137160" y="1783080"/>
                </a:lnTo>
                <a:lnTo>
                  <a:pt x="3215640" y="1783080"/>
                </a:lnTo>
                <a:lnTo>
                  <a:pt x="3215640" y="102870"/>
                </a:lnTo>
                <a:close/>
                <a:moveTo>
                  <a:pt x="0" y="0"/>
                </a:moveTo>
                <a:lnTo>
                  <a:pt x="3352800" y="0"/>
                </a:lnTo>
                <a:lnTo>
                  <a:pt x="3352800" y="1885950"/>
                </a:lnTo>
                <a:lnTo>
                  <a:pt x="1831273" y="1885950"/>
                </a:lnTo>
                <a:lnTo>
                  <a:pt x="1831273" y="2117382"/>
                </a:lnTo>
                <a:lnTo>
                  <a:pt x="1828755" y="2117382"/>
                </a:lnTo>
                <a:cubicBezTo>
                  <a:pt x="1828755" y="2156324"/>
                  <a:pt x="1759979" y="2187893"/>
                  <a:pt x="1675141" y="2187893"/>
                </a:cubicBezTo>
                <a:cubicBezTo>
                  <a:pt x="1590302" y="2187893"/>
                  <a:pt x="1521527" y="2156324"/>
                  <a:pt x="1521527" y="2117382"/>
                </a:cubicBezTo>
                <a:lnTo>
                  <a:pt x="1524045" y="2105915"/>
                </a:lnTo>
                <a:lnTo>
                  <a:pt x="1524045" y="1885950"/>
                </a:lnTo>
                <a:lnTo>
                  <a:pt x="0" y="1885950"/>
                </a:lnTo>
                <a:close/>
              </a:path>
            </a:pathLst>
          </a:custGeom>
          <a:solidFill>
            <a:srgbClr val="1c1c1c"/>
          </a:solidFill>
          <a:ln w="0">
            <a:noFill/>
          </a:ln>
        </p:spPr>
        <p:style>
          <a:lnRef idx="0"/>
          <a:fillRef idx="0"/>
          <a:effectRef idx="0"/>
          <a:fontRef idx="minor"/>
        </p:style>
        <p:txBody>
          <a:bodyPr anchor="ctr">
            <a:noAutofit/>
          </a:bodyPr>
          <a:p>
            <a:endParaRPr b="0" lang="en-US" sz="1800" spc="-1" strike="noStrike">
              <a:solidFill>
                <a:srgbClr val="ffffff"/>
              </a:solidFill>
              <a:latin typeface="Century Gothic"/>
            </a:endParaRPr>
          </a:p>
        </p:txBody>
      </p:sp>
      <p:sp>
        <p:nvSpPr>
          <p:cNvPr id="100" name="Freeform 8"/>
          <p:cNvSpPr/>
          <p:nvPr/>
        </p:nvSpPr>
        <p:spPr>
          <a:xfrm>
            <a:off x="4186080" y="3192480"/>
            <a:ext cx="868680" cy="601560"/>
          </a:xfrm>
          <a:custGeom>
            <a:avLst/>
            <a:gdLst/>
            <a:ahLst/>
            <a:rect l="l" t="t" r="r" b="b"/>
            <a:pathLst>
              <a:path w="868680" h="602153">
                <a:moveTo>
                  <a:pt x="250733" y="515285"/>
                </a:moveTo>
                <a:lnTo>
                  <a:pt x="379727" y="515285"/>
                </a:lnTo>
                <a:lnTo>
                  <a:pt x="379727" y="555803"/>
                </a:lnTo>
                <a:cubicBezTo>
                  <a:pt x="379727" y="570498"/>
                  <a:pt x="404178" y="582410"/>
                  <a:pt x="434340" y="582410"/>
                </a:cubicBezTo>
                <a:cubicBezTo>
                  <a:pt x="464502" y="582410"/>
                  <a:pt x="488953" y="570498"/>
                  <a:pt x="488953" y="555803"/>
                </a:cubicBezTo>
                <a:lnTo>
                  <a:pt x="488953" y="515285"/>
                </a:lnTo>
                <a:lnTo>
                  <a:pt x="617947" y="515285"/>
                </a:lnTo>
                <a:lnTo>
                  <a:pt x="639664" y="602153"/>
                </a:lnTo>
                <a:lnTo>
                  <a:pt x="229016" y="602153"/>
                </a:lnTo>
                <a:close/>
                <a:moveTo>
                  <a:pt x="434195" y="320794"/>
                </a:moveTo>
                <a:cubicBezTo>
                  <a:pt x="405984" y="320794"/>
                  <a:pt x="383115" y="325849"/>
                  <a:pt x="383115" y="332085"/>
                </a:cubicBezTo>
                <a:cubicBezTo>
                  <a:pt x="383115" y="334423"/>
                  <a:pt x="386331" y="336595"/>
                  <a:pt x="391838" y="338397"/>
                </a:cubicBezTo>
                <a:lnTo>
                  <a:pt x="392531" y="338583"/>
                </a:lnTo>
                <a:lnTo>
                  <a:pt x="391838" y="338768"/>
                </a:lnTo>
                <a:cubicBezTo>
                  <a:pt x="386331" y="340570"/>
                  <a:pt x="383115" y="342743"/>
                  <a:pt x="383115" y="345081"/>
                </a:cubicBezTo>
                <a:cubicBezTo>
                  <a:pt x="383115" y="347419"/>
                  <a:pt x="386331" y="349592"/>
                  <a:pt x="391838" y="351394"/>
                </a:cubicBezTo>
                <a:lnTo>
                  <a:pt x="392531" y="351579"/>
                </a:lnTo>
                <a:lnTo>
                  <a:pt x="391838" y="351764"/>
                </a:lnTo>
                <a:cubicBezTo>
                  <a:pt x="386331" y="353567"/>
                  <a:pt x="383115" y="355739"/>
                  <a:pt x="383115" y="358077"/>
                </a:cubicBezTo>
                <a:cubicBezTo>
                  <a:pt x="383115" y="360415"/>
                  <a:pt x="386331" y="362588"/>
                  <a:pt x="391838" y="364390"/>
                </a:cubicBezTo>
                <a:lnTo>
                  <a:pt x="392531" y="364575"/>
                </a:lnTo>
                <a:lnTo>
                  <a:pt x="391838" y="364761"/>
                </a:lnTo>
                <a:cubicBezTo>
                  <a:pt x="386331" y="366563"/>
                  <a:pt x="383115" y="368735"/>
                  <a:pt x="383115" y="371073"/>
                </a:cubicBezTo>
                <a:cubicBezTo>
                  <a:pt x="383115" y="373412"/>
                  <a:pt x="386331" y="375584"/>
                  <a:pt x="391838" y="377386"/>
                </a:cubicBezTo>
                <a:lnTo>
                  <a:pt x="392531" y="377571"/>
                </a:lnTo>
                <a:lnTo>
                  <a:pt x="391838" y="377757"/>
                </a:lnTo>
                <a:cubicBezTo>
                  <a:pt x="386331" y="379559"/>
                  <a:pt x="383115" y="381731"/>
                  <a:pt x="383115" y="384070"/>
                </a:cubicBezTo>
                <a:cubicBezTo>
                  <a:pt x="383115" y="387967"/>
                  <a:pt x="392048" y="391403"/>
                  <a:pt x="405636" y="393432"/>
                </a:cubicBezTo>
                <a:lnTo>
                  <a:pt x="410485" y="394014"/>
                </a:lnTo>
                <a:lnTo>
                  <a:pt x="409851" y="395232"/>
                </a:lnTo>
                <a:cubicBezTo>
                  <a:pt x="409851" y="400455"/>
                  <a:pt x="420751" y="404689"/>
                  <a:pt x="434195" y="404689"/>
                </a:cubicBezTo>
                <a:cubicBezTo>
                  <a:pt x="447640" y="404689"/>
                  <a:pt x="458540" y="400455"/>
                  <a:pt x="458540" y="395232"/>
                </a:cubicBezTo>
                <a:lnTo>
                  <a:pt x="457906" y="394014"/>
                </a:lnTo>
                <a:lnTo>
                  <a:pt x="462755" y="393432"/>
                </a:lnTo>
                <a:cubicBezTo>
                  <a:pt x="476343" y="391403"/>
                  <a:pt x="485276" y="387967"/>
                  <a:pt x="485276" y="384070"/>
                </a:cubicBezTo>
                <a:cubicBezTo>
                  <a:pt x="485276" y="381731"/>
                  <a:pt x="482060" y="379559"/>
                  <a:pt x="476552" y="377757"/>
                </a:cubicBezTo>
                <a:lnTo>
                  <a:pt x="475860" y="377571"/>
                </a:lnTo>
                <a:lnTo>
                  <a:pt x="476552" y="377386"/>
                </a:lnTo>
                <a:cubicBezTo>
                  <a:pt x="482060" y="375584"/>
                  <a:pt x="485276" y="373412"/>
                  <a:pt x="485276" y="371073"/>
                </a:cubicBezTo>
                <a:cubicBezTo>
                  <a:pt x="485276" y="368735"/>
                  <a:pt x="482060" y="366563"/>
                  <a:pt x="476552" y="364761"/>
                </a:cubicBezTo>
                <a:lnTo>
                  <a:pt x="475860" y="364575"/>
                </a:lnTo>
                <a:lnTo>
                  <a:pt x="476552" y="364390"/>
                </a:lnTo>
                <a:cubicBezTo>
                  <a:pt x="482060" y="362588"/>
                  <a:pt x="485276" y="360415"/>
                  <a:pt x="485276" y="358077"/>
                </a:cubicBezTo>
                <a:cubicBezTo>
                  <a:pt x="485276" y="355739"/>
                  <a:pt x="482060" y="353567"/>
                  <a:pt x="476552" y="351764"/>
                </a:cubicBezTo>
                <a:lnTo>
                  <a:pt x="475860" y="351579"/>
                </a:lnTo>
                <a:lnTo>
                  <a:pt x="476552" y="351394"/>
                </a:lnTo>
                <a:cubicBezTo>
                  <a:pt x="482060" y="349592"/>
                  <a:pt x="485276" y="347419"/>
                  <a:pt x="485276" y="345081"/>
                </a:cubicBezTo>
                <a:cubicBezTo>
                  <a:pt x="485276" y="342743"/>
                  <a:pt x="482060" y="340570"/>
                  <a:pt x="476552" y="338768"/>
                </a:cubicBezTo>
                <a:lnTo>
                  <a:pt x="475860" y="338583"/>
                </a:lnTo>
                <a:lnTo>
                  <a:pt x="476552" y="338397"/>
                </a:lnTo>
                <a:cubicBezTo>
                  <a:pt x="482060" y="336595"/>
                  <a:pt x="485276" y="334423"/>
                  <a:pt x="485276" y="332085"/>
                </a:cubicBezTo>
                <a:cubicBezTo>
                  <a:pt x="485276" y="325849"/>
                  <a:pt x="462407" y="320794"/>
                  <a:pt x="434195" y="320794"/>
                </a:cubicBezTo>
                <a:close/>
                <a:moveTo>
                  <a:pt x="472268" y="214904"/>
                </a:moveTo>
                <a:lnTo>
                  <a:pt x="470904" y="218196"/>
                </a:lnTo>
                <a:cubicBezTo>
                  <a:pt x="469762" y="219338"/>
                  <a:pt x="468184" y="220045"/>
                  <a:pt x="466440" y="220045"/>
                </a:cubicBezTo>
                <a:cubicBezTo>
                  <a:pt x="465569" y="220045"/>
                  <a:pt x="464738" y="219868"/>
                  <a:pt x="463983" y="219549"/>
                </a:cubicBezTo>
                <a:lnTo>
                  <a:pt x="463059" y="218926"/>
                </a:lnTo>
                <a:lnTo>
                  <a:pt x="461994" y="221499"/>
                </a:lnTo>
                <a:cubicBezTo>
                  <a:pt x="460851" y="222642"/>
                  <a:pt x="459273" y="223348"/>
                  <a:pt x="457530" y="223348"/>
                </a:cubicBezTo>
                <a:cubicBezTo>
                  <a:pt x="456658" y="223348"/>
                  <a:pt x="455828" y="223172"/>
                  <a:pt x="455072" y="222852"/>
                </a:cubicBezTo>
                <a:lnTo>
                  <a:pt x="454756" y="222639"/>
                </a:lnTo>
                <a:lnTo>
                  <a:pt x="453789" y="224973"/>
                </a:lnTo>
                <a:cubicBezTo>
                  <a:pt x="452647" y="226116"/>
                  <a:pt x="451069" y="226822"/>
                  <a:pt x="449325" y="226822"/>
                </a:cubicBezTo>
                <a:cubicBezTo>
                  <a:pt x="448454" y="226822"/>
                  <a:pt x="447623" y="226646"/>
                  <a:pt x="446868" y="226326"/>
                </a:cubicBezTo>
                <a:lnTo>
                  <a:pt x="446590" y="226139"/>
                </a:lnTo>
                <a:lnTo>
                  <a:pt x="445634" y="228447"/>
                </a:lnTo>
                <a:cubicBezTo>
                  <a:pt x="444491" y="229590"/>
                  <a:pt x="442913" y="230296"/>
                  <a:pt x="441170" y="230296"/>
                </a:cubicBezTo>
                <a:cubicBezTo>
                  <a:pt x="440298" y="230296"/>
                  <a:pt x="439468" y="230120"/>
                  <a:pt x="438712" y="229800"/>
                </a:cubicBezTo>
                <a:lnTo>
                  <a:pt x="437865" y="229229"/>
                </a:lnTo>
                <a:lnTo>
                  <a:pt x="437865" y="312260"/>
                </a:lnTo>
                <a:lnTo>
                  <a:pt x="449174" y="312638"/>
                </a:lnTo>
                <a:lnTo>
                  <a:pt x="475306" y="215109"/>
                </a:lnTo>
                <a:lnTo>
                  <a:pt x="474645" y="215384"/>
                </a:lnTo>
                <a:close/>
                <a:moveTo>
                  <a:pt x="397676" y="214157"/>
                </a:moveTo>
                <a:lnTo>
                  <a:pt x="396396" y="214415"/>
                </a:lnTo>
                <a:lnTo>
                  <a:pt x="422682" y="312516"/>
                </a:lnTo>
                <a:lnTo>
                  <a:pt x="432669" y="312183"/>
                </a:lnTo>
                <a:lnTo>
                  <a:pt x="432669" y="231192"/>
                </a:lnTo>
                <a:lnTo>
                  <a:pt x="428509" y="229469"/>
                </a:lnTo>
                <a:lnTo>
                  <a:pt x="428411" y="229234"/>
                </a:lnTo>
                <a:lnTo>
                  <a:pt x="427570" y="229801"/>
                </a:lnTo>
                <a:cubicBezTo>
                  <a:pt x="426815" y="230120"/>
                  <a:pt x="425985" y="230297"/>
                  <a:pt x="425113" y="230296"/>
                </a:cubicBezTo>
                <a:cubicBezTo>
                  <a:pt x="423370" y="230297"/>
                  <a:pt x="421791" y="229590"/>
                  <a:pt x="420649" y="228447"/>
                </a:cubicBezTo>
                <a:lnTo>
                  <a:pt x="420297" y="227598"/>
                </a:lnTo>
                <a:lnTo>
                  <a:pt x="417967" y="228068"/>
                </a:lnTo>
                <a:cubicBezTo>
                  <a:pt x="416224" y="228068"/>
                  <a:pt x="414646" y="227361"/>
                  <a:pt x="413503" y="226219"/>
                </a:cubicBezTo>
                <a:lnTo>
                  <a:pt x="412643" y="224142"/>
                </a:lnTo>
                <a:lnTo>
                  <a:pt x="411187" y="224436"/>
                </a:lnTo>
                <a:cubicBezTo>
                  <a:pt x="409444" y="224436"/>
                  <a:pt x="407866" y="223729"/>
                  <a:pt x="406723" y="222587"/>
                </a:cubicBezTo>
                <a:lnTo>
                  <a:pt x="405400" y="219394"/>
                </a:lnTo>
                <a:lnTo>
                  <a:pt x="403687" y="219740"/>
                </a:lnTo>
                <a:cubicBezTo>
                  <a:pt x="401944" y="219740"/>
                  <a:pt x="400365" y="219033"/>
                  <a:pt x="399223" y="217891"/>
                </a:cubicBezTo>
                <a:close/>
                <a:moveTo>
                  <a:pt x="435112" y="83286"/>
                </a:moveTo>
                <a:cubicBezTo>
                  <a:pt x="408864" y="83089"/>
                  <a:pt x="382541" y="92904"/>
                  <a:pt x="362365" y="112780"/>
                </a:cubicBezTo>
                <a:cubicBezTo>
                  <a:pt x="322011" y="152531"/>
                  <a:pt x="321523" y="217468"/>
                  <a:pt x="361274" y="257822"/>
                </a:cubicBezTo>
                <a:cubicBezTo>
                  <a:pt x="373269" y="270000"/>
                  <a:pt x="383743" y="283677"/>
                  <a:pt x="392694" y="298854"/>
                </a:cubicBezTo>
                <a:lnTo>
                  <a:pt x="400947" y="314901"/>
                </a:lnTo>
                <a:lnTo>
                  <a:pt x="405543" y="314063"/>
                </a:lnTo>
                <a:lnTo>
                  <a:pt x="417380" y="312805"/>
                </a:lnTo>
                <a:lnTo>
                  <a:pt x="389706" y="209523"/>
                </a:lnTo>
                <a:lnTo>
                  <a:pt x="389963" y="209454"/>
                </a:lnTo>
                <a:lnTo>
                  <a:pt x="389706" y="208178"/>
                </a:lnTo>
                <a:cubicBezTo>
                  <a:pt x="389706" y="204691"/>
                  <a:pt x="392532" y="201865"/>
                  <a:pt x="396019" y="201865"/>
                </a:cubicBezTo>
                <a:cubicBezTo>
                  <a:pt x="397762" y="201865"/>
                  <a:pt x="399340" y="202572"/>
                  <a:pt x="400483" y="203714"/>
                </a:cubicBezTo>
                <a:lnTo>
                  <a:pt x="402030" y="207448"/>
                </a:lnTo>
                <a:lnTo>
                  <a:pt x="403687" y="207114"/>
                </a:lnTo>
                <a:cubicBezTo>
                  <a:pt x="405430" y="207114"/>
                  <a:pt x="407009" y="207820"/>
                  <a:pt x="408151" y="208963"/>
                </a:cubicBezTo>
                <a:lnTo>
                  <a:pt x="409474" y="212156"/>
                </a:lnTo>
                <a:lnTo>
                  <a:pt x="411187" y="211810"/>
                </a:lnTo>
                <a:cubicBezTo>
                  <a:pt x="412930" y="211810"/>
                  <a:pt x="414509" y="212517"/>
                  <a:pt x="415651" y="213659"/>
                </a:cubicBezTo>
                <a:lnTo>
                  <a:pt x="416511" y="215736"/>
                </a:lnTo>
                <a:lnTo>
                  <a:pt x="417967" y="215442"/>
                </a:lnTo>
                <a:cubicBezTo>
                  <a:pt x="419710" y="215442"/>
                  <a:pt x="421289" y="216148"/>
                  <a:pt x="422431" y="217291"/>
                </a:cubicBezTo>
                <a:lnTo>
                  <a:pt x="422783" y="218141"/>
                </a:lnTo>
                <a:lnTo>
                  <a:pt x="425113" y="217670"/>
                </a:lnTo>
                <a:cubicBezTo>
                  <a:pt x="426856" y="217670"/>
                  <a:pt x="428435" y="218377"/>
                  <a:pt x="429577" y="219519"/>
                </a:cubicBezTo>
                <a:lnTo>
                  <a:pt x="429675" y="219755"/>
                </a:lnTo>
                <a:lnTo>
                  <a:pt x="430515" y="219188"/>
                </a:lnTo>
                <a:cubicBezTo>
                  <a:pt x="431271" y="218869"/>
                  <a:pt x="432101" y="218692"/>
                  <a:pt x="432973" y="218692"/>
                </a:cubicBezTo>
                <a:cubicBezTo>
                  <a:pt x="433844" y="218692"/>
                  <a:pt x="434675" y="218869"/>
                  <a:pt x="435430" y="219188"/>
                </a:cubicBezTo>
                <a:lnTo>
                  <a:pt x="436534" y="219933"/>
                </a:lnTo>
                <a:lnTo>
                  <a:pt x="436706" y="219519"/>
                </a:lnTo>
                <a:cubicBezTo>
                  <a:pt x="437848" y="218377"/>
                  <a:pt x="439426" y="217670"/>
                  <a:pt x="441170" y="217670"/>
                </a:cubicBezTo>
                <a:cubicBezTo>
                  <a:pt x="442041" y="217670"/>
                  <a:pt x="442872" y="217847"/>
                  <a:pt x="443627" y="218166"/>
                </a:cubicBezTo>
                <a:lnTo>
                  <a:pt x="443905" y="218354"/>
                </a:lnTo>
                <a:lnTo>
                  <a:pt x="444861" y="216045"/>
                </a:lnTo>
                <a:cubicBezTo>
                  <a:pt x="446004" y="214903"/>
                  <a:pt x="447582" y="214196"/>
                  <a:pt x="449325" y="214196"/>
                </a:cubicBezTo>
                <a:cubicBezTo>
                  <a:pt x="450197" y="214196"/>
                  <a:pt x="451027" y="214373"/>
                  <a:pt x="451783" y="214692"/>
                </a:cubicBezTo>
                <a:lnTo>
                  <a:pt x="452099" y="214905"/>
                </a:lnTo>
                <a:lnTo>
                  <a:pt x="453066" y="212571"/>
                </a:lnTo>
                <a:cubicBezTo>
                  <a:pt x="454208" y="211429"/>
                  <a:pt x="455786" y="210722"/>
                  <a:pt x="457530" y="210722"/>
                </a:cubicBezTo>
                <a:cubicBezTo>
                  <a:pt x="458401" y="210722"/>
                  <a:pt x="459232" y="210899"/>
                  <a:pt x="459987" y="211218"/>
                </a:cubicBezTo>
                <a:lnTo>
                  <a:pt x="460910" y="211841"/>
                </a:lnTo>
                <a:lnTo>
                  <a:pt x="461976" y="209268"/>
                </a:lnTo>
                <a:cubicBezTo>
                  <a:pt x="463119" y="208126"/>
                  <a:pt x="464697" y="207419"/>
                  <a:pt x="466440" y="207419"/>
                </a:cubicBezTo>
                <a:lnTo>
                  <a:pt x="468817" y="207899"/>
                </a:lnTo>
                <a:lnTo>
                  <a:pt x="470181" y="204606"/>
                </a:lnTo>
                <a:cubicBezTo>
                  <a:pt x="471323" y="203464"/>
                  <a:pt x="472901" y="202757"/>
                  <a:pt x="474645" y="202757"/>
                </a:cubicBezTo>
                <a:cubicBezTo>
                  <a:pt x="478131" y="202757"/>
                  <a:pt x="480958" y="205584"/>
                  <a:pt x="480958" y="209070"/>
                </a:cubicBezTo>
                <a:lnTo>
                  <a:pt x="480934" y="209188"/>
                </a:lnTo>
                <a:lnTo>
                  <a:pt x="482183" y="209523"/>
                </a:lnTo>
                <a:lnTo>
                  <a:pt x="454407" y="313186"/>
                </a:lnTo>
                <a:lnTo>
                  <a:pt x="462662" y="314063"/>
                </a:lnTo>
                <a:lnTo>
                  <a:pt x="466155" y="314700"/>
                </a:lnTo>
                <a:lnTo>
                  <a:pt x="474280" y="299468"/>
                </a:lnTo>
                <a:cubicBezTo>
                  <a:pt x="483459" y="284427"/>
                  <a:pt x="494138" y="270909"/>
                  <a:pt x="506315" y="258913"/>
                </a:cubicBezTo>
                <a:cubicBezTo>
                  <a:pt x="546669" y="219162"/>
                  <a:pt x="547158" y="154225"/>
                  <a:pt x="507407" y="113871"/>
                </a:cubicBezTo>
                <a:cubicBezTo>
                  <a:pt x="487531" y="93694"/>
                  <a:pt x="461359" y="83484"/>
                  <a:pt x="435112" y="83286"/>
                </a:cubicBezTo>
                <a:close/>
                <a:moveTo>
                  <a:pt x="58241" y="53799"/>
                </a:moveTo>
                <a:lnTo>
                  <a:pt x="810439" y="53799"/>
                </a:lnTo>
                <a:lnTo>
                  <a:pt x="810439" y="434834"/>
                </a:lnTo>
                <a:lnTo>
                  <a:pt x="58241" y="434834"/>
                </a:lnTo>
                <a:close/>
                <a:moveTo>
                  <a:pt x="35537" y="26653"/>
                </a:moveTo>
                <a:lnTo>
                  <a:pt x="35537" y="461980"/>
                </a:lnTo>
                <a:lnTo>
                  <a:pt x="833143" y="461980"/>
                </a:lnTo>
                <a:lnTo>
                  <a:pt x="833143" y="26653"/>
                </a:lnTo>
                <a:close/>
                <a:moveTo>
                  <a:pt x="0" y="0"/>
                </a:moveTo>
                <a:lnTo>
                  <a:pt x="868680" y="0"/>
                </a:lnTo>
                <a:lnTo>
                  <a:pt x="868680" y="488633"/>
                </a:lnTo>
                <a:lnTo>
                  <a:pt x="474466" y="488633"/>
                </a:lnTo>
                <a:lnTo>
                  <a:pt x="474466" y="548594"/>
                </a:lnTo>
                <a:lnTo>
                  <a:pt x="473814" y="548594"/>
                </a:lnTo>
                <a:cubicBezTo>
                  <a:pt x="473814" y="558684"/>
                  <a:pt x="455995" y="566863"/>
                  <a:pt x="434014" y="566863"/>
                </a:cubicBezTo>
                <a:cubicBezTo>
                  <a:pt x="412033" y="566863"/>
                  <a:pt x="394214" y="558684"/>
                  <a:pt x="394214" y="548594"/>
                </a:cubicBezTo>
                <a:lnTo>
                  <a:pt x="394866" y="545623"/>
                </a:lnTo>
                <a:lnTo>
                  <a:pt x="394866" y="488633"/>
                </a:lnTo>
                <a:lnTo>
                  <a:pt x="0" y="488633"/>
                </a:lnTo>
                <a:close/>
              </a:path>
            </a:pathLst>
          </a:custGeom>
          <a:solidFill>
            <a:srgbClr val="1c1c1c"/>
          </a:solidFill>
          <a:ln w="0">
            <a:noFill/>
          </a:ln>
        </p:spPr>
        <p:style>
          <a:lnRef idx="0"/>
          <a:fillRef idx="0"/>
          <a:effectRef idx="0"/>
          <a:fontRef idx="minor"/>
        </p:style>
        <p:txBody>
          <a:bodyPr anchor="ctr">
            <a:noAutofit/>
          </a:bodyPr>
          <a:p>
            <a:endParaRPr b="0" lang="en-US" sz="1800" spc="-1" strike="noStrike">
              <a:solidFill>
                <a:srgbClr val="ffffff"/>
              </a:solidFill>
              <a:latin typeface="Century Gothic"/>
            </a:endParaRPr>
          </a:p>
        </p:txBody>
      </p:sp>
      <p:sp>
        <p:nvSpPr>
          <p:cNvPr id="101" name="Freeform 9"/>
          <p:cNvSpPr/>
          <p:nvPr/>
        </p:nvSpPr>
        <p:spPr>
          <a:xfrm>
            <a:off x="5295960" y="3192480"/>
            <a:ext cx="868320" cy="601560"/>
          </a:xfrm>
          <a:custGeom>
            <a:avLst/>
            <a:gdLst/>
            <a:ahLst/>
            <a:rect l="l" t="t" r="r" b="b"/>
            <a:pathLst>
              <a:path w="868680" h="602153">
                <a:moveTo>
                  <a:pt x="250733" y="515285"/>
                </a:moveTo>
                <a:lnTo>
                  <a:pt x="379727" y="515285"/>
                </a:lnTo>
                <a:lnTo>
                  <a:pt x="379727" y="555803"/>
                </a:lnTo>
                <a:cubicBezTo>
                  <a:pt x="379727" y="570498"/>
                  <a:pt x="404178" y="582410"/>
                  <a:pt x="434340" y="582410"/>
                </a:cubicBezTo>
                <a:cubicBezTo>
                  <a:pt x="464502" y="582410"/>
                  <a:pt x="488953" y="570498"/>
                  <a:pt x="488953" y="555803"/>
                </a:cubicBezTo>
                <a:lnTo>
                  <a:pt x="488953" y="515285"/>
                </a:lnTo>
                <a:lnTo>
                  <a:pt x="617947" y="515285"/>
                </a:lnTo>
                <a:lnTo>
                  <a:pt x="639664" y="602153"/>
                </a:lnTo>
                <a:lnTo>
                  <a:pt x="229016" y="602153"/>
                </a:lnTo>
                <a:close/>
                <a:moveTo>
                  <a:pt x="463089" y="140192"/>
                </a:moveTo>
                <a:lnTo>
                  <a:pt x="501636" y="140192"/>
                </a:lnTo>
                <a:cubicBezTo>
                  <a:pt x="568863" y="140192"/>
                  <a:pt x="602476" y="171798"/>
                  <a:pt x="602476" y="235010"/>
                </a:cubicBezTo>
                <a:cubicBezTo>
                  <a:pt x="602476" y="266788"/>
                  <a:pt x="593471" y="291338"/>
                  <a:pt x="575459" y="308661"/>
                </a:cubicBezTo>
                <a:cubicBezTo>
                  <a:pt x="557448" y="325984"/>
                  <a:pt x="532267" y="334646"/>
                  <a:pt x="499915" y="334646"/>
                </a:cubicBezTo>
                <a:lnTo>
                  <a:pt x="463089" y="334646"/>
                </a:lnTo>
                <a:close/>
                <a:moveTo>
                  <a:pt x="434180" y="114036"/>
                </a:moveTo>
                <a:lnTo>
                  <a:pt x="434180" y="360802"/>
                </a:lnTo>
                <a:lnTo>
                  <a:pt x="499571" y="360802"/>
                </a:lnTo>
                <a:cubicBezTo>
                  <a:pt x="540068" y="360802"/>
                  <a:pt x="572390" y="349244"/>
                  <a:pt x="596539" y="326128"/>
                </a:cubicBezTo>
                <a:cubicBezTo>
                  <a:pt x="620688" y="303011"/>
                  <a:pt x="632763" y="272409"/>
                  <a:pt x="632763" y="234322"/>
                </a:cubicBezTo>
                <a:cubicBezTo>
                  <a:pt x="632763" y="154131"/>
                  <a:pt x="589283" y="114036"/>
                  <a:pt x="502324" y="114036"/>
                </a:cubicBezTo>
                <a:close/>
                <a:moveTo>
                  <a:pt x="298058" y="109906"/>
                </a:moveTo>
                <a:cubicBezTo>
                  <a:pt x="276375" y="109906"/>
                  <a:pt x="257676" y="114610"/>
                  <a:pt x="241959" y="124017"/>
                </a:cubicBezTo>
                <a:lnTo>
                  <a:pt x="241959" y="151378"/>
                </a:lnTo>
                <a:cubicBezTo>
                  <a:pt x="257217" y="139676"/>
                  <a:pt x="273565" y="133825"/>
                  <a:pt x="291002" y="133825"/>
                </a:cubicBezTo>
                <a:cubicBezTo>
                  <a:pt x="321977" y="133825"/>
                  <a:pt x="337464" y="147821"/>
                  <a:pt x="337464" y="175814"/>
                </a:cubicBezTo>
                <a:cubicBezTo>
                  <a:pt x="337464" y="206100"/>
                  <a:pt x="317159" y="221243"/>
                  <a:pt x="276547" y="221243"/>
                </a:cubicBezTo>
                <a:lnTo>
                  <a:pt x="257102" y="221243"/>
                </a:lnTo>
                <a:lnTo>
                  <a:pt x="257102" y="245163"/>
                </a:lnTo>
                <a:lnTo>
                  <a:pt x="277580" y="245163"/>
                </a:lnTo>
                <a:cubicBezTo>
                  <a:pt x="323468" y="245163"/>
                  <a:pt x="346413" y="261281"/>
                  <a:pt x="346413" y="293518"/>
                </a:cubicBezTo>
                <a:cubicBezTo>
                  <a:pt x="346413" y="300860"/>
                  <a:pt x="345065" y="307457"/>
                  <a:pt x="342369" y="313307"/>
                </a:cubicBezTo>
                <a:cubicBezTo>
                  <a:pt x="339673" y="319158"/>
                  <a:pt x="335830" y="324149"/>
                  <a:pt x="330839" y="328279"/>
                </a:cubicBezTo>
                <a:cubicBezTo>
                  <a:pt x="325849" y="332409"/>
                  <a:pt x="319883" y="335563"/>
                  <a:pt x="312943" y="337743"/>
                </a:cubicBezTo>
                <a:cubicBezTo>
                  <a:pt x="306002" y="339923"/>
                  <a:pt x="298230" y="341013"/>
                  <a:pt x="289626" y="341013"/>
                </a:cubicBezTo>
                <a:cubicBezTo>
                  <a:pt x="268173" y="341013"/>
                  <a:pt x="249129" y="334474"/>
                  <a:pt x="232494" y="321395"/>
                </a:cubicBezTo>
                <a:lnTo>
                  <a:pt x="232494" y="351682"/>
                </a:lnTo>
                <a:cubicBezTo>
                  <a:pt x="246375" y="360630"/>
                  <a:pt x="265075" y="365104"/>
                  <a:pt x="288593" y="365104"/>
                </a:cubicBezTo>
                <a:cubicBezTo>
                  <a:pt x="301442" y="365104"/>
                  <a:pt x="313201" y="363326"/>
                  <a:pt x="323870" y="359770"/>
                </a:cubicBezTo>
                <a:cubicBezTo>
                  <a:pt x="334539" y="356213"/>
                  <a:pt x="343688" y="351194"/>
                  <a:pt x="351317" y="344713"/>
                </a:cubicBezTo>
                <a:cubicBezTo>
                  <a:pt x="358946" y="338231"/>
                  <a:pt x="364854" y="330430"/>
                  <a:pt x="369042" y="321309"/>
                </a:cubicBezTo>
                <a:cubicBezTo>
                  <a:pt x="373229" y="312189"/>
                  <a:pt x="375323" y="302065"/>
                  <a:pt x="375323" y="290937"/>
                </a:cubicBezTo>
                <a:cubicBezTo>
                  <a:pt x="375323" y="282677"/>
                  <a:pt x="373860" y="275134"/>
                  <a:pt x="370935" y="268308"/>
                </a:cubicBezTo>
                <a:cubicBezTo>
                  <a:pt x="368009" y="261482"/>
                  <a:pt x="363965" y="255545"/>
                  <a:pt x="358803" y="250497"/>
                </a:cubicBezTo>
                <a:cubicBezTo>
                  <a:pt x="353640" y="245450"/>
                  <a:pt x="347503" y="241348"/>
                  <a:pt x="340390" y="238193"/>
                </a:cubicBezTo>
                <a:cubicBezTo>
                  <a:pt x="333277" y="235039"/>
                  <a:pt x="325533" y="233002"/>
                  <a:pt x="317159" y="232085"/>
                </a:cubicBezTo>
                <a:lnTo>
                  <a:pt x="317159" y="231396"/>
                </a:lnTo>
                <a:cubicBezTo>
                  <a:pt x="349969" y="222104"/>
                  <a:pt x="366374" y="201224"/>
                  <a:pt x="366374" y="168758"/>
                </a:cubicBezTo>
                <a:cubicBezTo>
                  <a:pt x="366374" y="160039"/>
                  <a:pt x="364740" y="152066"/>
                  <a:pt x="361470" y="144839"/>
                </a:cubicBezTo>
                <a:cubicBezTo>
                  <a:pt x="358200" y="137611"/>
                  <a:pt x="353583" y="131416"/>
                  <a:pt x="347617" y="126254"/>
                </a:cubicBezTo>
                <a:cubicBezTo>
                  <a:pt x="341652" y="121091"/>
                  <a:pt x="334482" y="117076"/>
                  <a:pt x="326107" y="114208"/>
                </a:cubicBezTo>
                <a:cubicBezTo>
                  <a:pt x="317732" y="111340"/>
                  <a:pt x="308383" y="109906"/>
                  <a:pt x="298058" y="109906"/>
                </a:cubicBezTo>
                <a:close/>
                <a:moveTo>
                  <a:pt x="58241" y="53799"/>
                </a:moveTo>
                <a:lnTo>
                  <a:pt x="810439" y="53799"/>
                </a:lnTo>
                <a:lnTo>
                  <a:pt x="810439" y="434834"/>
                </a:lnTo>
                <a:lnTo>
                  <a:pt x="58241" y="434834"/>
                </a:lnTo>
                <a:close/>
                <a:moveTo>
                  <a:pt x="35537" y="26653"/>
                </a:moveTo>
                <a:lnTo>
                  <a:pt x="35537" y="461980"/>
                </a:lnTo>
                <a:lnTo>
                  <a:pt x="833143" y="461980"/>
                </a:lnTo>
                <a:lnTo>
                  <a:pt x="833143" y="26653"/>
                </a:lnTo>
                <a:close/>
                <a:moveTo>
                  <a:pt x="0" y="0"/>
                </a:moveTo>
                <a:lnTo>
                  <a:pt x="868680" y="0"/>
                </a:lnTo>
                <a:lnTo>
                  <a:pt x="868680" y="488633"/>
                </a:lnTo>
                <a:lnTo>
                  <a:pt x="474466" y="488633"/>
                </a:lnTo>
                <a:lnTo>
                  <a:pt x="474466" y="548594"/>
                </a:lnTo>
                <a:lnTo>
                  <a:pt x="473814" y="548594"/>
                </a:lnTo>
                <a:cubicBezTo>
                  <a:pt x="473814" y="558684"/>
                  <a:pt x="455995" y="566863"/>
                  <a:pt x="434014" y="566863"/>
                </a:cubicBezTo>
                <a:cubicBezTo>
                  <a:pt x="412033" y="566863"/>
                  <a:pt x="394214" y="558684"/>
                  <a:pt x="394214" y="548594"/>
                </a:cubicBezTo>
                <a:lnTo>
                  <a:pt x="394866" y="545623"/>
                </a:lnTo>
                <a:lnTo>
                  <a:pt x="394866" y="488633"/>
                </a:lnTo>
                <a:lnTo>
                  <a:pt x="0" y="488633"/>
                </a:lnTo>
                <a:close/>
              </a:path>
            </a:pathLst>
          </a:custGeom>
          <a:solidFill>
            <a:srgbClr val="1c1c1c"/>
          </a:solidFill>
          <a:ln w="0">
            <a:noFill/>
          </a:ln>
        </p:spPr>
        <p:style>
          <a:lnRef idx="0"/>
          <a:fillRef idx="0"/>
          <a:effectRef idx="0"/>
          <a:fontRef idx="minor"/>
        </p:style>
        <p:txBody>
          <a:bodyPr anchor="ctr">
            <a:noAutofit/>
          </a:bodyPr>
          <a:p>
            <a:endParaRPr b="0" lang="en-US" sz="1800" spc="-1" strike="noStrike">
              <a:solidFill>
                <a:srgbClr val="ffffff"/>
              </a:solidFill>
              <a:latin typeface="Century Gothic"/>
            </a:endParaRPr>
          </a:p>
        </p:txBody>
      </p:sp>
      <p:pic>
        <p:nvPicPr>
          <p:cNvPr id="102" name="TextBox 14" descr=""/>
          <p:cNvPicPr/>
          <p:nvPr/>
        </p:nvPicPr>
        <p:blipFill>
          <a:blip r:embed="rId3"/>
          <a:stretch/>
        </p:blipFill>
        <p:spPr>
          <a:xfrm>
            <a:off x="225360" y="2200320"/>
            <a:ext cx="665280" cy="4333680"/>
          </a:xfrm>
          <a:prstGeom prst="rect">
            <a:avLst/>
          </a:prstGeom>
          <a:ln w="0">
            <a:noFill/>
          </a:ln>
        </p:spPr>
      </p:pic>
      <p:pic>
        <p:nvPicPr>
          <p:cNvPr id="103" name="TextBox 2" descr=""/>
          <p:cNvPicPr/>
          <p:nvPr/>
        </p:nvPicPr>
        <p:blipFill>
          <a:blip r:embed="rId4"/>
          <a:stretch/>
        </p:blipFill>
        <p:spPr>
          <a:xfrm>
            <a:off x="7040520" y="4773600"/>
            <a:ext cx="3956040" cy="652320"/>
          </a:xfrm>
          <a:prstGeom prst="rect">
            <a:avLst/>
          </a:prstGeom>
          <a:ln w="0">
            <a:noFill/>
          </a:ln>
        </p:spPr>
      </p:pic>
      <p:pic>
        <p:nvPicPr>
          <p:cNvPr id="104" name="Rectangle 10" descr=""/>
          <p:cNvPicPr/>
          <p:nvPr/>
        </p:nvPicPr>
        <p:blipFill>
          <a:blip r:embed="rId5"/>
          <a:stretch/>
        </p:blipFill>
        <p:spPr>
          <a:xfrm>
            <a:off x="6931080" y="5619600"/>
            <a:ext cx="4949640" cy="506520"/>
          </a:xfrm>
          <a:prstGeom prst="rect">
            <a:avLst/>
          </a:prstGeom>
          <a:ln w="0">
            <a:noFill/>
          </a:ln>
        </p:spPr>
      </p:pic>
      <p:pic>
        <p:nvPicPr>
          <p:cNvPr id="105" name="TextBox 11" descr=""/>
          <p:cNvPicPr/>
          <p:nvPr/>
        </p:nvPicPr>
        <p:blipFill>
          <a:blip r:embed="rId6"/>
          <a:stretch/>
        </p:blipFill>
        <p:spPr>
          <a:xfrm>
            <a:off x="6345360" y="2712960"/>
            <a:ext cx="506160" cy="3925800"/>
          </a:xfrm>
          <a:prstGeom prst="rect">
            <a:avLst/>
          </a:prstGeom>
          <a:ln w="0">
            <a:noFill/>
          </a:ln>
        </p:spPr>
      </p:pic>
      <p:pic>
        <p:nvPicPr>
          <p:cNvPr id="106" name="TextBox 15" descr=""/>
          <p:cNvPicPr/>
          <p:nvPr/>
        </p:nvPicPr>
        <p:blipFill>
          <a:blip r:embed="rId7"/>
          <a:stretch/>
        </p:blipFill>
        <p:spPr>
          <a:xfrm>
            <a:off x="6931080" y="3097080"/>
            <a:ext cx="4913280" cy="1548000"/>
          </a:xfrm>
          <a:prstGeom prst="rect">
            <a:avLst/>
          </a:prstGeom>
          <a:ln w="0">
            <a:noFill/>
          </a:ln>
        </p:spPr>
      </p:pic>
      <p:sp>
        <p:nvSpPr>
          <p:cNvPr id="107" name="Straight Connector 17"/>
          <p:cNvSpPr/>
          <p:nvPr/>
        </p:nvSpPr>
        <p:spPr>
          <a:xfrm>
            <a:off x="7047000" y="4672080"/>
            <a:ext cx="4527360" cy="0"/>
          </a:xfrm>
          <a:prstGeom prst="line">
            <a:avLst/>
          </a:prstGeom>
          <a:ln cap="rnd" w="93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08" name="Straight Connector 18"/>
          <p:cNvSpPr/>
          <p:nvPr/>
        </p:nvSpPr>
        <p:spPr>
          <a:xfrm>
            <a:off x="7085160" y="5557680"/>
            <a:ext cx="4529160" cy="0"/>
          </a:xfrm>
          <a:prstGeom prst="line">
            <a:avLst/>
          </a:prstGeom>
          <a:ln cap="rnd" w="93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09" name="TextBox 12"/>
          <p:cNvSpPr/>
          <p:nvPr/>
        </p:nvSpPr>
        <p:spPr>
          <a:xfrm>
            <a:off x="6940440" y="2598840"/>
            <a:ext cx="4638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800"/>
                </a:solidFill>
                <a:latin typeface="Century Gothic"/>
              </a:rPr>
              <a:t>HIGHEST REVENUE COUNTRIES</a:t>
            </a:r>
            <a:endParaRPr b="0" lang="en-US" sz="1400" spc="-1" strike="noStrike">
              <a:solidFill>
                <a:srgbClr val="ffffff"/>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a465"/>
                </a:solidFill>
                <a:latin typeface="Century Gothic"/>
              </a:rPr>
              <a:t>(from highest to lowest)</a:t>
            </a:r>
            <a:endParaRPr b="0" lang="en-US" sz="1400" spc="-1" strike="noStrike">
              <a:solidFill>
                <a:srgbClr val="ffffff"/>
              </a:solidFill>
              <a:latin typeface="Century Gothic"/>
            </a:endParaRPr>
          </a:p>
        </p:txBody>
      </p:sp>
      <p:sp>
        <p:nvSpPr>
          <p:cNvPr id="110" name="Straight Connector 21"/>
          <p:cNvSpPr/>
          <p:nvPr/>
        </p:nvSpPr>
        <p:spPr>
          <a:xfrm>
            <a:off x="7051680" y="2522520"/>
            <a:ext cx="4527720" cy="0"/>
          </a:xfrm>
          <a:prstGeom prst="line">
            <a:avLst/>
          </a:prstGeom>
          <a:ln cap="rnd" w="9360">
            <a:solidFill>
              <a:srgbClr val="ff68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11" name="TextBox 13"/>
          <p:cNvSpPr/>
          <p:nvPr/>
        </p:nvSpPr>
        <p:spPr>
          <a:xfrm>
            <a:off x="6935760" y="6121440"/>
            <a:ext cx="2521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Answer will be a percentage.)</a:t>
            </a:r>
            <a:endParaRPr b="0" lang="en-US" sz="1200" spc="-1" strike="noStrike">
              <a:solidFill>
                <a:srgbClr val="ffffff"/>
              </a:solidFill>
              <a:latin typeface="Century Gothic"/>
            </a:endParaRPr>
          </a:p>
        </p:txBody>
      </p:sp>
      <p:sp>
        <p:nvSpPr>
          <p:cNvPr id="112" name="Slide Number Placeholder 16"/>
          <p:cNvSpPr/>
          <p:nvPr/>
        </p:nvSpPr>
        <p:spPr>
          <a:xfrm>
            <a:off x="8737560" y="6356520"/>
            <a:ext cx="3187800" cy="4093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A49ED-C7D0-4B21-A743-BB95AF424D84}" type="slidenum">
              <a:rPr b="0" lang="en-US"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transition spd="slow">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1T00:15:49Z</dcterms:created>
  <dc:creator>Tal Krzypow</dc:creator>
  <dc:description/>
  <dc:language>en-US</dc:language>
  <cp:lastModifiedBy>Luke Benes</cp:lastModifiedBy>
  <dcterms:modified xsi:type="dcterms:W3CDTF">2013-07-31T05:59:32Z</dcterms:modified>
  <cp:revision>97</cp:revision>
  <dc:subject/>
  <dc:title>Northwin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ctivitiesAndPrograms">
    <vt:lpwstr>12990;#Microsoft product launch campaigns|e634bb7f-b77b-4305-b346-03da1c4c6f6e;#17801;#customer previews|e2bbe8c6-02ca-433d-b282-9f545cdfab07</vt:lpwstr>
  </property>
  <property fmtid="{D5CDD505-2E9C-101B-9397-08002B2CF9AE}" pid="3" name="Audiences">
    <vt:lpwstr/>
  </property>
  <property fmtid="{D5CDD505-2E9C-101B-9397-08002B2CF9AE}" pid="4" name="BusinessArchitecture">
    <vt:lpwstr/>
  </property>
  <property fmtid="{D5CDD505-2E9C-101B-9397-08002B2CF9AE}" pid="5" name="Competitors">
    <vt:lpwstr/>
  </property>
  <property fmtid="{D5CDD505-2E9C-101B-9397-08002B2CF9AE}" pid="6" name="Confidentiality">
    <vt:lpwstr>21;#Microsoft confidential|461efa83-0283-486a-a8d5-943328f3693f</vt:lpwstr>
  </property>
  <property fmtid="{D5CDD505-2E9C-101B-9397-08002B2CF9AE}" pid="7" name="ContentTypeId">
    <vt:lpwstr>0x010100D04F65069D462B4492F75E737AA4D20D</vt:lpwstr>
  </property>
  <property fmtid="{D5CDD505-2E9C-101B-9397-08002B2CF9AE}" pid="8" name="Groups">
    <vt:lpwstr/>
  </property>
  <property fmtid="{D5CDD505-2E9C-101B-9397-08002B2CF9AE}" pid="9" name="Industries">
    <vt:lpwstr/>
  </property>
  <property fmtid="{D5CDD505-2E9C-101B-9397-08002B2CF9AE}" pid="10" name="IsMyDocuments">
    <vt:bool>1</vt:bool>
  </property>
  <property fmtid="{D5CDD505-2E9C-101B-9397-08002B2CF9AE}" pid="11" name="ItemRetentionFormula">
    <vt:lpwstr/>
  </property>
  <property fmtid="{D5CDD505-2E9C-101B-9397-08002B2CF9AE}" pid="12" name="ItemType">
    <vt:lpwstr/>
  </property>
  <property fmtid="{D5CDD505-2E9C-101B-9397-08002B2CF9AE}" pid="13" name="Languages">
    <vt:lpwstr/>
  </property>
  <property fmtid="{D5CDD505-2E9C-101B-9397-08002B2CF9AE}" pid="14" name="LastUpdatedByBatchTagging">
    <vt:bool>0</vt:bool>
  </property>
  <property fmtid="{D5CDD505-2E9C-101B-9397-08002B2CF9AE}" pid="15" name="Partners">
    <vt:lpwstr/>
  </property>
  <property fmtid="{D5CDD505-2E9C-101B-9397-08002B2CF9AE}" pid="16" name="Products">
    <vt:lpwstr>10899;#Microsoft Office|3a4e9862-cdce-4bdc-8664-91038e3eb1e9;#16039;#Microsoft Office future versions|b77148c7-a73d-44bc-a163-bb7920270559;#16535;#Microsoft PowerPoint|b157e6f3-5af9-48cb-a153-895c1aa220f8</vt:lpwstr>
  </property>
  <property fmtid="{D5CDD505-2E9C-101B-9397-08002B2CF9AE}" pid="17" name="Region">
    <vt:lpwstr/>
  </property>
  <property fmtid="{D5CDD505-2E9C-101B-9397-08002B2CF9AE}" pid="18" name="Roles">
    <vt:lpwstr/>
  </property>
  <property fmtid="{D5CDD505-2E9C-101B-9397-08002B2CF9AE}" pid="19" name="SMSGDomain">
    <vt:lpwstr>13357;#Microsoft Office Division|998d7cd0-7f52-4d06-a505-529ce4856340</vt:lpwstr>
  </property>
  <property fmtid="{D5CDD505-2E9C-101B-9397-08002B2CF9AE}" pid="20" name="Segments">
    <vt:lpwstr/>
  </property>
  <property fmtid="{D5CDD505-2E9C-101B-9397-08002B2CF9AE}" pid="21" name="TaxKeyword">
    <vt:lpwstr/>
  </property>
  <property fmtid="{D5CDD505-2E9C-101B-9397-08002B2CF9AE}" pid="22" name="Topics">
    <vt:lpwstr/>
  </property>
  <property fmtid="{D5CDD505-2E9C-101B-9397-08002B2CF9AE}" pid="23" name="WorkflowChangePath">
    <vt:lpwstr>d3765c0c-e2b5-4307-934b-d5d862e93ab3,2;d3765c0c-e2b5-4307-934b-d5d862e93ab3,2;d3765c0c-e2b5-4307-934b-d5d862e93ab3,2;d3765c0c-e2b5-4307-934b-d5d862e93ab3,5;</vt:lpwstr>
  </property>
  <property fmtid="{D5CDD505-2E9C-101B-9397-08002B2CF9AE}" pid="24" name="_dlc_DocIdItemGuid">
    <vt:lpwstr>8e148394-fcdc-4540-b1ea-c87bb7542e15</vt:lpwstr>
  </property>
  <property fmtid="{D5CDD505-2E9C-101B-9397-08002B2CF9AE}" pid="25" name="_dlc_policyId">
    <vt:lpwstr/>
  </property>
  <property fmtid="{D5CDD505-2E9C-101B-9397-08002B2CF9AE}" pid="26" name="messageframeworktype">
    <vt:lpwstr/>
  </property>
</Properties>
</file>