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7D8-C09A-4312-A5E0-47765A54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D82-1490-47FE-B42F-DE544792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759-CEBF-4E5A-B596-8308921B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A71-2C04-4835-8713-59D11B8E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CE8-D1C1-4848-ADBB-D1901F19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D12-BAFE-4687-9354-3DD5515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AB1-9E02-4065-8076-D652633B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A0F-0972-461C-8A21-EE294B0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8A7-47D5-4390-BF70-78D6B11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CD3-722B-4EE8-AB44-48B02EA0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C72-CCED-447F-ABAE-8AC311B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E77-EE21-4726-9890-1A229BB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5F48-3283-41CC-AB57-588A8A022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1:15:12Z</dcterms:created>
  <dc:creator>Гость</dc:creator>
  <dc:description/>
  <dc:language>en-US</dc:language>
  <cp:lastModifiedBy>Ученик</cp:lastModifiedBy>
  <dcterms:modified xsi:type="dcterms:W3CDTF">2013-05-29T11:24:49Z</dcterms:modified>
  <cp:revision>3</cp:revision>
  <dc:subject/>
  <dc:title>1</dc:title>
</cp:coreProperties>
</file>