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D21-F9DC-4DEF-9E33-E6CDEA6A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3D8-E778-4B3B-A4FE-8753C91E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095-AC33-4BAD-B3BC-AD762495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AFB-1928-412B-89C5-2478F9D5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19F-1E5B-4F94-8EFC-DDCBB6F4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159-D377-4505-9BE1-EBDBB770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AF5-0C3D-4448-B34B-460C935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50B-16FC-4A7C-AD22-E0A6D84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D6A-E3BD-4DAD-922B-87249EE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411-59A8-49F6-B01E-B0D9F00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6C3-A96A-4D3A-B930-C9E78CB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E22-30E5-430B-90CB-6BD7FAB1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311-7C8D-4732-B2BC-53EF855B5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1:15:12Z</dcterms:created>
  <dc:creator>Гость</dc:creator>
  <dc:description/>
  <dc:language>en-US</dc:language>
  <cp:lastModifiedBy>Ученик</cp:lastModifiedBy>
  <dcterms:modified xsi:type="dcterms:W3CDTF">2013-05-29T11:24:49Z</dcterms:modified>
  <cp:revision>3</cp:revision>
  <dc:subject/>
  <dc:title>1</dc:title>
</cp:coreProperties>
</file>