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1EAB-B425-445F-BD37-15D1A449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6C9B2-8320-453A-9BC3-4DE43C3F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7AB7-F78B-4D5C-9D6D-55ED4D3B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9819-2868-4EBC-ABE0-E245CDAC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8F76-E220-490B-9B74-101871B0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6DE7-28E3-4DBE-B267-469A5F74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584C-1E62-492C-BFBC-129107CA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DED0-99AF-4139-A335-3227BDB6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8709-AEEA-4537-B8DE-CEB616CA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7244-E180-4127-BD6B-B5B04092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1F36-B9F9-4E45-BFDD-310C5B4F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B720C-176E-419D-8824-F0E8BC6C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0EED-ED6C-415C-B9E0-A078CC7D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0483-0883-434F-AE91-A518644D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6B01-3F17-4676-B851-C13AB9C5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39D7-CE8D-4DD7-9F13-EB9BE436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B162-FCE9-499C-AFFD-3B2E1800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FFA8F-0275-4AF6-BDFF-C6E646F6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EAAB-41B2-46C3-9899-6EF303A5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38EC2-5FFF-43B4-951A-B88F6A5D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0D424-B697-473B-B878-60630DD7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CAB45-36E0-4480-8DA9-BA243AAE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C452-3AA0-422C-8ED7-5082E765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ECA2E-80C9-4355-8718-B24953D8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05553-93BB-4910-989E-EB52910A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ACB34-A210-4AB9-894B-A0E18348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9F4C9-CCA5-4A17-BA2A-71D63CA5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9A76D-5A0F-4056-925B-A4BACE72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97591-9E06-4517-A8F0-E25D9203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688A6-19F4-49B6-97CB-F642BE55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40D1-9083-42FB-BD27-26D29A7D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C8B07-2A61-4379-B281-33405523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3AAB-E120-4764-9B34-CABA17A8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3A2D-A87B-40E0-9074-8AE64840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8EF5-9492-49E4-82E4-B0C9B99C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B1FB-3F5B-4425-81C5-4C26EA96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1240" y="1550880"/>
            <a:ext cx="9574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03120" y="604800"/>
            <a:ext cx="94741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201600" y="7205760"/>
            <a:ext cx="403200" cy="2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02AA29-8AC3-4C73-B697-7E9B49FD5FFA}" type="slidenum"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2"/>
          </p:nvPr>
        </p:nvSpPr>
        <p:spPr>
          <a:xfrm>
            <a:off x="604800" y="7205760"/>
            <a:ext cx="1106640" cy="28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201240" y="653760"/>
            <a:ext cx="95742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75185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75185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24480" y="7634160"/>
            <a:ext cx="3022560" cy="3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6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6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2D0FF-F69E-45EA-8C42-85AE9DAF2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7360" y="2022120"/>
            <a:ext cx="858348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506600" y="3959280"/>
            <a:ext cx="7066080" cy="192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rmAutofit fontScale="44000"/>
          </a:bodyPr>
          <a:p>
            <a:pPr marL="1508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0840" indent="-150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176CF-5962-4BF4-ACFB-11D6C2D5F1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.png"/><Relationship Id="rId12" Type="http://schemas.openxmlformats.org/officeDocument/2006/relationships/image" Target="../media/image4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854600" y="957240"/>
            <a:ext cx="1440" cy="5875200"/>
          </a:xfrm>
          <a:prstGeom prst="line">
            <a:avLst/>
          </a:prstGeom>
          <a:ln w="9360">
            <a:solidFill>
              <a:srgbClr val="666666"/>
            </a:solidFill>
            <a:prstDash val="sys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84520" y="1251000"/>
            <a:ext cx="6159240" cy="4964040"/>
          </a:xfrm>
          <a:prstGeom prst="ellipse">
            <a:avLst/>
          </a:prstGeom>
          <a:noFill/>
          <a:ln w="6408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 rot="18900000">
            <a:off x="3069720" y="1817280"/>
            <a:ext cx="586080" cy="120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 rot="16200000">
            <a:off x="2584440" y="2960280"/>
            <a:ext cx="584280" cy="1428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 rot="2700000">
            <a:off x="5952600" y="1814760"/>
            <a:ext cx="584280" cy="1201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245280" y="1174680"/>
            <a:ext cx="1487520" cy="1290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 rot="8100000">
            <a:off x="6004800" y="4717800"/>
            <a:ext cx="584280" cy="1422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6338880" y="5450040"/>
            <a:ext cx="1143000" cy="901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 rot="5400000">
            <a:off x="6473520" y="2962080"/>
            <a:ext cx="583920" cy="1428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838080" y="1360440"/>
            <a:ext cx="2389320" cy="966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63600" y="1539720"/>
            <a:ext cx="15238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68400" y="3182760"/>
            <a:ext cx="2388960" cy="966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39760" y="3363840"/>
            <a:ext cx="2030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3701880" y="2610000"/>
            <a:ext cx="2351160" cy="2350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 rot="5400000">
            <a:off x="4698720" y="-793800"/>
            <a:ext cx="335160" cy="3383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 rot="13500000">
            <a:off x="3229560" y="4719600"/>
            <a:ext cx="585720" cy="1422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556320" y="773280"/>
            <a:ext cx="561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Arial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31960" y="773280"/>
            <a:ext cx="561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Arial"/>
                <a:ea typeface="SimSu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2"/>
          <a:stretch/>
        </p:blipFill>
        <p:spPr>
          <a:xfrm>
            <a:off x="1122480" y="5321160"/>
            <a:ext cx="2388960" cy="966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306440" y="5499000"/>
            <a:ext cx="2030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7346880" y="3328920"/>
            <a:ext cx="981000" cy="7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1:10:52Z</dcterms:created>
  <dc:creator>lawrencs</dc:creator>
  <dc:description/>
  <dc:language>en-US</dc:language>
  <cp:lastModifiedBy/>
  <cp:lastPrinted>2010-05-13T07:15:02Z</cp:lastPrinted>
  <dcterms:modified xsi:type="dcterms:W3CDTF">2013-05-23T10:45:52Z</dcterms:modified>
  <cp:revision>145</cp:revision>
  <dc:subject/>
  <dc:title/>
</cp:coreProperties>
</file>