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DD30-7EF3-4261-BE28-1AE4C76D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A7D9-654C-4674-B40A-F811B9DD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5130-F398-472B-889B-BD93C111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75A6-DBAE-45D6-847E-D91A2295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D060-82F6-4AA4-B49B-5E41D7D9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A76E-B648-468A-81E2-1572B6FE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EB83-7899-4D79-B3C4-3162281E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B356-2674-4D13-9486-CFE4113F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579B-0BC9-4456-BC8A-0A13B177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5EE9-07A0-444A-96B4-D4B653AF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F676-0DB2-4CBB-9C9C-E3B64334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4820-541C-4073-8504-6C835A89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82CE-62E0-4396-BF77-86E03507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FA1B-6929-4317-BF70-093B7B6D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F5BC-A10F-4E1F-96FE-AC2BCE35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F44C-D290-4C3F-B6B9-E9B83893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6379-8348-4A81-B1F9-789899B4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5F218-7043-4CB4-BFB9-E7DCAC5B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48C96-28B5-44F5-9831-2457C696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0FA6-6B6C-4837-9094-8EC90C25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6C3A6-B19C-4E44-8F0B-12737A7F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807DD-CC83-417A-ADA3-7B410A7F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4F4D-3A83-4DEE-B65B-0662825E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7864B-F6AE-4532-BA0A-FFBD082C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7C44C-D71D-4A97-B90D-26F4B057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3B29D-2B17-40CB-AA49-12FFAA7D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F5B26-F01C-44CF-8BAF-C7251AD1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B9BB8-D228-45F9-9C1E-0689FBC5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AA4FD-7001-466B-91AC-EAD04374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C509A-6765-440A-A16E-CD3B0C63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EFDA-867C-47FE-834F-8145ACBD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DF5A-4EA3-451E-9F6B-25B8AECB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2721-725A-44DD-8715-E73CB15D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4277-58A9-4F15-A1E4-EFBCDBB3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5099-F65A-4F06-8EA6-7BF2C1AC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0367-CDA3-461D-95E6-9551D705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1240" y="1550880"/>
            <a:ext cx="9574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03120" y="604800"/>
            <a:ext cx="94741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201600" y="7205760"/>
            <a:ext cx="40320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3430ED-70CF-4296-A300-236440BB8A6B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2"/>
          </p:nvPr>
        </p:nvSpPr>
        <p:spPr>
          <a:xfrm>
            <a:off x="604800" y="7205760"/>
            <a:ext cx="1106640" cy="28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201240" y="653760"/>
            <a:ext cx="95742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75185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75185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24480" y="7634160"/>
            <a:ext cx="302256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6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6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BD426-2444-4308-B019-0E469F583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7360" y="2022120"/>
            <a:ext cx="858348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506600" y="3959280"/>
            <a:ext cx="7066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rmAutofit fontScale="44000"/>
          </a:bodyPr>
          <a:p>
            <a:pPr marL="1508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A7C07-121F-41A7-B005-21DA6A7D2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png"/><Relationship Id="rId12" Type="http://schemas.openxmlformats.org/officeDocument/2006/relationships/image" Target="../media/image4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854600" y="957240"/>
            <a:ext cx="1440" cy="5875200"/>
          </a:xfrm>
          <a:prstGeom prst="line">
            <a:avLst/>
          </a:prstGeom>
          <a:ln w="9360">
            <a:solidFill>
              <a:srgbClr val="666666"/>
            </a:solidFill>
            <a:prstDash val="sys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84520" y="1251000"/>
            <a:ext cx="6159240" cy="4964040"/>
          </a:xfrm>
          <a:prstGeom prst="ellipse">
            <a:avLst/>
          </a:prstGeom>
          <a:noFill/>
          <a:ln w="6408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 rot="18900000">
            <a:off x="3069720" y="1817280"/>
            <a:ext cx="586080" cy="120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 rot="16200000">
            <a:off x="2584440" y="2960280"/>
            <a:ext cx="58428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rot="2700000">
            <a:off x="5952600" y="1814760"/>
            <a:ext cx="584280" cy="1201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245280" y="1174680"/>
            <a:ext cx="1487520" cy="1290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 rot="8100000">
            <a:off x="6004800" y="4717800"/>
            <a:ext cx="584280" cy="142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338880" y="5450040"/>
            <a:ext cx="1143000" cy="901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 rot="5400000">
            <a:off x="6473520" y="2962080"/>
            <a:ext cx="583920" cy="1428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838080" y="1360440"/>
            <a:ext cx="2389320" cy="966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63600" y="1539720"/>
            <a:ext cx="1523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8400" y="3182760"/>
            <a:ext cx="2388960" cy="966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39760" y="3363840"/>
            <a:ext cx="2030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3701880" y="2610000"/>
            <a:ext cx="2351160" cy="2350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 rot="5400000">
            <a:off x="4698720" y="-793800"/>
            <a:ext cx="335160" cy="3383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 rot="13500000">
            <a:off x="3229560" y="4719600"/>
            <a:ext cx="585720" cy="1422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556320" y="773280"/>
            <a:ext cx="561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Arial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31960" y="773280"/>
            <a:ext cx="561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Arial"/>
                <a:ea typeface="SimSu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2"/>
          <a:stretch/>
        </p:blipFill>
        <p:spPr>
          <a:xfrm>
            <a:off x="1122480" y="5321160"/>
            <a:ext cx="2388960" cy="966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306440" y="5499000"/>
            <a:ext cx="2030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7346880" y="3328920"/>
            <a:ext cx="981000" cy="7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1:10:52Z</dcterms:created>
  <dc:creator>lawrencs</dc:creator>
  <dc:description/>
  <dc:language>en-US</dc:language>
  <cp:lastModifiedBy/>
  <cp:lastPrinted>2010-05-13T07:15:02Z</cp:lastPrinted>
  <dcterms:modified xsi:type="dcterms:W3CDTF">2013-05-23T10:45:52Z</dcterms:modified>
  <cp:revision>145</cp:revision>
  <dc:subject/>
  <dc:title/>
</cp:coreProperties>
</file>