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24382413" cy="1371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889E-A800-423A-AB5A-C314CFCB7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0FE8-456B-4B68-BD16-C05F0355F3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B6C6-3776-4C11-A1AE-E90ACF0BD6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727D-9744-4A25-9749-F8EC80A7B88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0BFE-D801-4929-8DD6-ACF78E5EDA9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27454-B083-4205-A9A5-B294EE237CC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468D-6771-4FA7-83E7-0F7AEDCC3D1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88479-1693-4AA8-B735-C5452FBBA17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56E19-456E-487D-8BC5-78CE840706D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54A0-E418-4978-B282-01667528F1B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4FCE-D7A9-46E0-87D4-1FB3E8A5098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20407-724B-425B-BFE8-50211EB79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42CB-3478-4EAD-BAE8-B67D478722A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431F1E-10F4-47BF-9240-6F338A4A8C5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69DCF-5F3E-4682-93EF-4A9ACB0D4BE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12B71-D566-4A47-BCC9-C3B3FAE53C0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0DF9D-9DB3-466A-8776-069A06F880A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0C727-1009-4A5F-9E2A-E32C598C78C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9C8A56-8354-44CB-8F11-89EAEE1606B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2C677-0145-4249-B9CE-09DFD9C5528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1C841-6235-420B-804F-F0E3F82458F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7980C0-3186-4D7B-A0AD-E0FF8743B91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A744B-2E11-4DEE-842C-F0BD5BD00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DAA5-FCD8-46DC-B4E4-EF6025BB6F3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558FCE-9F4E-4EF9-8320-42E2116FAD8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0946F-0035-493D-B713-3BF59340B21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34952-EE75-4F13-A2F2-FEB9E172CFC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E7CE3-0321-40C7-97F8-E43703889FC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A6CD5-AD69-4F83-9902-6350735EA80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E1BEB-AA61-4394-88D2-2756B54D95E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31D52-8C25-4F27-B411-3EB24F4C383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6A40A-B6F9-429A-A2F5-52E23096246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98424-81AE-4502-B660-95DC4E925B1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FD0F18-ECF6-473B-9CB9-438E4D61D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929C-FA53-450B-BD6F-9D87B448A4C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B7AE0-6BFF-401D-8886-AB774A6E40D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C085A-1E24-4BAB-81B4-04F8BC0B749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DC091-6820-45D3-83CC-553E24A1BC6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CA00F-414D-4B04-AC16-0C98B765482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CB994-08D1-41E0-9F9B-3E002414DC1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02109-FDB4-405C-A6FD-6D4C9A2679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A9FAD-FCC2-49E2-8BF8-67EABB86D0A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F3890-98B6-46CA-BCB3-9641D9535FC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45602-66EE-4103-BE65-6FAE235E1E2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7687F-7F97-4493-A3C7-EA53206808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02A0-023D-492C-B999-D52B3BFB069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8AD34-E0CA-4CCE-A271-2295ACCA553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2509-106B-426B-8ECC-F8EB1F764AD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370D3-54AD-4A76-97C6-3650ECE3492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79F6-BEB2-4228-B113-B4A2C1AC92A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1C2C-2BD8-4B96-8E62-37E7A519613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C866FC-8DC8-4C45-A9CC-454E771B494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49D882-473C-4761-8670-1292AAA9B90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D32307-43E6-4B11-A575-E529DE911C8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800ADA-BFE6-43B1-B21A-D08D601236A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21C40C-F506-462B-9ED3-48DB264A6E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884A4-ED49-4EAA-9B21-5616BD7F36D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79B81A-E297-438C-B58B-CC2AFB673F1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BCC52C-D8D2-4A1F-8856-7C5CC248F25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B76FEC-A4FF-4C77-A3F2-B3B15BB24CF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9143DA-8AC8-4404-B7B5-F32ED2C5B86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906481-2EA5-4629-B1BA-047F87F17C1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900A7A-8BB6-4A99-B4AD-E1D883AB6A2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BA88CF-FE09-49A0-874E-E52307F47C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A095-BBA1-437C-8413-13A2895689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6AF1F-E045-4CBB-9E35-F5DDAAA5EA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424B-0B93-4222-B042-B38B0A4C2F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B941-9B95-4CE4-89D1-8689CCE930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ACE3-E651-49DD-9261-F33F5F7F7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F625-4B39-4AED-97B0-A585FFD215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2C460-433B-43F9-A879-CA71930778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1600-58DE-4116-9787-E54D76DF9C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67A4-0253-4333-B37C-62FB9905BC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331A-125C-4C99-BF25-33C7126F0B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7FC-D818-4AE1-BA60-621764FB3C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685-7DB9-45D6-9B37-696483094A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933-3423-44F4-8D1E-061AAC2D7E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DD1-BF91-409D-B748-7046C06504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521-FF3E-412E-B9CC-6AF99327B0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D55B-15A9-4DE6-81E5-2DD7C49279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2A5-6D24-469A-90FE-96C338AF4C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9983-1D47-48CB-95B4-C72DCABF68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F37-9B95-424B-B763-25D7754530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22B-AE2E-4DC8-95C8-994B530C17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A1D-2DCD-4C89-814E-366AE18DC3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665-2F31-481E-8D6B-98D8D5B458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9A3-8ED7-410A-B77E-C106012987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9B082-9F45-49FA-8577-0DBC927F4E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20E62-741E-4E89-8F4C-835AA15E25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035F0-7A5E-4026-8F7C-AC500DD7D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1BD7-839F-4270-964A-BE5F327209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369D4-4CDA-4CED-ADD1-B14FF35B99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FE1C6-7F9A-440C-B5DD-1491D3DF04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247DA-EFEC-4FC2-9925-0C6F076D7D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C971E-2BA0-4D41-A163-57F8BF5514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C931D-2439-41AC-90D5-81BC5833A3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2F477-5DA9-4716-9F52-E770213827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0955E-DFC9-493D-B89A-074C9E2F99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BD6A6-51F8-4C36-B286-B26DACA85D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5F118-013A-49FB-B10D-654BDD5AC0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AF844-1964-4C9F-B5D9-1B6AD447E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4DDB-CFBD-4FDC-95D8-4538584F397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1C812-3566-4153-8E58-52BE29B8452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2355A-E609-48A3-BD6B-C532B19C8FA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ED8F6-7DD2-4855-B876-F689C96404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021FE-032F-401B-8045-965A76BFB5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76034-2316-4706-8709-D84673822C3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737B0-AD1A-4940-9EDB-DE0F50392D1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D8E5A-51D1-44D8-ABEA-D23E17BCFFB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D5B51-18F2-49AA-9F72-B4B86ECF6F3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48326-CFEA-48E0-A2A1-BDEB4DB77B1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7E6A2-4B84-423D-90D9-EF1D316CD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9AA6-43CE-48E8-9E7D-147CCE5B749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70ACD-ED2D-484B-8A89-F59B9708C7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9343-62B9-4748-880B-CD3B2BA53C2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07F3-4BA8-4C7C-815F-F92BDA26B1E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4EFC-8BB7-4750-B528-6C2E752BFD7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F83E-E9BD-43CD-971C-F84C662502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5300-D80F-4B81-9989-95D6CC3D1DD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62AA-B708-41B8-9DBB-41AA12A3CA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E655-1C12-4849-871D-09088BFC6FE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CF47-4513-442A-9BBE-4FDD6B925F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40F0-F4DB-4391-9E2F-34D34AA0F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E03A-82F3-4951-B949-074ABBBEEC1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54EB-1963-4511-BEDE-45C4E9CC29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A1F7-6AA1-4D48-9019-624FE4F9122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B8E9-0843-45FB-801C-206A2CAB6D4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CA5092-C43C-49C6-97D0-78A3BADE5B3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BDDD4E-4321-4CA4-BD6B-A784C5A86E6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567FF-7CC3-47D4-B142-3FD4FE8BA2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E059AA-16BB-4C78-AD5F-AAECA7B5075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C21A0-A4C5-4ACC-A552-E83C176C88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55D8A2-9468-4E74-A72E-6DBC50E270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89AFDB-9660-4483-ADBF-6173CD772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7504-E3FC-40FD-B34F-F4A151364CA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1DD4D5-667E-4798-944E-4E98232C47B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443176-776B-493B-951B-A3B5BC2D312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64F2C-1547-4C3D-A804-5B8890A4D3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1AFBD4-1A63-487B-9CE0-B894C2E326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FDB118-C844-479B-9559-D7F8E992D58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BEF49-5D1E-4FDD-BB2D-12A3AC74825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25C5A-3F53-4BA0-8C24-D83CFBE242E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78928-28BE-41F1-8AC5-4D77B53F8E9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8C36D-CA74-4C75-83F1-0E582F7E75B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2AC52-23DF-4E5E-8814-C92ED40D4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DCCE-8C8B-439C-A705-729D6AC3A61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2260440" y="2298240"/>
            <a:ext cx="19837440" cy="2148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75438-8AF8-4BC2-88BF-ACE9C4B0139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C2E14-7BF7-49FF-97C8-0DB805B4C1B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80364-4F41-474C-BB58-2E33AF53DBB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FA9B1-0B35-469C-95BA-D5148DA5B8D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260440" y="7890480"/>
            <a:ext cx="1983744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0D97F-B723-47A1-AD66-A3322DA07A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2425400" y="706104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26044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2425400" y="7890480"/>
            <a:ext cx="968040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A0218-1132-4DD7-9C9D-96AD27EE7DF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896760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5674760" y="706104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226044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896760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15674760" y="7890480"/>
            <a:ext cx="6387480" cy="75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05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2B527-AF96-4850-A103-9658C1137DC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C4426-3A85-44FB-901A-2E78F389B91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2688-1F98-4AFE-89C3-48D1C17D52D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E1AC-2826-4F40-B0FD-7D28AC40A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0440" y="2298240"/>
            <a:ext cx="19837440" cy="463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60440" y="7061040"/>
            <a:ext cx="1983744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marL="99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1" marL="99360" indent="-99360" algn="ctr"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2" marL="99360" indent="-99360" algn="ctr"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3" marL="99360" indent="-99360" algn="ctr"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4" marL="99360" indent="-99360" algn="ctr"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5" marL="99360" indent="-99360" algn="ctr"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6" marL="99360" indent="-99360" algn="ctr"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1589920" y="12700080"/>
            <a:ext cx="5270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DD88-7C09-47EE-A75D-D717445AF5CA}" type="slidenum"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2260080" y="3898440"/>
            <a:ext cx="966492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7408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870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0064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11392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2260440" y="355680"/>
            <a:ext cx="198374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0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B3A5-B3D5-4F51-8CCC-A57A1330AD5B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60440" y="355680"/>
            <a:ext cx="198374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2260440" y="3898440"/>
            <a:ext cx="1983744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4000"/>
          </a:bodyPr>
          <a:p>
            <a:pPr marL="883440" indent="-6325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01040" indent="-63216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19000" indent="-6325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136960" indent="-63252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54560" indent="-63216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54560" indent="-63216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54560" indent="-63216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11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2EDE-C30D-450B-91E8-F2C32E8246AC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13411080" y="3898440"/>
            <a:ext cx="869976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826920" indent="-59220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17880" indent="-5918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09200" indent="-59220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00520" indent="-59220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91480" indent="-5918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91480" indent="-5918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91480" indent="-5918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2260440" y="355680"/>
            <a:ext cx="198374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12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9013-9AB7-4D7C-8A6A-3556140DB916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2260080" y="3898440"/>
            <a:ext cx="9664920" cy="803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7408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870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70064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113920" indent="-62604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27200" indent="-625680">
              <a:spcBef>
                <a:spcPts val="51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2260440" y="355680"/>
            <a:ext cx="198374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13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2439-09D8-471A-A26A-CBCCA4B9582C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60440" y="4178160"/>
            <a:ext cx="19837440" cy="535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1E41-1226-4FF4-A8EE-48ADE850C410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2260440" y="1777680"/>
            <a:ext cx="19837440" cy="1014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95904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1" marL="136368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2" marL="1768320" indent="-71676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3" marL="217260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4" marL="257688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5" marL="257688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  <a:p>
            <a:pPr lvl="6" marL="2576880" indent="-716400">
              <a:spcBef>
                <a:spcPts val="6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3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DACF-4FC3-4A7A-9BA0-3D7C20A733C5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0440" y="10363320"/>
            <a:ext cx="19837440" cy="2387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4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FB33-BB8C-4D0F-9142-B50028787AB9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60440" y="10363320"/>
            <a:ext cx="19837440" cy="2387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1F39-A7D3-47CB-BD97-75E5D868256B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60080" y="6896160"/>
            <a:ext cx="11036520" cy="46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315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1" marL="315360" indent="-31536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2" marL="315360" indent="-31536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3" marL="315360" indent="-31536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4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5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6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260080" y="2146320"/>
            <a:ext cx="11036520" cy="46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9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6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526-DC65-45FE-9B28-BCE4DA00FC59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2260080" y="6896160"/>
            <a:ext cx="11036520" cy="46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3153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1" marL="315360" indent="-31536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2" marL="315360" indent="-31536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3" marL="315360" indent="-315360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4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5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lvl="6" marL="315360" indent="-315360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2260080" y="2146320"/>
            <a:ext cx="11036520" cy="46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9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7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5272-93A9-4BAE-8367-E19854AB81D5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0440" y="355680"/>
            <a:ext cx="198374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11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Num" idx="8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1793-E23F-443D-BB73-75203A2BDCCA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Num" idx="9"/>
          </p:nvPr>
        </p:nvSpPr>
        <p:spPr>
          <a:xfrm>
            <a:off x="11956680" y="13068360"/>
            <a:ext cx="444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BEDB-46CF-4C69-979F-B4927A416A0A}" type="slidenum">
              <a:rPr b="0" lang="en-US" sz="2400" spc="-1" strike="noStrike">
                <a:solidFill>
                  <a:srgbClr val="ffffff"/>
                </a:solidFill>
                <a:latin typeface="Gill Sans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111d"/>
            </a:gs>
            <a:gs pos="100000">
              <a:srgbClr val="1a37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3"/>
          <p:cNvSpPr/>
          <p:nvPr/>
        </p:nvSpPr>
        <p:spPr>
          <a:xfrm>
            <a:off x="21589920" y="12700080"/>
            <a:ext cx="527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B3BD-C375-49AB-9D57-0108A599EFAD}" type="slidenum"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09680" y="3505320"/>
            <a:ext cx="19837440" cy="46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400" spc="-1" strike="noStrike">
                <a:solidFill>
                  <a:srgbClr val="ffffff"/>
                </a:solidFill>
                <a:latin typeface="Verdana"/>
              </a:rPr>
              <a:t>Gradient is darker at top</a:t>
            </a:r>
            <a:br>
              <a:rPr sz="11400"/>
            </a:br>
            <a:r>
              <a:rPr b="0" lang="en-US" sz="11400" spc="-1" strike="noStrike">
                <a:solidFill>
                  <a:srgbClr val="ffffff"/>
                </a:solidFill>
                <a:latin typeface="Verdana"/>
              </a:rPr>
              <a:t>in PowerPoint 14.3.2</a:t>
            </a:r>
            <a:br>
              <a:rPr sz="11400"/>
            </a:br>
            <a:r>
              <a:rPr b="0" lang="en-US" sz="11400" spc="-1" strike="noStrike">
                <a:solidFill>
                  <a:srgbClr val="ffffff"/>
                </a:solidFill>
                <a:latin typeface="Verdana"/>
              </a:rPr>
              <a:t>Office Mac 2011 </a:t>
            </a:r>
            <a:endParaRPr b="0" lang="en-US" sz="1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2133720" y="10591560"/>
            <a:ext cx="19837440" cy="158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ave Yost</cp:lastModifiedBy>
  <dcterms:modified xsi:type="dcterms:W3CDTF">2013-04-18T07:50:22Z</dcterms:modified>
  <cp:revision>6</cp:revision>
  <dc:subject/>
  <dc:title>The Mill™ architecture</dc:title>
</cp:coreProperties>
</file>