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24382413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CAA2-F2B2-4979-B399-B43E564D7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9E04-28C4-41BC-8304-3A12D87E910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80E41-AA90-4FBB-9A8B-70334FB0930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18340-1AD6-402B-9C63-1FAD33EA342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08730-2790-4D47-9526-A21C1F88C78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E3857-AA9B-4A36-A766-CC7A1130FB7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0BA68-F390-436D-B667-8054B86A794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76A2D-7166-4594-9D70-FF0060A7767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E769-CA53-42C2-8E05-183BD0C2D35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5B75C-C10A-4354-8407-82BFCB8BFED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75AA5-52E7-44C3-81CC-5A0F202850D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FD65CA-F249-4D0D-93A4-6650E54BB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903F-2E07-4CEC-8D7D-9E9FDCB5610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289A76-E884-4709-B7B7-2EC7ACB5A42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0CE4A7-2CBA-4CE8-A6F4-B7D4D7AD825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F00968-98E7-40A3-B049-4ADAA6CA666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7B95C1-4113-4F5A-82E0-6F152309AF5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09458E-2BCB-4EE9-98DF-9D0B027794D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F48C13-7EBD-46D7-A61B-8125AAF7840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BDA214-77BF-4E92-AF68-DA408395B7E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22BE8B-171F-4F0C-8499-347ADD7C7C3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3E9812-5701-45B7-AD91-EB1F15C96E7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48A91C-4B7A-4BE3-88C8-C2D416013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220B-E2D2-46A4-A094-E5CC113AA2D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2CEC23-1F27-4F67-AF0A-77F1DFA0EF8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BDB6E2-336C-4856-AB22-F9CB6318D69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8D1212-69D0-4172-879C-493D71CD3CC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4CF875-C6D5-4686-87E3-C98401E237C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21A087-2BD7-4AEB-BA10-BB6A3E4AE01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047DE9-816F-41BF-9C4C-5419608F7AE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09058D-466E-4D86-BF71-93500A8BE95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FD49A4-2CD8-4FF4-B4E1-16BCB206D3B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882690-D9E9-4ABD-8198-0C0FF81F47C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F28009-76A1-44F2-82CB-CFB205690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15F40-4D30-4672-AEE5-4DAEC0358F8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7BADB9-BC82-4CAC-B2BC-AB401D10E84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6F6F53-01F4-4B52-B587-5D404444370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A741B5-A2D6-4A1D-8D05-FCD0F27829F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72F94-F412-438F-9FFB-FE4531C67E3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8B4D3-47F7-4A18-ADFD-35593426A7E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74FA0-1C3A-44CF-B792-C6CA093DDB5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074C2-CC28-4D56-9B73-2650A284E96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89314-3193-42F0-809F-2985C783969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8204C-7DDE-424D-9C8F-6470A9C75BB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17964-0C19-4695-ACCB-DE64F26213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194BB-037F-4C82-9FEA-0DC33892F5A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28512-B1C5-4BD8-A31F-7CB44B9A3B0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FB1C7-2DA0-4A2E-9E02-3B87756CE74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0088F-4B43-405D-9B38-F41F216346D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B55F6-3EC2-49E3-A544-1AABE063455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A98CA-3AB9-4D39-AF70-6B65B2EA58F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A66C1A-9CAC-4ACF-B59A-29BB8D5EE2C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BE8665-41E4-45B3-BA06-765F15F5EEA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E52ACD-808E-43B6-B184-61EA57EFCF1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2F19A3-38EB-4AE3-9B08-1C2AA384797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D1268E-73C8-4A1C-8C58-34764C887D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78113-EA43-49AF-8C14-CEA76624FC6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522191-2DE2-4796-ACBF-8BADE2B600B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98B4B2-2231-42A0-81CB-1C4C2DECDB3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7911F8-63E5-4EC6-995B-A7EACD82A77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DCE9A5-BE67-4CEE-9231-F586F5BE515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3739C9-B515-4DAC-A85D-67CF88A2EC6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819B43-121E-4DC4-953D-F2CC9A40B71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B916EC-9AAF-4B6A-B64A-0CB4ACDDB1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8658-367C-4E20-B073-062CE4A62B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2A459-D849-42D4-A531-D71D707753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69B28-FF62-473C-AE0D-B3B0C76E6C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B9358-5FC8-4F35-B0C8-6F1042D67C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5942D-BDAC-47EC-A572-9E6ED7397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03011-9A81-404E-BC6E-50EF6354E3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6A0E7-92BA-44B4-9C60-0632678884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D30EA-50A7-4A74-99EE-24E49E4CE7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B7BB9-727D-4D53-B4B2-6FF5F1E411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32FF-3908-4074-887B-96D1030118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D82-B104-4687-8C8F-FAA2F6CCD8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2B9-08C3-4BFC-9798-03284F7264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30F-3346-48E4-946A-8FBF0C3BB8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F0AE-DC28-4B38-8B08-784A86AAFC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820A-3206-4857-9158-B79F730B35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E0DA3-BCF4-484D-9EF9-E37A5B9AD0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3338-83E9-49B2-921B-2D976C7501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1E1-561A-49E6-B7DB-E17809BB13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610-AFE0-4DD3-A9F8-D3346F01DF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F77-EDDE-4414-9FF3-2AE66681E5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FEC-1337-4049-B2D9-BFE6A15308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26F4-AB54-43BE-809E-7DA22293B1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2694-66F3-40DE-9ACD-037D1D3C85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7AAE8-9F78-41DB-A38C-A1B24403A5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38FD4-7253-4416-8996-A43B3B4B20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7A7B5-E27F-4F53-B193-374CC853B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C0FB-D94D-4F12-AD70-84365E2A26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B3470-3B0D-4C70-8AA4-7DB8A8A1EB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C2A48-C369-4C75-ABEA-997B2D5EF2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B75C8-5985-4329-BDC0-5D8BDBE1FD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65C5E-9C29-4FE2-B357-AC7161CFB7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B807F-25E7-4B44-8244-342F9761A4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8E0E9-1066-4C45-8E0F-CC50601A63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0D349-8B1A-48B7-9293-BEEEF007AA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B4D58-BF83-4A02-8ED6-39596C61E9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1A9D5-18FC-4917-BEDE-6FC92B204E9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E28CA-0690-4ADE-8D38-42D0694FE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C469-DA4A-4CAC-889F-9EE81976D9D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46640-9501-4906-9C77-056D06C61AB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1C1AE-EE0D-49BC-9471-24871138F66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C0333-7A84-4270-A1F1-CA78823CB97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DA108-F952-468B-A93D-5952E3A4E0F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E3320-E997-4EDB-AFBD-55A65AE2105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0B17E-298F-4E4C-8D98-C6759D32DD1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06E3B-82A0-4EB0-85DB-75E9E32061F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F6FD8-7F76-4E01-A16F-D82DF0C0CFC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A62F4-03DC-45BD-8123-F9613145461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87053-3FC0-4DB0-A286-F7F21D5BE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6ACC-542E-4831-A5CF-59DA7FBBED7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F758F-0F70-4734-BDB2-081006B3790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6C04-097A-4CAE-BDC2-A0BFA8A4A25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DF6B-0318-4E9A-BE41-181735BACF9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E939-3F41-40E1-AFA5-56A67B757F8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1D22-51D9-49C5-8158-6131E4F1335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B56B-2495-4E01-A59D-CE007223E57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B201-87BF-4724-89F6-C21939B7FEF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E008-75AF-4400-A32E-ECA0972A4DE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FB9D-40C2-491A-9772-F9936B8A875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F6C8-8274-4DE6-B679-443EE7F15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7E33-9C01-4CBA-AA06-05CBA778CAB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0851-38D3-42E1-80C9-928151D3A2C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7852-0D48-43BE-A57E-FBCE9E16E96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C24B-FEC5-4D9D-9B4F-CFA14B967A8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EB1C65-1E8B-4EF0-9872-6845F766F5B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4B1FD0-256C-4175-924D-F96A2C11CE4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4FF73B-F6E1-429C-9EBD-16AA8F7B872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988844-A9B4-4774-BC40-558A2AB6DD6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4D225C-8E3D-4E86-9EA5-F21ABF61E19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08A1A5-B018-46B9-B65C-8198F501496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9BC339-9712-40B8-8667-86A19A947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7A68B-E721-4864-8EB5-E1BB0CAAE3E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4163D5-2FF2-4F92-9807-BE572657816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5945AF-69BC-4ED0-9A7C-319F94C4854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9C2342-8B14-4039-B2BD-F92341A777F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BC449E-C086-4D0B-92DC-A2D31FC9A7F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9645D3-4046-4CA3-81FC-46C6C8046DF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FF080-3103-44C9-964B-BD94950C616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B442E-8DAA-4CBD-B361-C8A01010C3E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F213B-F151-4564-A277-9F223DDD412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9CED37-BEEC-45D2-ACA4-83EA51AA725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7477A-58F3-4A7E-973A-F71718DE7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D946-7DD5-4B6C-BFE4-E3AAA02F3DD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592BE-4664-419C-B2CF-B133F27FDF3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9929A-5D6F-447F-8035-B73737257AF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4FF09-1A38-4C07-BA0C-43BA047FCFB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8A98C-3DA3-4FB0-B3BF-DD50F3986EC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66D53-7D37-44CE-A528-AB3B2587BE8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A46B9-E3C3-4406-A925-C53B61BD251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9E573-35AA-4F43-87A6-C51FA964186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F8698-9F60-45DB-BA00-4697F8553E7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E31B3-BBDF-47C2-9AE7-C8DD297031D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4B924-3B67-46FE-8264-BB41CE8E7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marL="99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lvl="1" marL="99360" indent="-99360" algn="ctr"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lvl="2" marL="99360" indent="-99360" algn="ctr"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lvl="3" marL="99360" indent="-99360" algn="ctr"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lvl="4" marL="99360" indent="-99360" algn="ctr">
              <a:buClr>
                <a:srgbClr val="ffffff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lvl="5" marL="99360" indent="-99360" algn="ctr">
              <a:buClr>
                <a:srgbClr val="ffffff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lvl="6" marL="99360" indent="-99360" algn="ctr">
              <a:buClr>
                <a:srgbClr val="ffffff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1589920" y="12700080"/>
            <a:ext cx="527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5CC2-E471-446D-A70E-319BD2DB731E}" type="slidenum"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2260080" y="3898440"/>
            <a:ext cx="9664920" cy="803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74080" indent="-62604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87000" indent="-62568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00640" indent="-62604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113920" indent="-62604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27200" indent="-62568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27200" indent="-62568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27200" indent="-62568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2260440" y="355680"/>
            <a:ext cx="19837440" cy="344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10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7298-A0FA-470B-B136-8242CABD3302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60440" y="355680"/>
            <a:ext cx="19837440" cy="344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2260440" y="3898440"/>
            <a:ext cx="19837440" cy="803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883440" indent="-63252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01040" indent="-63216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19000" indent="-63252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136960" indent="-63252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54560" indent="-63216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54560" indent="-63216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54560" indent="-63216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11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3883-66EF-473C-8533-F123D570DB4C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13411080" y="3898440"/>
            <a:ext cx="8699760" cy="803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826920" indent="-59220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17880" indent="-59184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09200" indent="-59220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00520" indent="-59220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91480" indent="-59184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91480" indent="-59184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91480" indent="-59184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2260440" y="355680"/>
            <a:ext cx="19837440" cy="344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12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7EA4-A75B-47C8-961E-02EEC232BA1E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2260080" y="3898440"/>
            <a:ext cx="9664920" cy="803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74080" indent="-62604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87000" indent="-62568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00640" indent="-62604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113920" indent="-62604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27200" indent="-62568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27200" indent="-62568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27200" indent="-62568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title"/>
          </p:nvPr>
        </p:nvSpPr>
        <p:spPr>
          <a:xfrm>
            <a:off x="2260440" y="355680"/>
            <a:ext cx="19837440" cy="344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13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4485-09DD-436B-A1DB-EA7C102F35E0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60440" y="4178160"/>
            <a:ext cx="19837440" cy="535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1B62-3D6C-4C5D-A10F-31C24575EAFB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2260440" y="1777680"/>
            <a:ext cx="19837440" cy="1014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959040" indent="-716400">
              <a:spcBef>
                <a:spcPts val="6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lvl="1" marL="1363680" indent="-716400">
              <a:spcBef>
                <a:spcPts val="6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lvl="2" marL="1768320" indent="-716760">
              <a:spcBef>
                <a:spcPts val="6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lvl="3" marL="2172600" indent="-716400">
              <a:spcBef>
                <a:spcPts val="6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lvl="4" marL="2576880" indent="-716400">
              <a:spcBef>
                <a:spcPts val="6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lvl="5" marL="2576880" indent="-716400">
              <a:spcBef>
                <a:spcPts val="6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lvl="6" marL="2576880" indent="-716400">
              <a:spcBef>
                <a:spcPts val="6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3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FCC0-B9B2-4DDB-84EA-9FF256B42F0C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0440" y="10363320"/>
            <a:ext cx="19837440" cy="2387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Num" idx="4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A1E1-5CD0-4BEA-9976-91AFDB3C6BF8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60440" y="10363320"/>
            <a:ext cx="19837440" cy="2387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F73B-15C5-4E15-8854-A1D7F5036B7B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60080" y="6896160"/>
            <a:ext cx="11036520" cy="463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315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1" marL="315360" indent="-31536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2" marL="315360" indent="-31536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3" marL="315360" indent="-31536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4" marL="315360" indent="-31536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5" marL="315360" indent="-31536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6" marL="315360" indent="-31536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260080" y="2146320"/>
            <a:ext cx="11036520" cy="463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9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6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E7BA-AF86-4AE8-B2DB-EF40DA2662E9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2260080" y="6896160"/>
            <a:ext cx="11036520" cy="463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315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1" marL="315360" indent="-31536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2" marL="315360" indent="-31536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3" marL="315360" indent="-31536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4" marL="315360" indent="-31536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5" marL="315360" indent="-31536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6" marL="315360" indent="-31536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2260080" y="2146320"/>
            <a:ext cx="11036520" cy="463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9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7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82F3-F4C5-447F-9958-01097837C8BC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60440" y="355680"/>
            <a:ext cx="19837440" cy="344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Num" idx="8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0085-3D0C-400B-A400-8B81692EBE12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Num" idx="9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6F46-E89E-47F0-BA48-BA305167262F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lide Number Placeholder 3"/>
          <p:cNvSpPr/>
          <p:nvPr/>
        </p:nvSpPr>
        <p:spPr>
          <a:xfrm>
            <a:off x="21589920" y="12700080"/>
            <a:ext cx="527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B995-B877-423A-A47C-CE33A394A634}" type="slidenum"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09680" y="3505320"/>
            <a:ext cx="19837440" cy="463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ffffff"/>
                </a:solidFill>
                <a:latin typeface="Verdana"/>
              </a:rPr>
              <a:t>Gradient is darker at top</a:t>
            </a:r>
            <a:br>
              <a:rPr sz="11400"/>
            </a:br>
            <a:r>
              <a:rPr b="0" lang="en-US" sz="11400" spc="-1" strike="noStrike">
                <a:solidFill>
                  <a:srgbClr val="ffffff"/>
                </a:solidFill>
                <a:latin typeface="Verdana"/>
              </a:rPr>
              <a:t>in PowerPoint 14.3.2</a:t>
            </a:r>
            <a:br>
              <a:rPr sz="11400"/>
            </a:br>
            <a:r>
              <a:rPr b="0" lang="en-US" sz="11400" spc="-1" strike="noStrike">
                <a:solidFill>
                  <a:srgbClr val="ffffff"/>
                </a:solidFill>
                <a:latin typeface="Verdana"/>
              </a:rPr>
              <a:t>Office Mac 2011 </a:t>
            </a: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2133720" y="10591560"/>
            <a:ext cx="19837440" cy="158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Dave Yost</cp:lastModifiedBy>
  <dcterms:modified xsi:type="dcterms:W3CDTF">2013-04-18T07:50:22Z</dcterms:modified>
  <cp:revision>6</cp:revision>
  <dc:subject/>
  <dc:title>The Mill™ architecture</dc:title>
</cp:coreProperties>
</file>