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1.png" ContentType="image/png"/>
  <Override PartName="/ppt/media/image9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776b2"/>
                </a:solidFill>
                <a:latin typeface="Calibri"/>
              </a:rPr>
              <a:t>Click to move the slide</a:t>
            </a: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E60F4-E5A9-4D9E-8E92-37F489B388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DF7DD-19CA-495C-A0C5-80AED8258B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9D713-2669-45E2-9916-EF68DE18A9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D42C3-BD83-4A4E-819A-D865DEB468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5C5D1-33DB-4450-8C20-C5F8D757D6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7260E-8DF5-4DE5-AC19-1EAD76C342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A8236-0D57-469F-917A-CA5E92436B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o many slides her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83B0E-279F-4575-A833-43E887AFB6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D692F-9121-427E-940A-4736F0877E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37824-DC08-4A8E-8F07-C52594D991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B0B03-2D74-45D3-BDA8-96C5E939C5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412A7-69F9-4A35-ACCC-A376BC91DF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6104B-FB24-4E81-83BD-9D806881EF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12B53-95F5-4A91-BB81-3A8384D5F9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1514A-AAFD-4AB7-BF1E-4CB59F39B8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2999"/>
              </a:lnSpc>
              <a:spcBef>
                <a:spcPts val="224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3D568-CD08-4570-BF0B-24D2E77C49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5034B-E123-423A-B6A5-4D8108CE0D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0DC7C-160B-4D6F-A559-12D4C57669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8380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8380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8380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380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B0DF-1B0C-4E6D-A45B-92EE0C904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77AB-FA4A-419B-87CC-C1D9CA25B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A35C-AD93-479A-9977-39ED48A8F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12D1-B51A-4FEC-8937-DA7BC6C24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3E6E-A98A-42BC-91CD-1E9DFE888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8380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268C-19AD-4241-802A-B7D99B0E6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6D7F-F8FE-481D-9EB9-E81CC36A5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D05F-2DEB-45ED-B0DF-BD4EE35F3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EF00-7257-485D-9948-C18C7A02C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B0F1-48A5-4D5A-8DFA-C9F6B6793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629D-8DEF-4781-989D-2FCCB0E74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97C8-D620-4A73-8109-0E7D4751E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776b2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162c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776b2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162c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4" descr="Untitled-7"/>
          <p:cNvPicPr/>
          <p:nvPr/>
        </p:nvPicPr>
        <p:blipFill>
          <a:blip r:embed="rId2"/>
          <a:stretch/>
        </p:blipFill>
        <p:spPr>
          <a:xfrm>
            <a:off x="0" y="6765840"/>
            <a:ext cx="9144000" cy="9216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776b2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162c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430200"/>
          </a:xfrm>
          <a:prstGeom prst="rect">
            <a:avLst/>
          </a:prstGeom>
          <a:ln w="0">
            <a:noFill/>
          </a:ln>
        </p:spPr>
      </p:pic>
      <p:sp>
        <p:nvSpPr>
          <p:cNvPr id="80" name="Date Placeholder 3"/>
          <p:cNvSpPr/>
          <p:nvPr/>
        </p:nvSpPr>
        <p:spPr>
          <a:xfrm>
            <a:off x="228600" y="6095880"/>
            <a:ext cx="8915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mbria"/>
                <a:ea typeface="Arial"/>
              </a:rPr>
              <a:t>© 2012 Cengage Learning.  All Rights Reserved. May not be scanned, copied or duplicated, or posted to a publicly accessible website, in whole or in par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29"/>
          <p:cNvGrpSpPr/>
          <p:nvPr/>
        </p:nvGrpSpPr>
        <p:grpSpPr>
          <a:xfrm>
            <a:off x="0" y="1371600"/>
            <a:ext cx="9144000" cy="5486400"/>
            <a:chOff x="0" y="1371600"/>
            <a:chExt cx="9144000" cy="5486400"/>
          </a:xfrm>
        </p:grpSpPr>
        <p:pic>
          <p:nvPicPr>
            <p:cNvPr id="118" name="Picture 13" descr="Untitled-7"/>
            <p:cNvPicPr/>
            <p:nvPr/>
          </p:nvPicPr>
          <p:blipFill>
            <a:blip r:embed="rId2"/>
            <a:stretch/>
          </p:blipFill>
          <p:spPr>
            <a:xfrm>
              <a:off x="0" y="1371600"/>
              <a:ext cx="9144000" cy="17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Picture 14" descr="Untitled-7"/>
            <p:cNvPicPr/>
            <p:nvPr/>
          </p:nvPicPr>
          <p:blipFill>
            <a:blip r:embed="rId3"/>
            <a:stretch/>
          </p:blipFill>
          <p:spPr>
            <a:xfrm>
              <a:off x="0" y="6681960"/>
              <a:ext cx="9144000" cy="17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776b2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162c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077400" cy="1306440"/>
          </a:xfrm>
          <a:prstGeom prst="rect">
            <a:avLst/>
          </a:prstGeom>
          <a:ln w="0">
            <a:noFill/>
          </a:ln>
        </p:spPr>
      </p:pic>
      <p:sp>
        <p:nvSpPr>
          <p:cNvPr id="123" name="Date Placeholder 3"/>
          <p:cNvSpPr/>
          <p:nvPr/>
        </p:nvSpPr>
        <p:spPr>
          <a:xfrm>
            <a:off x="228600" y="4952880"/>
            <a:ext cx="8915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Cambria"/>
                <a:ea typeface="Arial"/>
              </a:rPr>
              <a:t>Lecture and Resource Sl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Cambria"/>
                <a:ea typeface="Arial"/>
              </a:rPr>
              <a:t>BCOM </a:t>
            </a:r>
            <a:r>
              <a:rPr b="0" lang="en-US" sz="1800" spc="-1" strike="noStrike">
                <a:solidFill>
                  <a:srgbClr val="808080"/>
                </a:solidFill>
                <a:latin typeface="Cambria"/>
                <a:ea typeface="Arial"/>
              </a:rPr>
              <a:t>3e, Lehman &amp; DuFrene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mbria"/>
                <a:ea typeface="Arial"/>
              </a:rPr>
              <a:t>© 2012 Cengage Learning.  All Rights Reserved. May not be scanned, copied or duplicated, or posted to a publicly accessible website, in whole or in par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2" descr="PPTtitlebg"/>
          <p:cNvPicPr/>
          <p:nvPr/>
        </p:nvPicPr>
        <p:blipFill>
          <a:blip r:embed="rId5"/>
          <a:stretch/>
        </p:blipFill>
        <p:spPr>
          <a:xfrm>
            <a:off x="-1440" y="0"/>
            <a:ext cx="9146880" cy="6859440"/>
          </a:xfrm>
          <a:prstGeom prst="rect">
            <a:avLst/>
          </a:prstGeom>
          <a:ln w="0">
            <a:noFill/>
          </a:ln>
        </p:spPr>
      </p:pic>
      <p:sp>
        <p:nvSpPr>
          <p:cNvPr id="125" name="Date Placeholder 3"/>
          <p:cNvSpPr/>
          <p:nvPr/>
        </p:nvSpPr>
        <p:spPr>
          <a:xfrm>
            <a:off x="228600" y="548640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8d37c"/>
                </a:solidFill>
                <a:latin typeface="Cambria"/>
              </a:rPr>
              <a:t>Lecture and Resource sl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8d37c"/>
                </a:solidFill>
                <a:latin typeface="Cambria"/>
              </a:rPr>
              <a:t>BCOM</a:t>
            </a:r>
            <a:r>
              <a:rPr b="0" lang="en-US" sz="1800" spc="-1" strike="noStrike">
                <a:solidFill>
                  <a:srgbClr val="c8d37c"/>
                </a:solidFill>
                <a:latin typeface="Cambria"/>
              </a:rPr>
              <a:t> 3e, Lehman &amp; DuFrene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8d37c"/>
                </a:solidFill>
                <a:latin typeface="Cambria"/>
              </a:rPr>
              <a:t>© 2012 Cengage Learning.  All Rights Reserved. May not be scanned, copied or duplicated, or posted to a publicly accessible website, in whole or in par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9"/>
          <p:cNvGrpSpPr/>
          <p:nvPr/>
        </p:nvGrpSpPr>
        <p:grpSpPr>
          <a:xfrm>
            <a:off x="0" y="1371600"/>
            <a:ext cx="9144000" cy="5486400"/>
            <a:chOff x="0" y="1371600"/>
            <a:chExt cx="9144000" cy="5486400"/>
          </a:xfrm>
        </p:grpSpPr>
        <p:pic>
          <p:nvPicPr>
            <p:cNvPr id="163" name="Picture 13" descr="Untitled-7"/>
            <p:cNvPicPr/>
            <p:nvPr/>
          </p:nvPicPr>
          <p:blipFill>
            <a:blip r:embed="rId2"/>
            <a:stretch/>
          </p:blipFill>
          <p:spPr>
            <a:xfrm>
              <a:off x="0" y="1371600"/>
              <a:ext cx="9144000" cy="17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14" descr="Untitled-7"/>
            <p:cNvPicPr/>
            <p:nvPr/>
          </p:nvPicPr>
          <p:blipFill>
            <a:blip r:embed="rId3"/>
            <a:stretch/>
          </p:blipFill>
          <p:spPr>
            <a:xfrm>
              <a:off x="0" y="6681960"/>
              <a:ext cx="9144000" cy="17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776b2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162c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1306440"/>
          </a:xfrm>
          <a:prstGeom prst="rect">
            <a:avLst/>
          </a:prstGeom>
          <a:ln w="0">
            <a:noFill/>
          </a:ln>
        </p:spPr>
      </p:pic>
      <p:sp>
        <p:nvSpPr>
          <p:cNvPr id="168" name="Date Placeholder 3"/>
          <p:cNvSpPr/>
          <p:nvPr/>
        </p:nvSpPr>
        <p:spPr>
          <a:xfrm>
            <a:off x="228600" y="4952880"/>
            <a:ext cx="8915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Cambria"/>
                <a:ea typeface="Arial"/>
              </a:rPr>
              <a:t>Lecture and Resource Sl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Cambria"/>
                <a:ea typeface="Arial"/>
              </a:rPr>
              <a:t>BCOM </a:t>
            </a:r>
            <a:r>
              <a:rPr b="0" lang="en-US" sz="1800" spc="-1" strike="noStrike">
                <a:solidFill>
                  <a:srgbClr val="808080"/>
                </a:solidFill>
                <a:latin typeface="Cambria"/>
                <a:ea typeface="Arial"/>
              </a:rPr>
              <a:t>3e, Lehman &amp; DuFrene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mbria"/>
                <a:ea typeface="Arial"/>
              </a:rPr>
              <a:t>© 2012 Cengage Learning.  All Rights Reserved. May not be scanned, copied or duplicated, or posted to a publicly accessible website, in whole or in par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Fort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ort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Fort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ort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Fort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5E354-E869-496E-8575-94ACB8B8F08A}" type="slidenum">
              <a:rPr b="0" lang="en-US" sz="1400" spc="-1" strike="noStrike">
                <a:solidFill>
                  <a:srgbClr val="000000"/>
                </a:solidFill>
                <a:latin typeface="Fort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1143000" y="761760"/>
            <a:ext cx="632448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Calibri"/>
                <a:ea typeface="ＭＳ Ｐゴシック"/>
              </a:rPr>
              <a:t>Chapter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Rectangle 2"/>
          <p:cNvSpPr/>
          <p:nvPr/>
        </p:nvSpPr>
        <p:spPr>
          <a:xfrm>
            <a:off x="1143000" y="1828800"/>
            <a:ext cx="7620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aaf19"/>
                </a:solidFill>
                <a:latin typeface="Cambria"/>
              </a:rPr>
              <a:t>Focusing on Interpersonal and Group Communi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Learning Objectiv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362320" y="1752120"/>
            <a:ext cx="6248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cribe the role of nonverbal messages in commun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7848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776b2"/>
                </a:solidFill>
                <a:latin typeface="Calibri"/>
              </a:rPr>
              <a:t>Nonverbal Communication </a:t>
            </a:r>
            <a:br>
              <a:rPr sz="4000"/>
            </a:br>
            <a:r>
              <a:rPr b="1" lang="en-US" sz="4000" spc="-1" strike="noStrike">
                <a:solidFill>
                  <a:srgbClr val="1776b2"/>
                </a:solidFill>
                <a:latin typeface="Calibri"/>
              </a:rPr>
              <a:t>Adds Meaning</a:t>
            </a: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pic>
        <p:nvPicPr>
          <p:cNvPr id="284" name="Diagram 4" descr=""/>
          <p:cNvPicPr/>
          <p:nvPr/>
        </p:nvPicPr>
        <p:blipFill>
          <a:blip r:embed="rId1"/>
          <a:stretch/>
        </p:blipFill>
        <p:spPr>
          <a:xfrm>
            <a:off x="-6480" y="1889280"/>
            <a:ext cx="9156960" cy="429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89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776b2"/>
                </a:solidFill>
                <a:latin typeface="Calibri"/>
              </a:rPr>
              <a:t>Metacommunication</a:t>
            </a: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609480" y="1447920"/>
          <a:ext cx="7619760" cy="4765320"/>
        </p:xfrm>
        <a:graphic>
          <a:graphicData uri="http://schemas.openxmlformats.org/drawingml/2006/table">
            <a:tbl>
              <a:tblPr/>
              <a:tblGrid>
                <a:gridCol w="2540160"/>
                <a:gridCol w="2539440"/>
                <a:gridCol w="2540160"/>
              </a:tblGrid>
              <a:tr h="68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mbria"/>
                          <a:ea typeface="ＭＳ Ｐゴシック"/>
                        </a:rPr>
                        <a:t>Message S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mbria"/>
                          <a:ea typeface="ＭＳ Ｐゴシック"/>
                        </a:rPr>
                        <a:t>Message Implied by Send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mbria"/>
                          <a:ea typeface="ＭＳ Ｐゴシック"/>
                        </a:rPr>
                        <a:t>Message Inferred by Receiver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42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ＭＳ Ｐゴシック"/>
                        </a:rPr>
                        <a:t>“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ＭＳ Ｐゴシック"/>
                        </a:rPr>
                        <a:t>Be on time.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ＭＳ Ｐゴシック"/>
                        </a:rPr>
                        <a:t>“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ＭＳ Ｐゴシック"/>
                        </a:rPr>
                        <a:t>An early start is the best one.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ＭＳ Ｐゴシック"/>
                        </a:rPr>
                        <a:t>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ＭＳ Ｐゴシック"/>
                        </a:rPr>
                        <a:t>“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ＭＳ Ｐゴシック"/>
                        </a:rPr>
                        <a:t>You are often late.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ＭＳ Ｐゴシック"/>
                        </a:rPr>
                        <a:t>“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ＭＳ Ｐゴシック"/>
                        </a:rPr>
                        <a:t>She thinks I’m always late.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22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ＭＳ Ｐゴシック"/>
                        </a:rPr>
                        <a:t>“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ＭＳ Ｐゴシック"/>
                        </a:rPr>
                        <a:t>Take more time with your work.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ＭＳ Ｐゴシック"/>
                        </a:rPr>
                        <a:t>I want to help you improve” or “We can’t afford any more foul-ups.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ＭＳ Ｐゴシック"/>
                        </a:rPr>
                        <a:t>“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ＭＳ Ｐゴシック"/>
                        </a:rPr>
                        <a:t>He thinks I’m careless, and this comment is a warning.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42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ＭＳ Ｐゴシック"/>
                        </a:rPr>
                        <a:t>“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ＭＳ Ｐゴシック"/>
                        </a:rPr>
                        <a:t>This work is better.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ＭＳ Ｐゴシック"/>
                        </a:rPr>
                        <a:t>“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ＭＳ Ｐゴシック"/>
                        </a:rPr>
                        <a:t>Good solid revisions.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ＭＳ Ｐゴシック"/>
                        </a:rPr>
                        <a:t>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ＭＳ Ｐゴシック"/>
                        </a:rPr>
                        <a:t>“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ＭＳ Ｐゴシック"/>
                        </a:rPr>
                        <a:t>Your work finally shows promise.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ＭＳ Ｐゴシック"/>
                        </a:rPr>
                        <a:t>“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ＭＳ Ｐゴシック"/>
                        </a:rPr>
                        <a:t>Was my previous work bad?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776b2"/>
                </a:solidFill>
                <a:latin typeface="Calibri"/>
              </a:rPr>
              <a:t>Kinesic Communication</a:t>
            </a:r>
            <a:endParaRPr b="1" lang="en-US" sz="3600" spc="-1" strike="noStrike">
              <a:solidFill>
                <a:srgbClr val="1776b2"/>
              </a:solidFill>
              <a:latin typeface="Calibri"/>
            </a:endParaRPr>
          </a:p>
        </p:txBody>
      </p:sp>
      <p:pic>
        <p:nvPicPr>
          <p:cNvPr id="288" name="Diagram 5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7559640" cy="367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776b2"/>
                </a:solidFill>
                <a:latin typeface="Calibri"/>
              </a:rPr>
              <a:t>Understanding Kinesic Messages</a:t>
            </a: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1143000" y="1600200"/>
          <a:ext cx="6403680" cy="4686120"/>
        </p:xfrm>
        <a:graphic>
          <a:graphicData uri="http://schemas.openxmlformats.org/drawingml/2006/table">
            <a:tbl>
              <a:tblPr/>
              <a:tblGrid>
                <a:gridCol w="3201840"/>
                <a:gridCol w="3201840"/>
              </a:tblGrid>
              <a:tr h="38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mbria"/>
                          <a:ea typeface="ＭＳ Ｐゴシック"/>
                        </a:rPr>
                        <a:t>Ac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mbria"/>
                          <a:ea typeface="ＭＳ Ｐゴシック"/>
                        </a:rPr>
                        <a:t>Possible Mess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ＭＳ Ｐゴシック"/>
                        </a:rPr>
                        <a:t>Wink or light chuckle after stat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ＭＳ Ｐゴシック"/>
                        </a:rPr>
                        <a:t>“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ＭＳ Ｐゴシック"/>
                        </a:rPr>
                        <a:t>Don’t believe what I just said.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13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ＭＳ Ｐゴシック"/>
                        </a:rPr>
                        <a:t>A supervisor lightly puts his arm around an employee’s should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ＭＳ Ｐゴシック"/>
                        </a:rPr>
                        <a:t>“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ＭＳ Ｐゴシック"/>
                        </a:rPr>
                        <a:t>Everything is fine.  Let me help you.”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ＭＳ Ｐゴシック"/>
                        </a:rPr>
                        <a:t>OR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ＭＳ Ｐゴシック"/>
                        </a:rPr>
                        <a:t>sexual harass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ＭＳ Ｐゴシック"/>
                        </a:rPr>
                        <a:t>A job applicant submits a résumé with erro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ＭＳ Ｐゴシック"/>
                        </a:rPr>
                        <a:t>““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ＭＳ Ｐゴシック"/>
                        </a:rPr>
                        <a:t>My spelling and grammar skills are deficient.”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ＭＳ Ｐゴシック"/>
                        </a:rPr>
                        <a:t>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ＭＳ Ｐゴシック"/>
                        </a:rPr>
                        <a:t>“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ＭＳ Ｐゴシック"/>
                        </a:rPr>
                        <a:t>I don’t care to do my best.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08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ＭＳ Ｐゴシック"/>
                        </a:rPr>
                        <a:t>A group leader does not sit at the head of the t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ＭＳ Ｐゴシック"/>
                        </a:rPr>
                        <a:t>“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ＭＳ Ｐゴシック"/>
                        </a:rPr>
                        <a:t>I want to demonstrate my equality with other members.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9083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776b2"/>
                </a:solidFill>
                <a:latin typeface="Calibri"/>
              </a:rPr>
              <a:t>Understanding Nonverbal Messages</a:t>
            </a: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990360" y="205740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0560" indent="-520560">
              <a:spcBef>
                <a:spcPts val="21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not be 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20560" indent="-520560">
              <a:spcBef>
                <a:spcPts val="21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ry between ______ and cul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20560" indent="-520560">
              <a:spcBef>
                <a:spcPts val="21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 be ____________ or unintentional, _________or harmfu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20560" indent="-520560">
              <a:spcBef>
                <a:spcPts val="21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 be __________ and receive more attention than the verbal mess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20560" indent="-520560"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Text Box 5"/>
          <p:cNvSpPr/>
          <p:nvPr/>
        </p:nvSpPr>
        <p:spPr>
          <a:xfrm>
            <a:off x="3292560" y="206064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avoi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6"/>
          <p:cNvSpPr/>
          <p:nvPr/>
        </p:nvSpPr>
        <p:spPr>
          <a:xfrm>
            <a:off x="3902040" y="28036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people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7"/>
          <p:cNvSpPr/>
          <p:nvPr/>
        </p:nvSpPr>
        <p:spPr>
          <a:xfrm>
            <a:off x="2803680" y="481644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inten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8"/>
          <p:cNvSpPr/>
          <p:nvPr/>
        </p:nvSpPr>
        <p:spPr>
          <a:xfrm>
            <a:off x="3932280" y="40687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beneficial</a:t>
            </a:r>
            <a:r>
              <a:rPr b="0" lang="en-US" sz="3200" spc="-1" strike="noStrike">
                <a:solidFill>
                  <a:srgbClr val="0070c0"/>
                </a:solidFill>
                <a:latin typeface="Cambria"/>
              </a:rPr>
              <a:t> 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9"/>
          <p:cNvSpPr/>
          <p:nvPr/>
        </p:nvSpPr>
        <p:spPr>
          <a:xfrm>
            <a:off x="2882880" y="35784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contradic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Learning Objectiv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362320" y="1752120"/>
            <a:ext cx="6248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dentify aspects of effective liste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096920" y="29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776b2"/>
                </a:solidFill>
                <a:latin typeface="Calibri"/>
              </a:rPr>
              <a:t>Effective Listeners . . .  </a:t>
            </a: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5736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04720" indent="-50472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Minimize distraction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720" indent="-50472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t in touch with the speak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720" indent="-50472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w active involvement; do not interrup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720" indent="-50472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Ask reflective questio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720" indent="-50472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Send probing prompts to the speak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720" indent="-50472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Use lag time wise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27160" y="32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776b2"/>
                </a:solidFill>
                <a:latin typeface="Calibri"/>
              </a:rPr>
              <a:t>Bad Listening Habits</a:t>
            </a: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sp>
        <p:nvSpPr>
          <p:cNvPr id="303" name="Rectangle 4"/>
          <p:cNvSpPr/>
          <p:nvPr/>
        </p:nvSpPr>
        <p:spPr>
          <a:xfrm>
            <a:off x="990720" y="1855800"/>
            <a:ext cx="7238880" cy="38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7680" indent="-5176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SzPct val="75000"/>
              <a:buFont typeface="Calibri"/>
              <a:buChar char="•"/>
              <a:tabLst>
                <a:tab algn="l" pos="51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king atten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-5176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SzPct val="75000"/>
              <a:buFont typeface="Calibri"/>
              <a:buChar char="•"/>
              <a:tabLst>
                <a:tab algn="l" pos="51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owing disru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-5176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SzPct val="75000"/>
              <a:buFont typeface="Calibri"/>
              <a:buChar char="•"/>
              <a:tabLst>
                <a:tab algn="l" pos="51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verliste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-5176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SzPct val="75000"/>
              <a:buFont typeface="Calibri"/>
              <a:buChar char="•"/>
              <a:tabLst>
                <a:tab algn="l" pos="51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ereoty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-5176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SzPct val="75000"/>
              <a:buFont typeface="Calibri"/>
              <a:buChar char="•"/>
              <a:tabLst>
                <a:tab algn="l" pos="51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missing subjects as unintere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-5176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SzPct val="75000"/>
              <a:buFont typeface="Calibri"/>
              <a:buChar char="•"/>
              <a:tabLst>
                <a:tab algn="l" pos="51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iling to observe nonverbal a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Learning Objective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362320" y="1752120"/>
            <a:ext cx="6248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dentify factors affecting group and team commun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362320" y="1752120"/>
            <a:ext cx="6248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spcBef>
                <a:spcPts val="624"/>
              </a:spcBef>
              <a:spcAft>
                <a:spcPts val="1250"/>
              </a:spcAft>
              <a:buClr>
                <a:srgbClr val="800000"/>
              </a:buClr>
              <a:buSzPct val="12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lain how behavioral theories about human needs, trust and disclosure, and motivation relate to business communic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624"/>
              </a:spcBef>
              <a:spcAft>
                <a:spcPts val="1250"/>
              </a:spcAft>
              <a:buClr>
                <a:srgbClr val="800000"/>
              </a:buClr>
              <a:buSzPct val="12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be the role of nonverbal messages in communic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624"/>
              </a:spcBef>
              <a:spcAft>
                <a:spcPts val="1250"/>
              </a:spcAft>
              <a:buClr>
                <a:srgbClr val="800000"/>
              </a:buClr>
              <a:buSzPct val="12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entify aspects of effective liste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624"/>
              </a:spcBef>
              <a:spcAft>
                <a:spcPts val="1250"/>
              </a:spcAft>
              <a:buClr>
                <a:srgbClr val="800000"/>
              </a:buClr>
              <a:buSzPct val="12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entify factors affecting group and team communic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624"/>
              </a:spcBef>
              <a:spcAft>
                <a:spcPts val="1250"/>
              </a:spcAft>
              <a:buClr>
                <a:srgbClr val="800000"/>
              </a:buClr>
              <a:buSzPct val="12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uss aspects of effective meeting manage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480" y="426600"/>
            <a:ext cx="8382240" cy="117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776b2"/>
                </a:solidFill>
                <a:latin typeface="Calibri"/>
              </a:rPr>
              <a:t>Communication in Flat Organizations</a:t>
            </a: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294920" y="1600200"/>
            <a:ext cx="6248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_ communication is more important than _______ commun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ch communication involves __________ meetings with team members rather than impersonal “hand-offs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unication is _____ and more 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Text Box 5"/>
          <p:cNvSpPr/>
          <p:nvPr/>
        </p:nvSpPr>
        <p:spPr>
          <a:xfrm>
            <a:off x="1752480" y="156996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76b2"/>
                </a:solidFill>
                <a:latin typeface="Calibri"/>
              </a:rPr>
              <a:t>Horizon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6"/>
          <p:cNvSpPr/>
          <p:nvPr/>
        </p:nvSpPr>
        <p:spPr>
          <a:xfrm>
            <a:off x="5259240" y="201600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76b2"/>
                </a:solidFill>
                <a:latin typeface="Calibri"/>
              </a:rPr>
              <a:t>vert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7"/>
          <p:cNvSpPr/>
          <p:nvPr/>
        </p:nvSpPr>
        <p:spPr>
          <a:xfrm>
            <a:off x="1616040" y="36115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76b2"/>
                </a:solidFill>
                <a:latin typeface="Calibri"/>
              </a:rPr>
              <a:t>face-to-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8"/>
          <p:cNvSpPr/>
          <p:nvPr/>
        </p:nvSpPr>
        <p:spPr>
          <a:xfrm>
            <a:off x="4732200" y="523080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76b2"/>
                </a:solidFill>
                <a:latin typeface="Calibri"/>
              </a:rPr>
              <a:t>op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10"/>
          <p:cNvSpPr/>
          <p:nvPr/>
        </p:nvSpPr>
        <p:spPr>
          <a:xfrm>
            <a:off x="2575080" y="566100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76b2"/>
                </a:solidFill>
                <a:latin typeface="Calibri"/>
              </a:rPr>
              <a:t>frequ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9601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776b2"/>
                </a:solidFill>
                <a:latin typeface="Calibri"/>
              </a:rPr>
              <a:t>Characteristics of Effective Groups</a:t>
            </a: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pic>
        <p:nvPicPr>
          <p:cNvPr id="314" name="Diagram 3" descr=""/>
          <p:cNvPicPr/>
          <p:nvPr/>
        </p:nvPicPr>
        <p:blipFill>
          <a:blip r:embed="rId1"/>
          <a:stretch/>
        </p:blipFill>
        <p:spPr>
          <a:xfrm>
            <a:off x="1432080" y="1901880"/>
            <a:ext cx="6437160" cy="435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89080" y="364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776b2"/>
                </a:solidFill>
                <a:latin typeface="Calibri"/>
              </a:rPr>
              <a:t>Group Roles</a:t>
            </a: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pic>
        <p:nvPicPr>
          <p:cNvPr id="316" name="Diagram 8" descr=""/>
          <p:cNvPicPr/>
          <p:nvPr/>
        </p:nvPicPr>
        <p:blipFill>
          <a:blip r:embed="rId1"/>
          <a:stretch/>
        </p:blipFill>
        <p:spPr>
          <a:xfrm>
            <a:off x="1457280" y="1901880"/>
            <a:ext cx="6559560" cy="427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7488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776b2"/>
                </a:solidFill>
                <a:latin typeface="Calibri"/>
              </a:rPr>
              <a:t>Types of Teams</a:t>
            </a: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pic>
        <p:nvPicPr>
          <p:cNvPr id="318" name="Diagram 3" descr=""/>
          <p:cNvPicPr/>
          <p:nvPr/>
        </p:nvPicPr>
        <p:blipFill>
          <a:blip r:embed="rId1"/>
          <a:stretch/>
        </p:blipFill>
        <p:spPr>
          <a:xfrm>
            <a:off x="590400" y="1809720"/>
            <a:ext cx="8047080" cy="437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0969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776b2"/>
                </a:solidFill>
                <a:latin typeface="Calibri"/>
              </a:rPr>
              <a:t>Stages of Team Development</a:t>
            </a: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pic>
        <p:nvPicPr>
          <p:cNvPr id="320" name="Picture 6" descr="82179_C02_008.jpg"/>
          <p:cNvPicPr/>
          <p:nvPr/>
        </p:nvPicPr>
        <p:blipFill>
          <a:blip r:embed="rId1"/>
          <a:stretch/>
        </p:blipFill>
        <p:spPr>
          <a:xfrm>
            <a:off x="1981080" y="1752480"/>
            <a:ext cx="5105520" cy="457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66680" y="364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776b2"/>
                </a:solidFill>
                <a:latin typeface="Calibri"/>
              </a:rPr>
              <a:t>Team Behaviors</a:t>
            </a: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pic>
        <p:nvPicPr>
          <p:cNvPr id="322" name="Diagram 3" descr=""/>
          <p:cNvPicPr/>
          <p:nvPr/>
        </p:nvPicPr>
        <p:blipFill>
          <a:blip r:embed="rId1"/>
          <a:stretch/>
        </p:blipFill>
        <p:spPr>
          <a:xfrm>
            <a:off x="590400" y="1889280"/>
            <a:ext cx="7963200" cy="4298760"/>
          </a:xfrm>
          <a:prstGeom prst="rect">
            <a:avLst/>
          </a:prstGeom>
          <a:ln w="0">
            <a:noFill/>
          </a:ln>
        </p:spPr>
      </p:pic>
      <p:sp>
        <p:nvSpPr>
          <p:cNvPr id="323" name="Text Box 6"/>
          <p:cNvSpPr/>
          <p:nvPr/>
        </p:nvSpPr>
        <p:spPr>
          <a:xfrm>
            <a:off x="4816440" y="19922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7"/>
          <p:cNvSpPr/>
          <p:nvPr/>
        </p:nvSpPr>
        <p:spPr>
          <a:xfrm>
            <a:off x="5695920" y="32464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purp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8"/>
          <p:cNvSpPr/>
          <p:nvPr/>
        </p:nvSpPr>
        <p:spPr>
          <a:xfrm>
            <a:off x="4952880" y="41623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9"/>
          <p:cNvSpPr/>
          <p:nvPr/>
        </p:nvSpPr>
        <p:spPr>
          <a:xfrm>
            <a:off x="7147080" y="52340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ski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10"/>
          <p:cNvSpPr/>
          <p:nvPr/>
        </p:nvSpPr>
        <p:spPr>
          <a:xfrm>
            <a:off x="4243320" y="55548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Learning Objective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362320" y="1600200"/>
            <a:ext cx="6324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cuss aspects of effective meeting manag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66680" y="282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776b2"/>
                </a:solidFill>
                <a:latin typeface="Calibri"/>
              </a:rPr>
              <a:t>Face-to-Face Meetings</a:t>
            </a: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pic>
        <p:nvPicPr>
          <p:cNvPr id="331" name="Diagram 8" descr=""/>
          <p:cNvPicPr/>
          <p:nvPr/>
        </p:nvPicPr>
        <p:blipFill>
          <a:blip r:embed="rId1"/>
          <a:stretch/>
        </p:blipFill>
        <p:spPr>
          <a:xfrm>
            <a:off x="237960" y="1736640"/>
            <a:ext cx="8680680" cy="45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88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776b2"/>
                </a:solidFill>
                <a:latin typeface="Calibri"/>
              </a:rPr>
              <a:t>Electronic Meetings</a:t>
            </a: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pic>
        <p:nvPicPr>
          <p:cNvPr id="333" name="Diagram 8" descr=""/>
          <p:cNvPicPr/>
          <p:nvPr/>
        </p:nvPicPr>
        <p:blipFill>
          <a:blip r:embed="rId1"/>
          <a:stretch/>
        </p:blipFill>
        <p:spPr>
          <a:xfrm>
            <a:off x="237960" y="1584360"/>
            <a:ext cx="8406000" cy="45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776b2"/>
                </a:solidFill>
                <a:latin typeface="Calibri"/>
              </a:rPr>
              <a:t>Suggestions for Effective Meetings</a:t>
            </a: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762120" y="1828440"/>
            <a:ext cx="7772400" cy="407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Limit meeting ______and _________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Make ___________ arrangemen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Distribute _______ in adv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Encourage ___________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Maintain 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Manage _______and seek consens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Prepare thorough 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Text Box 6"/>
          <p:cNvSpPr/>
          <p:nvPr/>
        </p:nvSpPr>
        <p:spPr>
          <a:xfrm>
            <a:off x="3525840" y="1793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leng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7"/>
          <p:cNvSpPr/>
          <p:nvPr/>
        </p:nvSpPr>
        <p:spPr>
          <a:xfrm>
            <a:off x="5465880" y="178740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8"/>
          <p:cNvSpPr/>
          <p:nvPr/>
        </p:nvSpPr>
        <p:spPr>
          <a:xfrm>
            <a:off x="2209680" y="23940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satisfac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9"/>
          <p:cNvSpPr/>
          <p:nvPr/>
        </p:nvSpPr>
        <p:spPr>
          <a:xfrm>
            <a:off x="2895480" y="29638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10"/>
          <p:cNvSpPr/>
          <p:nvPr/>
        </p:nvSpPr>
        <p:spPr>
          <a:xfrm>
            <a:off x="2941560" y="3565440"/>
            <a:ext cx="314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particip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11"/>
          <p:cNvSpPr/>
          <p:nvPr/>
        </p:nvSpPr>
        <p:spPr>
          <a:xfrm>
            <a:off x="2714760" y="417528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12"/>
          <p:cNvSpPr/>
          <p:nvPr/>
        </p:nvSpPr>
        <p:spPr>
          <a:xfrm>
            <a:off x="2610000" y="47386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confli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13"/>
          <p:cNvSpPr/>
          <p:nvPr/>
        </p:nvSpPr>
        <p:spPr>
          <a:xfrm>
            <a:off x="4149720" y="534816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min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Learning Objectiv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362320" y="1752120"/>
            <a:ext cx="6248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lain how behavioral theories about human needs, trust and disclosure, and motivation relate to business commun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920960" y="434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776b2"/>
                </a:solidFill>
                <a:latin typeface="Calibri"/>
              </a:rPr>
              <a:t>Behavioral Theories</a:t>
            </a:r>
            <a:br>
              <a:rPr sz="4000"/>
            </a:br>
            <a:r>
              <a:rPr b="1" lang="en-US" sz="4000" spc="-1" strike="noStrike">
                <a:solidFill>
                  <a:srgbClr val="1776b2"/>
                </a:solidFill>
                <a:latin typeface="Calibri"/>
              </a:rPr>
              <a:t>Impact Communication</a:t>
            </a: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pic>
        <p:nvPicPr>
          <p:cNvPr id="260" name="Diagram 4" descr=""/>
          <p:cNvPicPr/>
          <p:nvPr/>
        </p:nvPicPr>
        <p:blipFill>
          <a:blip r:embed="rId1"/>
          <a:stretch/>
        </p:blipFill>
        <p:spPr>
          <a:xfrm>
            <a:off x="669960" y="1670040"/>
            <a:ext cx="8035920" cy="46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18960" y="415440"/>
            <a:ext cx="7451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776b2"/>
                </a:solidFill>
                <a:latin typeface="Calibri"/>
              </a:rPr>
              <a:t>Maslow’s Hierarchy of Needs</a:t>
            </a: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0" y="5486400"/>
            <a:ext cx="9144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Diagram 9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7505640" cy="494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467480" cy="1030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776b2"/>
                </a:solidFill>
                <a:latin typeface="Calibri"/>
              </a:rPr>
              <a:t>Johari Window:  Trust Leads </a:t>
            </a:r>
            <a:br>
              <a:rPr sz="4000"/>
            </a:br>
            <a:r>
              <a:rPr b="1" lang="en-US" sz="4000" spc="-1" strike="noStrike">
                <a:solidFill>
                  <a:srgbClr val="1776b2"/>
                </a:solidFill>
                <a:latin typeface="Calibri"/>
              </a:rPr>
              <a:t>to Reciprocal Sharing </a:t>
            </a:r>
            <a:br>
              <a:rPr sz="4000"/>
            </a:br>
            <a:r>
              <a:rPr b="1" lang="en-US" sz="2400" spc="-1" strike="noStrike">
                <a:solidFill>
                  <a:srgbClr val="1776b2"/>
                </a:solidFill>
                <a:latin typeface="Calibri"/>
              </a:rPr>
              <a:t> </a:t>
            </a:r>
            <a:endParaRPr b="1" lang="en-US" sz="2400" spc="-1" strike="noStrike">
              <a:solidFill>
                <a:srgbClr val="1776b2"/>
              </a:solidFill>
              <a:latin typeface="Calibri"/>
            </a:endParaRPr>
          </a:p>
        </p:txBody>
      </p:sp>
      <p:pic>
        <p:nvPicPr>
          <p:cNvPr id="265" name="Picture 3" descr="82179_C02_f001.jpg"/>
          <p:cNvPicPr/>
          <p:nvPr/>
        </p:nvPicPr>
        <p:blipFill>
          <a:blip r:embed="rId1"/>
          <a:stretch/>
        </p:blipFill>
        <p:spPr>
          <a:xfrm>
            <a:off x="1295280" y="1752480"/>
            <a:ext cx="6332760" cy="415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430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776b2"/>
                </a:solidFill>
                <a:latin typeface="Calibri"/>
              </a:rPr>
              <a:t>McGregor’s Management Styles</a:t>
            </a: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pic>
        <p:nvPicPr>
          <p:cNvPr id="267" name="Diagram 8" descr=""/>
          <p:cNvPicPr/>
          <p:nvPr/>
        </p:nvPicPr>
        <p:blipFill>
          <a:blip r:embed="rId1"/>
          <a:stretch/>
        </p:blipFill>
        <p:spPr>
          <a:xfrm>
            <a:off x="237960" y="1749600"/>
            <a:ext cx="8734680" cy="435276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5"/>
          <p:cNvSpPr/>
          <p:nvPr/>
        </p:nvSpPr>
        <p:spPr>
          <a:xfrm>
            <a:off x="633240" y="29304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disli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1752480" y="33228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narrow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5"/>
          <p:cNvSpPr/>
          <p:nvPr/>
        </p:nvSpPr>
        <p:spPr>
          <a:xfrm>
            <a:off x="609480" y="489276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little</a:t>
            </a:r>
            <a:r>
              <a:rPr b="1" lang="en-US" sz="2800" spc="-1" strike="noStrike">
                <a:solidFill>
                  <a:srgbClr val="0070c0"/>
                </a:solidFill>
                <a:latin typeface="Cambri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6861240" y="25812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challen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5"/>
          <p:cNvSpPr/>
          <p:nvPr/>
        </p:nvSpPr>
        <p:spPr>
          <a:xfrm>
            <a:off x="6345360" y="33670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wid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5"/>
          <p:cNvSpPr/>
          <p:nvPr/>
        </p:nvSpPr>
        <p:spPr>
          <a:xfrm>
            <a:off x="6324480" y="4906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independ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Diagram 9" descr=""/>
          <p:cNvPicPr/>
          <p:nvPr/>
        </p:nvPicPr>
        <p:blipFill>
          <a:blip r:embed="rId1"/>
          <a:stretch/>
        </p:blipFill>
        <p:spPr>
          <a:xfrm>
            <a:off x="1127160" y="1871640"/>
            <a:ext cx="7261200" cy="341964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776b2"/>
                </a:solidFill>
                <a:latin typeface="Calibri"/>
              </a:rPr>
              <a:t>Hersey and Blanchard’s </a:t>
            </a:r>
            <a:br>
              <a:rPr sz="4000"/>
            </a:br>
            <a:r>
              <a:rPr b="1" lang="en-US" sz="4000" spc="-1" strike="noStrike">
                <a:solidFill>
                  <a:srgbClr val="1776b2"/>
                </a:solidFill>
                <a:latin typeface="Calibri"/>
              </a:rPr>
              <a:t>Situational Leadership Model</a:t>
            </a: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sp>
        <p:nvSpPr>
          <p:cNvPr id="276" name="Rectangle 8"/>
          <p:cNvSpPr/>
          <p:nvPr/>
        </p:nvSpPr>
        <p:spPr>
          <a:xfrm>
            <a:off x="0" y="548640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eadership style must be appropriate for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llower and task being perform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9"/>
          <p:cNvSpPr/>
          <p:nvPr/>
        </p:nvSpPr>
        <p:spPr>
          <a:xfrm>
            <a:off x="6019920" y="32004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s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776b2"/>
                </a:solidFill>
                <a:latin typeface="Calibri"/>
              </a:rPr>
              <a:t>Organizational Development </a:t>
            </a:r>
            <a:br>
              <a:rPr sz="3600"/>
            </a:br>
            <a:r>
              <a:rPr b="1" lang="en-US" sz="3600" spc="-1" strike="noStrike">
                <a:solidFill>
                  <a:srgbClr val="1776b2"/>
                </a:solidFill>
                <a:latin typeface="Calibri"/>
              </a:rPr>
              <a:t>and Small Group Effectiveness</a:t>
            </a:r>
            <a:endParaRPr b="1" lang="en-US" sz="3600" spc="-1" strike="noStrike">
              <a:solidFill>
                <a:srgbClr val="1776b2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09480" y="16761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ognizes that group members need mutual tru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volves emotional and task-oriented commun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s encounter session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promote open commun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1066680" y="4876920"/>
            <a:ext cx="6400800" cy="947160"/>
          </a:xfrm>
          <a:prstGeom prst="rect">
            <a:avLst/>
          </a:prstGeom>
          <a:solidFill>
            <a:srgbClr val="e7f3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Gulim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Gulim"/>
              </a:rPr>
              <a:t>What behavioral/management theory fits with organizational develop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3:21:24Z</dcterms:created>
  <dc:creator>Mike Woods</dc:creator>
  <dc:description/>
  <dc:language>en-US</dc:language>
  <cp:lastModifiedBy>Dana Freeman</cp:lastModifiedBy>
  <dcterms:modified xsi:type="dcterms:W3CDTF">2011-01-05T21:06:41Z</dcterms:modified>
  <cp:revision>159</cp:revision>
  <dc:subject/>
  <dc:title>TITLE TEXT</dc:title>
</cp:coreProperties>
</file>