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A192-1DA2-47CD-A6A6-AFCAE7659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821D-CEAA-42EE-AF47-ED9F9CA52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7E93-88A1-46E7-9B6F-6B77E0B0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3825-1600-48A1-9CE4-7C1C0783E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3ED-90B5-4406-9AC2-7E798DEF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1296-377D-4698-A644-9799DAD1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984-3597-4F2B-902D-07467BE5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slides 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1EDA-2E4F-4972-A8D6-7B29EFF4B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92CA-05A0-4B7E-B4E8-AD768593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6D3B-5EA8-4FD9-9022-FCB175A5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9F7-625A-475D-BCF2-99E9454B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677-1412-4E0C-9AB2-D2C928C3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498-BFC1-4343-8255-2B2C50E58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BE87-2802-4A50-8D22-98F235D95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96A4-1B31-42D2-910A-91B0559E0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999"/>
              </a:lnSpc>
              <a:spcBef>
                <a:spcPts val="224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945B-AD82-48B0-98A6-76E0160D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9732-BFEE-4444-B976-FE572FE1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8FB-4CC8-4419-9678-A981CF59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7876-E820-472F-AD64-2DCB6F0A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B5B-6F80-412B-8F48-5DAD748C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27C-26AE-4425-87B9-299A6810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BE6-D1FD-4B61-A5CF-5422743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868-5097-4453-BCE2-4D743CC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28E-D258-4CD8-89EF-CDA0B03C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B7E-A009-472D-9F52-61DF6E9E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0F1-61B0-4524-B40E-3865313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166-8623-48DF-A4E3-A389572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0CC-660D-4CF4-95B8-F2EA031E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40F-26BB-43C8-9FD1-E125CD64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379-11D1-4B3C-89C7-1DEA8635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4" descr="Untitled-7"/>
          <p:cNvPicPr/>
          <p:nvPr/>
        </p:nvPicPr>
        <p:blipFill>
          <a:blip r:embed="rId2"/>
          <a:stretch/>
        </p:blipFill>
        <p:spPr>
          <a:xfrm>
            <a:off x="0" y="6765840"/>
            <a:ext cx="9144000" cy="92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30200"/>
          </a:xfrm>
          <a:prstGeom prst="rect">
            <a:avLst/>
          </a:prstGeom>
          <a:ln w="0">
            <a:noFill/>
          </a:ln>
        </p:spPr>
      </p:pic>
      <p:sp>
        <p:nvSpPr>
          <p:cNvPr id="80" name="Date Placeholder 3"/>
          <p:cNvSpPr/>
          <p:nvPr/>
        </p:nvSpPr>
        <p:spPr>
          <a:xfrm>
            <a:off x="228600" y="60958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9"/>
          <p:cNvGrpSpPr/>
          <p:nvPr/>
        </p:nvGrpSpPr>
        <p:grpSpPr>
          <a:xfrm>
            <a:off x="0" y="1371600"/>
            <a:ext cx="9144000" cy="5486400"/>
            <a:chOff x="0" y="1371600"/>
            <a:chExt cx="9144000" cy="5486400"/>
          </a:xfrm>
        </p:grpSpPr>
        <p:pic>
          <p:nvPicPr>
            <p:cNvPr id="118" name="Picture 13" descr="Untitled-7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4" descr="Untitled-7"/>
            <p:cNvPicPr/>
            <p:nvPr/>
          </p:nvPicPr>
          <p:blipFill>
            <a:blip r:embed="rId3"/>
            <a:stretch/>
          </p:blipFill>
          <p:spPr>
            <a:xfrm>
              <a:off x="0" y="6681960"/>
              <a:ext cx="914400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77400" cy="1306440"/>
          </a:xfrm>
          <a:prstGeom prst="rect">
            <a:avLst/>
          </a:prstGeom>
          <a:ln w="0">
            <a:noFill/>
          </a:ln>
        </p:spPr>
      </p:pic>
      <p:sp>
        <p:nvSpPr>
          <p:cNvPr id="123" name="Date Placeholder 3"/>
          <p:cNvSpPr/>
          <p:nvPr/>
        </p:nvSpPr>
        <p:spPr>
          <a:xfrm>
            <a:off x="228600" y="49528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BCOM </a:t>
            </a: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2" descr="PPTtitlebg"/>
          <p:cNvPicPr/>
          <p:nvPr/>
        </p:nvPicPr>
        <p:blipFill>
          <a:blip r:embed="rId5"/>
          <a:stretch/>
        </p:blipFill>
        <p:spPr>
          <a:xfrm>
            <a:off x="-1440" y="0"/>
            <a:ext cx="914688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Date Placeholder 3"/>
          <p:cNvSpPr/>
          <p:nvPr/>
        </p:nvSpPr>
        <p:spPr>
          <a:xfrm>
            <a:off x="228600" y="54864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8d37c"/>
                </a:solidFill>
                <a:latin typeface="Cambria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8d37c"/>
                </a:solidFill>
                <a:latin typeface="Cambria"/>
              </a:rPr>
              <a:t>BCOM</a:t>
            </a:r>
            <a:r>
              <a:rPr b="0" lang="en-US" sz="1800" spc="-1" strike="noStrike">
                <a:solidFill>
                  <a:srgbClr val="c8d37c"/>
                </a:solidFill>
                <a:latin typeface="Cambria"/>
              </a:rPr>
              <a:t> 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8d37c"/>
                </a:solidFill>
                <a:latin typeface="Cambria"/>
              </a:rPr>
              <a:t>© 2012 Cengage Learning.  All Rights Reserved. May not be scanned, copied or duplicated, or posted to a publicly accessible website, in whole or in pa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9"/>
          <p:cNvGrpSpPr/>
          <p:nvPr/>
        </p:nvGrpSpPr>
        <p:grpSpPr>
          <a:xfrm>
            <a:off x="0" y="1371600"/>
            <a:ext cx="9144000" cy="5486400"/>
            <a:chOff x="0" y="1371600"/>
            <a:chExt cx="9144000" cy="5486400"/>
          </a:xfrm>
        </p:grpSpPr>
        <p:pic>
          <p:nvPicPr>
            <p:cNvPr id="163" name="Picture 13" descr="Untitled-7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914400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4" descr="Untitled-7"/>
            <p:cNvPicPr/>
            <p:nvPr/>
          </p:nvPicPr>
          <p:blipFill>
            <a:blip r:embed="rId3"/>
            <a:stretch/>
          </p:blipFill>
          <p:spPr>
            <a:xfrm>
              <a:off x="0" y="6681960"/>
              <a:ext cx="9144000" cy="17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162c4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0644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3"/>
          <p:cNvSpPr/>
          <p:nvPr/>
        </p:nvSpPr>
        <p:spPr>
          <a:xfrm>
            <a:off x="228600" y="495288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Lecture and Resource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BCOM </a:t>
            </a:r>
            <a:r>
              <a:rPr b="0" lang="en-US" sz="1800" spc="-1" strike="noStrike">
                <a:solidFill>
                  <a:srgbClr val="808080"/>
                </a:solidFill>
                <a:latin typeface="Cambria"/>
                <a:ea typeface="Arial"/>
              </a:rPr>
              <a:t>3e, Lehman &amp; DuFre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mbria"/>
                <a:ea typeface="Arial"/>
              </a:rPr>
              <a:t>© 2012 Cengage Learning.  All Rights Reserved. May not be scanned, copied or duplicated, or posted to a publicly accessible website, in whole or in pa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t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t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ort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03A8-3391-4B43-9979-FCE488F23FFD}" type="slidenum">
              <a:rPr b="0" lang="en-US" sz="1400" spc="-1" strike="noStrike">
                <a:solidFill>
                  <a:srgbClr val="000000"/>
                </a:solidFill>
                <a:latin typeface="Fort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143000" y="76176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libri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143000" y="1828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af19"/>
                </a:solidFill>
                <a:latin typeface="Cambria"/>
              </a:rPr>
              <a:t>Focusing on Interpersonal and Group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be the role of nonverbal messages in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848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Nonverbal Communication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Adds Meaning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84" name="Diagram 4" descr=""/>
          <p:cNvPicPr/>
          <p:nvPr/>
        </p:nvPicPr>
        <p:blipFill>
          <a:blip r:embed="rId1"/>
          <a:stretch/>
        </p:blipFill>
        <p:spPr>
          <a:xfrm>
            <a:off x="-6480" y="1889280"/>
            <a:ext cx="9156960" cy="42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9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etacommunication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609480" y="1447920"/>
          <a:ext cx="7619760" cy="4765320"/>
        </p:xfrm>
        <a:graphic>
          <a:graphicData uri="http://schemas.openxmlformats.org/drawingml/2006/table">
            <a:tbl>
              <a:tblPr/>
              <a:tblGrid>
                <a:gridCol w="2540160"/>
                <a:gridCol w="2539440"/>
                <a:gridCol w="254016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Implied by S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essage Inferred by Receiv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Be on tim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n early start is the best on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You are often lat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She thinks I’m always lat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Take more time with your work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want to help you improve” or “We can’t afford any more foul-up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He thinks I’m careless, and this comment is a warning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This work is better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Good solid revision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Your work finally shows promise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Was my previous work bad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Kinesic Communication</a:t>
            </a:r>
            <a:endParaRPr b="1" lang="en-US" sz="36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88" name="Diagram 5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596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Understanding Kinesic Messag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43000" y="1600200"/>
          <a:ext cx="6403680" cy="4686120"/>
        </p:xfrm>
        <a:graphic>
          <a:graphicData uri="http://schemas.openxmlformats.org/drawingml/2006/table">
            <a:tbl>
              <a:tblPr/>
              <a:tblGrid>
                <a:gridCol w="3201840"/>
                <a:gridCol w="3201840"/>
              </a:tblGrid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Possible Mes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Wink or light chuckle after stat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Don’t believe what I just said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supervisor lightly puts his arm around an employee’s shou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Everything is fine.  Let me help you.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sexual hara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job applicant submits a résumé with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My spelling and grammar skills are deficient.”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don’t care to do my best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A group leader does not sit at the head of the t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  <a:ea typeface="ＭＳ Ｐゴシック"/>
                        </a:rPr>
                        <a:t>I want to demonstrate my equality with other members.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9083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Understanding Nonverbal Messag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036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not be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between ______ and cul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____________ or unintentional, _________or harm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21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__________ and receive more attention than the verbal mes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560" indent="-520560"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292560" y="20606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902040" y="2803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eop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803680" y="48164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en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3932280" y="4068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eneficial</a:t>
            </a:r>
            <a:r>
              <a:rPr b="0" lang="en-US" sz="3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2882880" y="35784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ntrad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aspects of effective list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9692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Effective Listeners . . .  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736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imize distrac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 touch with the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 active involvement; do not interru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sk reflective ques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robing prompts to the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720" indent="-50472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se lag time wis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27160" y="32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Bad Listening Habit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990720" y="1855800"/>
            <a:ext cx="7238880" cy="38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ing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disru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reoty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missing subjects as uninter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-5176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Calibri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ing to observe nonverbal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y factors affecting group and team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 how behavioral theories about human needs, trust and disclosure, and motivation relate to business communi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role of nonverbal messages in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spects of effective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factors affecting group and team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24"/>
              </a:spcBef>
              <a:spcAft>
                <a:spcPts val="1250"/>
              </a:spcAft>
              <a:buClr>
                <a:srgbClr val="800000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aspects of effective meeting mana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38224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ommunication in Flat Organization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 communication is more important than _______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communication involves __________ meetings with team members rather than impersonal “hand-off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cation is _____ and more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752480" y="15699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259240" y="20160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1616040" y="3611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face-to-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4732200" y="5230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2575080" y="5661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76b2"/>
                </a:solidFill>
                <a:latin typeface="Calibri"/>
              </a:rPr>
              <a:t>fre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9601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Characteristics of Effective Group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4" name="Diagram 3" descr=""/>
          <p:cNvPicPr/>
          <p:nvPr/>
        </p:nvPicPr>
        <p:blipFill>
          <a:blip r:embed="rId1"/>
          <a:stretch/>
        </p:blipFill>
        <p:spPr>
          <a:xfrm>
            <a:off x="1432080" y="1901880"/>
            <a:ext cx="643716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908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Group Rol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6" name="Diagram 8" descr=""/>
          <p:cNvPicPr/>
          <p:nvPr/>
        </p:nvPicPr>
        <p:blipFill>
          <a:blip r:embed="rId1"/>
          <a:stretch/>
        </p:blipFill>
        <p:spPr>
          <a:xfrm>
            <a:off x="1457280" y="1901880"/>
            <a:ext cx="655956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7488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ypes of Team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18" name="Diagram 3" descr=""/>
          <p:cNvPicPr/>
          <p:nvPr/>
        </p:nvPicPr>
        <p:blipFill>
          <a:blip r:embed="rId1"/>
          <a:stretch/>
        </p:blipFill>
        <p:spPr>
          <a:xfrm>
            <a:off x="590400" y="1809720"/>
            <a:ext cx="804708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tages of Team Development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20" name="Picture 6" descr="82179_C02_008.jpg"/>
          <p:cNvPicPr/>
          <p:nvPr/>
        </p:nvPicPr>
        <p:blipFill>
          <a:blip r:embed="rId1"/>
          <a:stretch/>
        </p:blipFill>
        <p:spPr>
          <a:xfrm>
            <a:off x="1981080" y="1752480"/>
            <a:ext cx="5105520" cy="45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364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eam Behavior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22" name="Diagram 3" descr=""/>
          <p:cNvPicPr/>
          <p:nvPr/>
        </p:nvPicPr>
        <p:blipFill>
          <a:blip r:embed="rId1"/>
          <a:stretch/>
        </p:blipFill>
        <p:spPr>
          <a:xfrm>
            <a:off x="590400" y="1889280"/>
            <a:ext cx="7963200" cy="42987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4816440" y="19922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5695920" y="3246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952880" y="41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147080" y="5234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4243320" y="555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 aspects of effective meeting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Face-to-Face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31" name="Diagram 8" descr=""/>
          <p:cNvPicPr/>
          <p:nvPr/>
        </p:nvPicPr>
        <p:blipFill>
          <a:blip r:embed="rId1"/>
          <a:stretch/>
        </p:blipFill>
        <p:spPr>
          <a:xfrm>
            <a:off x="237960" y="1736640"/>
            <a:ext cx="86806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88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Electronic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333" name="Diagram 8" descr=""/>
          <p:cNvPicPr/>
          <p:nvPr/>
        </p:nvPicPr>
        <p:blipFill>
          <a:blip r:embed="rId1"/>
          <a:stretch/>
        </p:blipFill>
        <p:spPr>
          <a:xfrm>
            <a:off x="237960" y="1584360"/>
            <a:ext cx="84060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uggestions for Effective Meeting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1828440"/>
            <a:ext cx="7772400" cy="40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imit meeting ______and 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ke ___________ arrangem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ribute _______ in ad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courage __________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ain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anage _______and seek consen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pare thorough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525840" y="1793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5465880" y="1787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2209680" y="2394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atis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895480" y="2963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2941560" y="356544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2714760" y="4175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2610000" y="4738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149720" y="534816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arning Objectiv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17521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 how behavioral theories about human needs, trust and disclosure, and motivation relate to business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20960" y="43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Behavioral Theories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Impact Communication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0" name="Diagram 4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803592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41544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aslow’s Hierarchy of Need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548640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Diagram 9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50564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467480" cy="103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Johari Window:  Trust Leads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to Reciprocal Sharing </a:t>
            </a:r>
            <a:br>
              <a:rPr sz="4000"/>
            </a:br>
            <a:r>
              <a:rPr b="1" lang="en-US" sz="2400" spc="-1" strike="noStrike">
                <a:solidFill>
                  <a:srgbClr val="1776b2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5" name="Picture 3" descr="82179_C02_f001.jpg"/>
          <p:cNvPicPr/>
          <p:nvPr/>
        </p:nvPicPr>
        <p:blipFill>
          <a:blip r:embed="rId1"/>
          <a:stretch/>
        </p:blipFill>
        <p:spPr>
          <a:xfrm>
            <a:off x="1295280" y="1752480"/>
            <a:ext cx="6332760" cy="41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McGregor’s Management Styles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pic>
        <p:nvPicPr>
          <p:cNvPr id="267" name="Diagram 8" descr=""/>
          <p:cNvPicPr/>
          <p:nvPr/>
        </p:nvPicPr>
        <p:blipFill>
          <a:blip r:embed="rId1"/>
          <a:stretch/>
        </p:blipFill>
        <p:spPr>
          <a:xfrm>
            <a:off x="237960" y="1749600"/>
            <a:ext cx="8734680" cy="4352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633240" y="2930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is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52480" y="3322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09480" y="4892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ttle</a:t>
            </a: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6861240" y="2581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345360" y="33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wi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324480" y="4906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Diagram 9" descr=""/>
          <p:cNvPicPr/>
          <p:nvPr/>
        </p:nvPicPr>
        <p:blipFill>
          <a:blip r:embed="rId1"/>
          <a:stretch/>
        </p:blipFill>
        <p:spPr>
          <a:xfrm>
            <a:off x="1127160" y="1871640"/>
            <a:ext cx="7261200" cy="3419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Hersey and Blanchard’s </a:t>
            </a:r>
            <a:br>
              <a:rPr sz="4000"/>
            </a:br>
            <a:r>
              <a:rPr b="1" lang="en-US" sz="4000" spc="-1" strike="noStrike">
                <a:solidFill>
                  <a:srgbClr val="1776b2"/>
                </a:solidFill>
                <a:latin typeface="Calibri"/>
              </a:rPr>
              <a:t>Situational Leadership Model</a:t>
            </a:r>
            <a:endParaRPr b="1" lang="en-US" sz="40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0" y="5486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 style must be appropriat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er and task being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6019920" y="3200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Organizational Development </a:t>
            </a:r>
            <a:br>
              <a:rPr sz="3600"/>
            </a:br>
            <a:r>
              <a:rPr b="1" lang="en-US" sz="3600" spc="-1" strike="noStrike">
                <a:solidFill>
                  <a:srgbClr val="1776b2"/>
                </a:solidFill>
                <a:latin typeface="Calibri"/>
              </a:rPr>
              <a:t>and Small Group Effectiveness</a:t>
            </a:r>
            <a:endParaRPr b="1" lang="en-US" sz="3600" spc="-1" strike="noStrike">
              <a:solidFill>
                <a:srgbClr val="1776b2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48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gnizes that group members need mutual tr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s emotional and task-oriente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encounter s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mote open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066680" y="4876920"/>
            <a:ext cx="6400800" cy="947160"/>
          </a:xfrm>
          <a:prstGeom prst="rect">
            <a:avLst/>
          </a:prstGeom>
          <a:solidFill>
            <a:srgbClr val="e7f3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What behavioral/management theory fits with organizational develop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21:24Z</dcterms:created>
  <dc:creator>Mike Woods</dc:creator>
  <dc:description/>
  <dc:language>en-US</dc:language>
  <cp:lastModifiedBy>Dana Freeman</cp:lastModifiedBy>
  <dcterms:modified xsi:type="dcterms:W3CDTF">2011-01-05T21:06:41Z</dcterms:modified>
  <cp:revision>159</cp:revision>
  <dc:subject/>
  <dc:title>TITLE TEXT</dc:title>
</cp:coreProperties>
</file>