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5145088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A706-3785-4987-84C8-04A8688C4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BB1A-F549-429A-9410-110253FC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6AFC4-5D03-4FD3-A286-BA152207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30CE6D-076D-4D28-9392-3EB562F6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A3509-ADC4-4FD6-B2A0-F25EBD50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77810-2550-4C94-8389-ADA122B6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C4744-85C1-44B1-B011-8B50C27C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23D1B-A268-40F2-83A2-A2D901FB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5FDEB-3880-4D6D-B6C9-B4DB66E7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F7F21C-60FF-40C7-BED0-88BBAD8C5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4A7F2-4544-420C-A57D-3508956C0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BED8B-EF51-4DF6-A794-AE0EFFB2F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1C83-F0D5-4FC2-99D6-F07FABBE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239A3-3A40-4FC7-AA4A-7848E32E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A1DE9-4969-4104-8359-5B61C278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4DE24-86BC-4E2C-B3B1-19D80CD1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251FF-7BA9-47E3-A0DF-1E8D7158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4BA3B-A0F6-4078-A2A9-21FA44D8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D5EED1-BC07-4F58-B2B4-F2FF805D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40DC31-44DC-4BE6-9B5C-B7AA9898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8459C-1396-4720-888F-671EC798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6FC945-09DD-44CB-8C69-1889D05B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AFF3AF-97F2-45EA-841C-677440772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33CD-2108-447D-A5D6-E9EAB82FC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B6B7A-1DCE-4EBB-B455-58ACDF6CE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05934-9DB2-47D9-AD1E-7A00AAF79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F33A9-946B-4473-8F62-156E0795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ABFA0-FC17-414E-980D-5328382A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E0D8A-27A1-4A3A-8EB8-3CD416E0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D3E63-66BC-4446-9A6B-A574A732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A16F6-BD32-4B68-8BE4-4B53FD35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7DA72-BE30-4917-AFD4-6789E230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A3851-8D8F-4ABD-9776-B3FC29C6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0489B-C2F4-4A1F-869F-096CE9A7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2F74-BAB9-4B53-8770-CEA66EEC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C59AA-A891-4218-95EF-28B09683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8E021-A808-42BF-8A6D-822C31B78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BE54C-4830-4E9C-960E-5D8420E1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421E3F-51C9-42D7-85C9-4C21318CD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4511A5-275E-449F-82B2-24FF18F5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9E3698-70BD-4CC8-B416-22555EFC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BD98F0-1289-4FE7-B2D1-B90FB4F7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CDF4B-EEFC-4454-A385-77EBE3AB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5D45D7-13C1-47A1-BF71-0EAC75D6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AA687F-707D-4121-9875-8A1145F9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C311-0E3E-458A-BE73-5962328D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74EDDD-D1B2-4F8B-A6D4-8C562C5C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B3DECA-6E4D-49DD-A164-2DC371F2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978150-D8B0-45B2-9A50-1103BC2D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CCEEAE-6465-4CEF-949E-9F1C28CBB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74870B-8FD0-4E18-AEEB-26FEC74F4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2A35-DC8C-40E5-A84E-59627801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FD4A-8C46-4A6E-975A-FA545847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AB19-0316-403E-ABFE-CCF4ABCB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A234-8F39-4321-8BD0-0742E69B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F69E-1A09-4AB0-B090-A729EF0F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5854-89F8-472B-AA1B-5A3517F2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09FC-58A3-473B-8E6B-6D48648A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5448-2528-4B33-8507-79770995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61A8-B4B3-4923-AC56-A72539E4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243F-BBC2-4E7B-A95B-E1B5099CE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361C-963B-4384-A99A-58A41AECE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80727-785E-4E9E-8B13-5C436E350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132C2-9B23-4C28-94F4-6E986CD2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9188C-D8FE-4089-A7EA-D1F85B46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68FCD-E62D-402E-989C-73DE7969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74374-FC96-4268-B94B-0BA7ED3A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2138-3554-444C-B55D-712E7A80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D7DE6-5A02-45A6-B4AA-BEA18B16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51166-691B-44DD-8A11-C163BFA9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4820D-D93A-4419-9629-06EC13AA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4FF8F-7D95-4F81-BB14-5B5A4437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B4C39-7603-4622-A782-923F02C6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5F9FD-D598-443E-BC04-9C7676317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4DA4E-6D49-4086-B0DE-FEF7DD2F6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B22CF-CB47-44F3-8451-32F35F1F7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18E61-9268-4E18-A893-7E0BB970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F6E48-A912-4F7B-ACEC-ED04F3C6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C104-6099-41C3-8755-B7A3B496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43BA6-E5F7-4000-973D-C60F72C4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697C3-FCC8-4F05-A9CE-21096C58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27828-3A15-4164-B624-8F7F620E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8EC9B-1178-4C36-9443-4F0A05F7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4D7EB-29FA-4668-9E93-3E7F0CBF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5DC86-51DC-4E2A-9D4F-1E220D61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22491-AE18-4832-9CC7-27A3CA40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A7FEC-3036-4092-94CB-AA3FBE2B3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A6A09-3C97-4734-8AFE-15999D324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01708-467A-42B8-A15D-50270D3FD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87EF-10A4-41E5-BEC5-BEA0713C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E6E1A-3B97-4E36-BEB0-A76FCA6F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C8EFA-3093-4727-8659-C4155EE1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F4893-4C36-4414-AD68-675904FA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60EAA-025F-42AF-B550-9AE7014F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5CA82-6AA9-401C-B44F-9BE8D5D5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4CF0A-D72F-47A4-BDE4-A80481A7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312A9-2C79-4C8D-A19E-1F0959F0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1A3FF-F44A-4D5B-A054-D29E6AE6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BC982-1D24-4C34-A39E-F2E9BBFB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A8D9C-1498-4063-868F-680ACA6BD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0262-5086-471B-8A57-77419888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79ED6-239F-4599-9F8D-7712400EF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7C42F-8C3D-43C6-9576-5B1247751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1C509-2E4F-42D6-A0D4-C1BC9F19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DB7D0-EB88-482F-B973-3A309FC1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606C6-2742-4BA4-BD57-91B66F2D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23A7B-C980-46B6-B58B-0E14C232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24718-8710-4BC4-912E-D5072E82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A3488-728E-4ABB-9FF7-D7B17CA5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892A8-B048-445E-94EB-32DFB441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EBB14-FDCE-4015-B0FF-629537B3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005D-155F-433A-9667-98DBF300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E8A38-D8B1-4736-A55E-503136B1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4315A-439C-43BD-8D42-1ECB99FC5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285B4-DE32-44FF-B960-A9D3F6B93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6DCC3-C11C-4406-A91E-0C5DED691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86F83-A64F-4641-9919-A3D68C4F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4FFC7-27B9-4A53-86EA-A7C218D2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3B190-0730-44D7-A798-C7043497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9F70D-2E3E-42F3-9BA1-390D3C53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06DBD-21FB-4564-9884-AC2535EC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E45BA-2FFF-44CD-BC63-325981B3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A199-8FDE-433B-B282-FD34ECE8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10EBE-C0A9-4531-89A2-6AE87F5A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30821-7145-4F97-BDED-03CC5138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0EDA9-479F-4899-BC07-85ECC477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2A0E3-F9BA-43FA-AED2-EF168F6EA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B2516-5639-4D6D-A981-78878576C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C5DEF-000E-4FF7-BC7C-B82E540D9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5F54B-8FAD-4F60-8278-40B758A5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BE4B4-2B2C-4329-AA9A-240FFE7B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7ACB1-2803-4E99-B75D-9C69E84B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870D1-5210-47B5-A8C6-4BE68F9D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63CB-F01C-4A24-A080-0A31BA6F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19DB1-8F0E-4FB7-A98B-AD6C6843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08FB0-8A34-4AA2-870B-41EC571E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476DF-652B-4401-AC18-65FA59B1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46BE6-D754-452F-9BE5-D95A0812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293ED-E617-4F7E-90A4-40B7F039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1AB13-FB15-4D20-80FC-398A04A01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848F7-E3B0-42CD-AB25-A2542130F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AC6D7-37EF-4DBE-8C83-3D0FA3C64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E53DF-3370-430F-B547-88F16DDE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C5215-B7D1-4DB0-90A7-5A2F1CEF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A15A-4D75-4590-A8CB-574B539D081D}" type="datetime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30-07-26</a:t>
            </a:fld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CFDA1DBB-C66C-477B-BA1F-DBAE73F02E6E}" type="datetime10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06:5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Citadel College - De school die je k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26A4-3110-418E-A945-0D806E8354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5"/>
          <p:cNvSpPr/>
          <p:nvPr/>
        </p:nvSpPr>
        <p:spPr>
          <a:xfrm flipH="1">
            <a:off x="152280" y="1200240"/>
            <a:ext cx="8839440" cy="0"/>
          </a:xfrm>
          <a:prstGeom prst="line">
            <a:avLst/>
          </a:prstGeom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-36360" bIns="-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Line 16"/>
          <p:cNvSpPr/>
          <p:nvPr/>
        </p:nvSpPr>
        <p:spPr>
          <a:xfrm flipH="1">
            <a:off x="152280" y="1085760"/>
            <a:ext cx="8839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-36360" bIns="-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924A-B46C-4601-AB65-2FF7C44D0E39}" type="datetime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30-07-26</a:t>
            </a:fld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E52C917C-0C68-4D8F-A296-CDC88B34AE84}" type="datetime10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06:5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Citadel College - De school die je k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1D2A-D741-4FBD-B092-85BD8529B5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22F0-8D5D-44D2-9C31-3E3452BAB5E9}" type="datetime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30-07-26</a:t>
            </a:fld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2E5A5970-6911-40E0-A94D-46E8D1919504}" type="datetime10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06:5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Citadel College - De school die je k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C9A8-6D4A-400F-BE71-536273C7C2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B43B-72ED-4246-B23A-850928346A2C}" type="datetime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30-07-26</a:t>
            </a:fld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F76C9201-902C-44F6-A2BA-C939B76CDDE9}" type="datetime10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06:5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Citadel College - De school die je k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12D6-4DDB-4D03-B4CC-E651A738DF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2C02-D31B-4527-A076-E8968351BEE1}" type="datetime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30-07-26</a:t>
            </a:fld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43E8B5D0-F1B7-429C-B6E4-33B1DFBF3CD1}" type="datetime10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06:5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Citadel College - De school die je k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E8E4-DB9C-456A-94BF-5EDE62DD31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7BA1-3247-4B06-809D-A2AA9019B5C5}" type="datetime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30-07-26</a:t>
            </a:fld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16D0166B-99CD-4748-A4DC-93F327C675CF}" type="datetime10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06:5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Citadel College - De school die je k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DC75-1F42-48EE-B56B-FFF889B1F4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83F8-6963-4770-AF15-2CC1D87D81A9}" type="datetime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30-07-26</a:t>
            </a:fld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2AA6C034-4857-4F1D-824E-71BA06FFD506}" type="datetime10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06:5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Citadel College - De school die je k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4EF8-E01B-4732-B946-C2A1A00FC2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40A2-5B7C-45DB-B110-72CC1B51B3E4}" type="datetime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30-07-26</a:t>
            </a:fld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0E4185E1-07CA-412B-AE08-E55768A89E74}" type="datetime10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06:5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Citadel College - De school die je k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8521-0221-4BB2-BC36-08A23ABD8F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F8BD-519D-45A8-B683-B1336EE651BC}" type="datetime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30-07-26</a:t>
            </a:fld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D4B27AC0-509D-4D02-8532-31FE54322A75}" type="datetime10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06:5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Citadel College - De school die je k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12D8-FE75-4BB6-8890-230696CAB2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3E18-92EC-45E9-8532-7189DE3F2B93}" type="datetime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30-07-26</a:t>
            </a:fld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E28183EE-AE3B-4BA2-BD21-FCA15CC94756}" type="datetime10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06:5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Citadel College - De school die je k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13C5-471F-43CA-AE3C-E453BD66BE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3EB3-D31C-43DA-8332-8344D7C94E50}" type="datetime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30-07-26</a:t>
            </a:fld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2DB0328F-663E-4E89-8103-CD31B0384B7A}" type="datetime10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06:5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Citadel College - De school die je k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0121-6A35-4696-B14A-05A7B15BDE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4EAD-4ABA-4090-B150-CB310E19ABC3}" type="datetime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30-07-26</a:t>
            </a:fld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AEE37D84-27AD-4577-B654-E253C07731EA}" type="datetime10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06:5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Citadel College - De school die je k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4A9C-3573-4D16-B711-EE93CAACDD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bbb59"/>
                </a:solidFill>
                <a:latin typeface="Calibri"/>
              </a:rPr>
              <a:t>Eten en drinken doe je in de aula of buite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Tijdelijke aanduiding voor datum 2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2365-738E-43D2-95C2-51253333B2BF}" type="datetime">
              <a:rPr b="0" lang="nl-NL" sz="1200" spc="-1" strike="noStrike">
                <a:solidFill>
                  <a:srgbClr val="898989"/>
                </a:solidFill>
                <a:latin typeface="Tahoma"/>
              </a:rPr>
              <a:t>30-07-26</a:t>
            </a:fld>
            <a:r>
              <a:rPr b="0" lang="nl-NL" sz="1200" spc="-1" strike="noStrike">
                <a:solidFill>
                  <a:srgbClr val="898989"/>
                </a:solidFill>
                <a:latin typeface="Tahoma"/>
              </a:rPr>
              <a:t> </a:t>
            </a:r>
            <a:fld id="{53B89CA3-2C0B-4B0F-8D68-B4A93831DBD5}" type="datetime10">
              <a:rPr b="0" lang="nl-NL" sz="1200" spc="-1" strike="noStrike">
                <a:solidFill>
                  <a:srgbClr val="898989"/>
                </a:solidFill>
                <a:latin typeface="Tahoma"/>
              </a:rPr>
              <a:t>06:57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6" name="Picture 2" descr="C:\Documents and Settings\b.fransen\Bureaublad\Eten%20en%20drinken.jpg"/>
          <p:cNvPicPr/>
          <p:nvPr/>
        </p:nvPicPr>
        <p:blipFill>
          <a:blip r:embed="rId1"/>
          <a:stretch/>
        </p:blipFill>
        <p:spPr>
          <a:xfrm>
            <a:off x="1981080" y="1371600"/>
            <a:ext cx="5562720" cy="31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Roosterwijziging dinsdag 19 ma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Klas 1D3 heeft het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/m 5</a:t>
            </a:r>
            <a:r>
              <a:rPr b="0" lang="nl-NL" sz="24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uur les in lokalen A108 en A10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2D1 5</a:t>
            </a:r>
            <a:r>
              <a:rPr b="0" lang="nl-NL" sz="24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uur lok.C03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1C1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uur lok. A1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3T1 3</a:t>
            </a:r>
            <a:r>
              <a:rPr b="0" lang="nl-NL" sz="24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uur lok. A2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4T1wi1 5</a:t>
            </a:r>
            <a:r>
              <a:rPr b="0" lang="nl-NL" sz="24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uur lok. A2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4T1bi1 4</a:t>
            </a:r>
            <a:r>
              <a:rPr b="0" lang="nl-NL" sz="24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uur lok. A2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4T1ec1 3</a:t>
            </a:r>
            <a:r>
              <a:rPr b="0" lang="nl-NL" sz="24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uur lok. A1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3H2 fa 4</a:t>
            </a:r>
            <a:r>
              <a:rPr b="0" lang="nl-NL" sz="24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uur lok. B25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ijdelijke aanduiding voor datum 3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F813-DF1A-4735-93A6-9E6F4F18EE6E}" type="datetime">
              <a:rPr b="0" lang="nl-NL" sz="1200" spc="-1" strike="noStrike">
                <a:solidFill>
                  <a:srgbClr val="898989"/>
                </a:solidFill>
                <a:latin typeface="Tahoma"/>
              </a:rPr>
              <a:t>30-07-26</a:t>
            </a:fld>
            <a:r>
              <a:rPr b="0" lang="nl-NL" sz="1200" spc="-1" strike="noStrike">
                <a:solidFill>
                  <a:srgbClr val="898989"/>
                </a:solidFill>
                <a:latin typeface="Tahoma"/>
              </a:rPr>
              <a:t> </a:t>
            </a:r>
            <a:fld id="{9B9EC98D-D8BC-4965-90F0-B19448304FC0}" type="datetime10">
              <a:rPr b="0" lang="nl-NL" sz="1200" spc="-1" strike="noStrike">
                <a:solidFill>
                  <a:srgbClr val="898989"/>
                </a:solidFill>
                <a:latin typeface="Tahoma"/>
              </a:rPr>
              <a:t>06:57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4T15:55:17Z</dcterms:created>
  <dc:creator>stephanie.caccomo</dc:creator>
  <dc:description/>
  <dc:language>en-US</dc:language>
  <cp:lastModifiedBy>Han Kedde</cp:lastModifiedBy>
  <cp:lastPrinted>2013-02-18T07:27:16Z</cp:lastPrinted>
  <dcterms:modified xsi:type="dcterms:W3CDTF">2013-03-18T15:06:19Z</dcterms:modified>
  <cp:revision>263</cp:revision>
  <dc:subject/>
  <dc:title>Slide 1</dc:title>
</cp:coreProperties>
</file>