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5145088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3C7-DC4B-46F2-AB29-E29D5B46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ADAC-3AF5-4841-AC3C-8BE140B5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1D780-2541-46EC-B5B1-8DA53861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5465D-0A84-470E-A617-C895C366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2CD4D-01CA-425F-B852-ACEDF510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147CB-0970-4111-BAFA-35AC748F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FF165-49FC-443A-B371-D227A4AB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AB901-8BC3-4D30-81E0-FEE31CB3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2E9B4-B6E6-421C-9772-653EE120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D2819-B9FB-476B-B3F0-2EFD31E1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1C5D9-093E-4AFC-8948-05350816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F6AFD-F6E1-4B6B-BAA9-AC219698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D7E-82B3-4F96-B20D-0A253E18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060A4-54E6-4168-BC93-FA1957B3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5A09F-DEF9-4298-B010-7B81EFE8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0771B-DBFC-444A-B6D5-F0683B26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C2FDC-DAA0-4F94-93F1-60FCDC82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8526A-454B-42DF-86AA-415F1544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8DA73-04B8-4A51-9C03-770DC243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FE6E1-6F6B-4D7E-8550-61A2114E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2B812-A2D2-4F6A-88E1-D15F39BD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C5C05-CE9B-4BA6-B249-4A85FF41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BA624-EA20-4DCB-AA45-9D8F9282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8BD-7247-48D7-893D-7BC3C9E0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6C896-FE1C-4216-A2DB-83DDBFA9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B248C-B1B0-48F4-B3B6-7AD45BB9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92CC7-2036-4F39-9C4F-8E5C3505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E8281-62A7-4D08-B556-468A74C9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9D14E-2526-4E0F-BD05-C3A6A6A3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E8508-9938-46C5-9B67-054DDBC3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5F9A4-0672-432C-944A-C766E7A3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D73DB-D572-420E-8252-468EBDA7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03472-E8D8-4728-AC4D-F0383536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B217B-8540-482B-9771-ABD970E4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ED99-FBFD-4809-BC90-D10DB6C8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B2DC3-B112-4D2D-A08A-C8DD04B2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9BCE5-BC1F-4735-A42A-A49FCA13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A1561-41A0-4444-A3D9-7D11ED74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B0B8C-3154-4B21-9031-F7019CCB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F283E-BE90-481E-9671-71EC8997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67A09-607D-4B62-AD45-C1419AE9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737AE-7490-414A-880A-BF4C0ACF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8611C-BCF3-4F9D-9245-46B460C4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7D3FE-5FBB-4A70-A42F-BB3A20DD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DDBEA-3883-4A7E-836C-908CC019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B51B-A011-4BBD-8F09-8AD49FDE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A0CFF-2077-4CBE-A3C6-4CCA0995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E2526-39BF-4C1C-908A-EB123137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EA37C-508F-4D44-8AD1-0BCB2C86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0DEC0-0C89-4D81-AAFA-CCFF4BDC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A70E6-7C36-4132-A76A-E49D4ECA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2DD5-A6EB-4837-837D-8041C058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88AA-6399-44B7-AC20-F7167A7A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F39E-53DA-4F69-BF1E-BDB31D5A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B9DB-2A46-4321-B810-D7946264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89F8-3241-4995-A9F3-EA203371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4E44-C892-4F54-8ACB-5733B7AE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9749-0664-488E-84D0-D679262F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68F6-5528-42FE-993D-7DA56CF5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EEF9-51CD-4658-B974-D2B3A012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91A1-16B2-4F63-A53C-A66AD308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1E04-FFE8-4992-937F-F3D5232E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192CE-07D9-4028-9152-9BD96573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3E51B-B3AF-42A2-97C8-275AF2E9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120C0-7B01-4BE7-8EB8-7233ED8D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ED40F-6B20-468B-8EB4-CD9DCBA0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53848-D14A-4D66-8F24-F8C0756E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C58-B6F2-4653-BF3C-6451BFA7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FB8E8-AC0E-466B-A14A-1FA63F40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CBEA2-DF6E-42FB-A51A-66B2762A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7D742-E28B-4F8A-9440-292BD59D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F686C-3542-4108-9ED7-A691DE81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EBF9C-1FE1-47EE-B1A9-FA1E43C7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FB410-3DB7-4A5B-AF0B-BFD76991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0C199-D802-455B-B6F9-1CAB98C8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05DDE-CD7D-4A96-A03F-02514121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83EBE-8B0F-4257-A455-FFF29CAA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1F30E-3F25-41BB-BAF0-86D0E8C1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345-5EEE-4102-9BD3-0E117C02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57E46-FA0B-4D97-85C9-DA73665F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DDB70-4688-4485-B2E9-7CC2AAE3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8A839-5803-4A3F-8160-E98CF942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C201B-E89E-4277-B9A1-57BE1BD7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3962B-A939-440D-A4EE-618C1FE2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E4573-4BED-402B-BDEB-BBCEB302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47F61-DD85-442A-A0D9-3BA97775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1BA31-2562-4FEA-BAE7-90A0EE55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094C1-CEB3-430B-AA8B-68098816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7E5F7-8272-4BB6-8310-EE666747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B604-E150-4D31-868B-FAAE5D57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788DC-3750-480E-AA50-78805D0F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76759-870A-466D-8FD7-D9FB485D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0C444-0FFD-4318-A054-CCBF96B7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FF8E6-EEF8-4BB1-B056-4209363E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38A05-0979-4246-9B0F-DA2680FF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01D5E-A79A-4D5D-ADEA-0F212AE7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69511-6B6F-4C23-86D8-CB644726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4898E-A9B6-4C8E-A912-3EE09E58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804A5-0A28-41B6-97E5-80566B8E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867CD-F56B-4F9A-A8B1-6CF31646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90D-3408-4A77-9281-F5433FE2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E9687-A587-4E94-BF16-2D0F029F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F7C47-9457-4949-B443-AECFCD79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C6CB1-6F55-4116-AEA2-BF7E2B8C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417F0-3B56-4360-A052-4BEA5941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43664-B9D7-4909-8080-1CFBE1D0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137CD-75F3-497A-B541-73B18FAB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9B5C1-BAE3-480A-89FD-39383370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425FA-9B7A-4177-99D9-C3302855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4A556-A46B-4687-8671-1BA7F098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CF968-DA26-46A9-A377-897C2819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843-E2B8-4D0A-8A19-24F85C09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56345-C669-410F-885D-C4911A47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B4D74-2112-4BB3-BC7B-4CA34514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2637A-6CDE-4205-9FF9-D88A99A8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F1197-93B7-4C7D-83C0-785B8894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5AC1F-9139-49A7-A71C-9C9AF622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FC9AC-DC43-456C-9DC7-7EDB8FE6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8D44A-A6F4-4EC1-8D83-7C46BF2F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EC128-444C-4382-924C-06E3E58B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78157-E548-4193-B3F6-81D99B8F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90912-00F0-40EC-9668-7C2F012C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192-37D7-464C-B23A-832CA032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321D6-91C3-46BE-BD5D-B14F8C1B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AB964-8368-4617-A288-03BC3EF6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06917-C192-45D0-A76D-C5348737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D95A1-DB49-4DE1-9566-1FB3E90D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0A1D5-3A37-4EA9-AF78-2CC795DA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EC50A-5466-46D6-88D4-4FE97BEF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45C00-A954-43D1-B831-70DB57AC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49001-694F-4822-957B-2B40F8FB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CB9CE-9BD1-43FB-A1A0-0EB7DAEE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86CD8-B696-411C-B239-8E73EF67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FD4-039C-45C9-BBA3-780DB53A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046F8-35FD-46AC-9028-CD4596C8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207FF-B1BB-4183-885B-22608715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3C974-4EC3-4BAF-B779-71C3E7AD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8863B-3C79-4CF0-82C5-AF05871A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3F463-5134-4CD7-95DB-5E3D8E6B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1064E-E397-439C-A3A0-4681061C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30CBE-36D1-4875-B7F5-C38B73F4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5C622-B5E7-4D1E-8778-96D15C4C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53996-DC19-4D89-9A5F-0616E09B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38B2B-8FC2-4874-A333-A9EE377A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788C-571B-4BA5-AD76-56EBB6EE9C62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28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EE84432B-4DE7-4718-8FF3-DE4F96673D37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19:0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3469-EC5D-48FE-8092-DA079B43D9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5"/>
          <p:cNvSpPr/>
          <p:nvPr/>
        </p:nvSpPr>
        <p:spPr>
          <a:xfrm flipH="1">
            <a:off x="152280" y="1200240"/>
            <a:ext cx="8839440" cy="0"/>
          </a:xfrm>
          <a:prstGeom prst="line">
            <a:avLst/>
          </a:prstGeom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Line 16"/>
          <p:cNvSpPr/>
          <p:nvPr/>
        </p:nvSpPr>
        <p:spPr>
          <a:xfrm flipH="1">
            <a:off x="152280" y="1085760"/>
            <a:ext cx="8839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C1D6-0C38-4FF8-8F24-E96A7206D20C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28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AE9B64AD-9662-4E5E-9835-F33B2D375449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19:0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71BB-8BDB-4E31-BE1F-2EDF44C7D9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044E-C99C-4280-B50A-71D69309EE96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28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4D14D2A1-FEBF-473A-A65D-E218574580FA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19:0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A413-EBEF-44B5-8C37-E129E90BF3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FCCB-4E68-4E6D-BAC8-8FC906FDB1C3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28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A166D4F4-BC4D-4C5B-A604-BEA8AF4DF114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19:0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40C2-4BD7-4576-84B0-19D1B4A93A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57DF-EE6A-4555-A919-696BF957D093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28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91BB4784-C22E-45A8-AC16-7CE588954685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19:0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4ABB-B83F-4D83-AB95-4E78FA56F0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1DD2-D32B-40D8-88B0-C202745E93D3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28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342C19A6-5B2E-4F26-A211-D104BA92C031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19:0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CDBB-7C35-4C8F-A788-1B11F216B3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98ED-AF79-4A66-A861-57CBDE0BD7A5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28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FBCA8F3A-04FD-4F4F-A812-5FFCA8C67F24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19:0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F2C3-C772-48FB-A24B-22D0A0C3E8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BFCF-BF00-40E2-BFAE-91506892A92E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28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CCB5EA70-B80D-4DAD-8362-A287030B9DA5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19:0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908E-E0A3-4F1C-B05E-3BD017C8C0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52C9-AA59-4FE7-9B8C-2E2896D6684D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28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C8C1E3C0-D7DA-4C99-AE68-C4CAEAD3C4AE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19:0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269D-19BF-44D8-901C-D6C080CEA5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4C73-2185-46F5-BB3E-9D3109472469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28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232B2A97-1B1E-4B13-890A-9004BD2E22C0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19:0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C2AD-4979-487C-B6DF-8EF4DF0574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343F-876C-45A2-B6DB-3B96B39C0E0A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28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783EA093-C19C-4186-84D3-EDA8C7C388E6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19:0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0110-958E-441B-8023-24CDFFDC5E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96D8-A7C9-49B5-BF41-14CE955D9A6E}" type="datetime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28-07-26</a:t>
            </a:fld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0EAF8288-9A0F-4598-BDEE-5AAD3A64E5CF}" type="datetime10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19:0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Citadel College - De school die je k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6A0D-0F24-4386-BC92-8AF1AD5D4D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bbb59"/>
                </a:solidFill>
                <a:latin typeface="Calibri"/>
              </a:rPr>
              <a:t>Eten en drinken doe je in de aula of buite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ijdelijke aanduiding voor datum 2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6B30-2208-45A4-918E-07A13B208BA2}" type="datetime">
              <a:rPr b="0" lang="nl-NL" sz="1200" spc="-1" strike="noStrike">
                <a:solidFill>
                  <a:srgbClr val="898989"/>
                </a:solidFill>
                <a:latin typeface="Tahoma"/>
              </a:rPr>
              <a:t>28-07-26</a:t>
            </a:fld>
            <a:r>
              <a:rPr b="0" lang="nl-NL" sz="1200" spc="-1" strike="noStrike">
                <a:solidFill>
                  <a:srgbClr val="898989"/>
                </a:solidFill>
                <a:latin typeface="Tahoma"/>
              </a:rPr>
              <a:t> </a:t>
            </a:r>
            <a:fld id="{20D38861-5124-4095-A38F-3CD4878A591C}" type="datetime10">
              <a:rPr b="0" lang="nl-NL" sz="1200" spc="-1" strike="noStrike">
                <a:solidFill>
                  <a:srgbClr val="898989"/>
                </a:solidFill>
                <a:latin typeface="Tahoma"/>
              </a:rPr>
              <a:t>19:07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6" name="Picture 2" descr="C:\Documents and Settings\b.fransen\Bureaublad\Eten%20en%20drinken.jpg"/>
          <p:cNvPicPr/>
          <p:nvPr/>
        </p:nvPicPr>
        <p:blipFill>
          <a:blip r:embed="rId1"/>
          <a:stretch/>
        </p:blipFill>
        <p:spPr>
          <a:xfrm>
            <a:off x="1981080" y="1371600"/>
            <a:ext cx="556272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oosterwijziging dinsdag 19 ma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las 1D3 heeft het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/m 5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uur les in lokalen A108 en A1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2D1 5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uur lok.C0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1C1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uur lok. A1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3T1 3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uur lok. A2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4T1wi1 5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uur lok. A2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4T1bi1 4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uur lok. A2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4T1ec1 3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uur lok. A1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3H2 fa 4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uur lok. B25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ijdelijke aanduiding voor datum 3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DF36-0F53-491A-B013-2252D538C92A}" type="datetime">
              <a:rPr b="0" lang="nl-NL" sz="1200" spc="-1" strike="noStrike">
                <a:solidFill>
                  <a:srgbClr val="898989"/>
                </a:solidFill>
                <a:latin typeface="Tahoma"/>
              </a:rPr>
              <a:t>28-07-26</a:t>
            </a:fld>
            <a:r>
              <a:rPr b="0" lang="nl-NL" sz="1200" spc="-1" strike="noStrike">
                <a:solidFill>
                  <a:srgbClr val="898989"/>
                </a:solidFill>
                <a:latin typeface="Tahoma"/>
              </a:rPr>
              <a:t> </a:t>
            </a:r>
            <a:fld id="{8E6A7971-7DA3-49EB-8824-ECF8034EE710}" type="datetime10">
              <a:rPr b="0" lang="nl-NL" sz="1200" spc="-1" strike="noStrike">
                <a:solidFill>
                  <a:srgbClr val="898989"/>
                </a:solidFill>
                <a:latin typeface="Tahoma"/>
              </a:rPr>
              <a:t>19:07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15:55:17Z</dcterms:created>
  <dc:creator>stephanie.caccomo</dc:creator>
  <dc:description/>
  <dc:language>en-US</dc:language>
  <cp:lastModifiedBy>Han Kedde</cp:lastModifiedBy>
  <cp:lastPrinted>2013-02-18T07:27:16Z</cp:lastPrinted>
  <dcterms:modified xsi:type="dcterms:W3CDTF">2013-03-18T15:06:19Z</dcterms:modified>
  <cp:revision>263</cp:revision>
  <dc:subject/>
  <dc:title>Slide 1</dc:title>
</cp:coreProperties>
</file>