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lick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AA0-37E5-4DD7-86CF-8AEDD8FF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BC2A-7135-4A14-A748-88A6DB49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E4D4-6BB5-4CF4-9D5C-65B554D0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0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0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CC1-533D-4E23-A147-09FD710B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2D4-2000-4B92-AA1D-B3FAD7B5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A86-A320-4D6F-A8CC-AE539BB0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2C8C-FC36-4D45-9E8A-7640B414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FA8-29A3-4AD8-952B-60E4BEE4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457-0486-467D-ADE4-C6C0E105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0639-0FDC-40FF-B34C-9D2FC6BF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CBD-D72C-4BFE-A8FE-005DD8BA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4F4-E684-4F4D-9326-99CE89DF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d-ID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d-ID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d-ID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E13C2-18B8-40A8-9673-3C1B12EB77AF}" type="slidenum">
              <a:rPr b="0" lang="id-ID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8000" y="839880"/>
            <a:ext cx="8064720" cy="100800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3614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  <a:ea typeface="Arial"/>
              </a:rPr>
              <a:t>KISAH  KRISTU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08240" y="2351160"/>
            <a:ext cx="6048360" cy="42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914400" indent="-909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Arial"/>
              </a:rPr>
              <a:t>Tujua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09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gar pewartaan Kabar Gembira dapat diterima dan dimengerti dengan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jelas dan efek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23760" y="3366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8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b  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08000" y="2268360"/>
            <a:ext cx="2100240" cy="369576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2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 fill="hold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03:32:51Z</dcterms:created>
  <dc:creator/>
  <dc:description/>
  <dc:language>en-US</dc:language>
  <cp:lastModifiedBy/>
  <cp:revision>0</cp:revision>
  <dc:subject/>
  <dc:title/>
</cp:coreProperties>
</file>