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08C-47E8-4C42-9929-8B8B5C48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60A-2166-474B-8EFA-C51280E6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144-2FCB-4D17-9981-CA4EBCB7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A59-7739-408F-AF37-AC97AB07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F93-1A3B-49CF-A053-B44B3113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6C6-89F1-4697-B7A2-E98362C4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D82-615D-4152-B1D4-A71B3891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F13-205F-478D-83C9-7F2E0C57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156-4E74-4BD4-9175-5E2EE737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317-A8C8-4E45-BF4D-EEA0606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EB6-8C2D-4D80-A9BC-2A7FD72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3DB-685F-49B0-8EB3-399BD89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3F5C9-6E66-4A01-A6C6-8947E404ED5C}" type="slidenum">
              <a:rPr b="0" lang="id-ID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0" y="839880"/>
            <a:ext cx="8064720" cy="100800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KISAH  KRISTU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08240" y="2351160"/>
            <a:ext cx="604836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914400" indent="-909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Tuju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09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gar pewartaan Kabar Gembira dapat diterima dan dimengerti dengan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jelas dan efek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3760" y="3366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b  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8000" y="2268360"/>
            <a:ext cx="2100240" cy="369576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3:32:51Z</dcterms:created>
  <dc:creator/>
  <dc:description/>
  <dc:language>en-US</dc:language>
  <cp:lastModifiedBy/>
  <cp:revision>0</cp:revision>
  <dc:subject/>
  <dc:title/>
</cp:coreProperties>
</file>