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DD2-C38A-4422-BE16-DD78818179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sldImg"/>
          </p:nvPr>
        </p:nvSpPr>
        <p:spPr>
          <a:xfrm>
            <a:off x="-157320" y="685800"/>
            <a:ext cx="7391520" cy="5543640"/>
          </a:xfrm>
          <a:prstGeom prst="rect">
            <a:avLst/>
          </a:prstGeom>
          <a:ln w="0">
            <a:noFill/>
          </a:ln>
        </p:spPr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164880" y="6300360"/>
            <a:ext cx="6576840" cy="24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15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62" name="Rectangle 11"/>
          <p:cNvSpPr/>
          <p:nvPr/>
        </p:nvSpPr>
        <p:spPr>
          <a:xfrm>
            <a:off x="4540320" y="258840"/>
            <a:ext cx="619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D72-81C2-48BE-8214-F705B6BED18D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5A9F9D37-9F4B-4889-BA92-53F2E950AC5B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CED-6940-4A6D-8D00-6CC69726CC1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9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249120" y="480960"/>
            <a:ext cx="6275520" cy="4708440"/>
          </a:xfrm>
          <a:prstGeom prst="rect">
            <a:avLst/>
          </a:prstGeom>
          <a:ln w="0">
            <a:noFill/>
          </a:ln>
        </p:spPr>
      </p:sp>
      <p:sp>
        <p:nvSpPr>
          <p:cNvPr id="1968" name="Rectangle 11"/>
          <p:cNvSpPr/>
          <p:nvPr/>
        </p:nvSpPr>
        <p:spPr>
          <a:xfrm>
            <a:off x="4869000" y="12600"/>
            <a:ext cx="7538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Rectangle 11"/>
          <p:cNvSpPr/>
          <p:nvPr/>
        </p:nvSpPr>
        <p:spPr>
          <a:xfrm>
            <a:off x="190440" y="5170320"/>
            <a:ext cx="652788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pPr marL="179280" indent="-17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Somos el primer jugador de todo el mercado en kilitro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n Perecederos, los primeros son los Termitas con casi la mitad del merca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n Secos, Mercadona es el primer jugador, seguido de Dia, Carrefour y Erosk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El único jugador de los importantes que está ganando cuota además de Mercadona es D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 u="sng">
                <a:solidFill>
                  <a:srgbClr val="000000"/>
                </a:solidFill>
                <a:uFillTx/>
                <a:latin typeface="Arial"/>
              </a:rPr>
              <a:t>Datos</a:t>
            </a: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Arial"/>
              </a:rPr>
              <a:t>Otras competencias son: Ultramarinos + Charcuterías + Perfumerías/Droguerías + Especialistas de congelado + Farmacias  + Gasolineras + Kioscos + Especialistas Comida Animales + Veterinario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D5AE-DE72-4296-8708-AA5FE99EB20E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C4A9C7F7-BE68-4837-8D6F-6B0F72939758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DD51-6620-4DB6-8DB7-64BFDC272F3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10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sldImg"/>
          </p:nvPr>
        </p:nvSpPr>
        <p:spPr>
          <a:xfrm>
            <a:off x="123840" y="455760"/>
            <a:ext cx="6945120" cy="5209920"/>
          </a:xfrm>
          <a:prstGeom prst="rect">
            <a:avLst/>
          </a:prstGeom>
          <a:ln w="0">
            <a:noFill/>
          </a:ln>
        </p:spPr>
      </p:sp>
      <p:sp>
        <p:nvSpPr>
          <p:cNvPr id="1975" name="Rectangle 11"/>
          <p:cNvSpPr/>
          <p:nvPr/>
        </p:nvSpPr>
        <p:spPr>
          <a:xfrm>
            <a:off x="3784680" y="74520"/>
            <a:ext cx="13748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58840" indent="-25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To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body"/>
          </p:nvPr>
        </p:nvSpPr>
        <p:spPr>
          <a:xfrm>
            <a:off x="175680" y="5765760"/>
            <a:ext cx="6280200" cy="31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4A1C-9F21-4F6D-BE82-D85FC42BACF8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- </a:t>
            </a:r>
            <a:fld id="{C9A370CC-A908-412F-9B44-96A1A4D4D687}" type="datetime">
              <a:rPr b="0" lang="es-ES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6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01D-80A7-4B70-85D3-44EE84E285C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/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7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ESIDENCIA /JR,VB "Reunión Anual 2013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9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/CD/AÑO 2013/Anual/Reunión anual Gerentes.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D5FF-3070-4B15-B80E-960FBE54A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E2E4-ABAA-4EC3-AF01-88642F2475A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C0FC-94C4-4AA0-B0BC-4BFAE8CC5A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940B-B8F6-4DED-B159-7929C3188F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6661-C7B8-4010-9C0F-65C9CD0CE2A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F4D5-8AA8-41F2-9464-CD368B4A7A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B70F4-0FA4-4A5C-9E10-94D077C5E12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277A-BBC2-4307-9385-C48791A3C99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1D5D-ED6B-4856-934D-A5D569E278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3BF6-9DAB-40BA-A78F-52B8C9A707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982A-BBC7-4C01-B7F9-A8D7B9E831E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D6391-27F0-4EF2-97E3-749D2C2AD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70D2-7195-469A-B2CD-8E0917A53A2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C07824-C9FF-4F23-AC9B-8AD0FBC551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926271-3B11-4430-9B75-07CC4F935B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8B8D1-9C0F-4F7F-902B-5836363F0E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A266D-E085-420B-9A28-9200FC2AB9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7E953-B5EF-406E-8615-FF48C10E61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02835-FD63-4C29-8CDE-7BE051F030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63AC3C-D78F-4626-906F-C8730BFB27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CE1A6-F7B4-42EF-9F79-85DEC7B3237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3EF89-4F91-4604-9D05-62F05DBD74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3DB89-A55A-4025-B139-79EA09883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BFA8D-7124-4300-B18C-6385D4CF4D9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EB813-0B89-4015-8410-53BFF0462BD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0598B-42C1-49C9-A622-48E4258431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213D1-A5B9-4581-A5FD-FF4BBDAE14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B48D3-AEEF-41B2-8C14-37811A94EC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D3278-3FC2-42E1-A406-E3DB12F8CB0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60E60-6656-45EC-804B-31EDDDDFFC8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17CE0-AA15-4EB8-895F-92461F430D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60189-98DE-40CE-973D-30968E608E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E6E7B-BC95-433D-8AEB-69DDDAC716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102F9-2A16-48D6-8DF0-7B68A1EDE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1392-57EE-467B-89C9-E4F921BCEF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1ED07-7073-4D25-A9C5-FE990FA43F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D689CB-811B-4B89-8199-76F0957D4DA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6CF55-3848-41E3-B629-053F9B64FF8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FA1F-ACC9-456D-A51C-2B3E7EBC965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B730C-21B6-4C5D-A991-AE64CFB2277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A4A3-210F-40A6-BCC2-E43D053754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2D0E2-B1F2-48BE-A05B-C8E211418E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F3CC-342B-41C4-B36A-557D788803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5705-964B-4A40-9390-81173672BC9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A827-FAA7-44B9-81A7-84C3B0F970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FF4D-FB2E-4859-A222-B29ADCFD2C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28786-399F-4D95-B487-07F5867A9B6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39991-CFA0-4E73-8238-95BBA70D60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93DF-0C6C-44DD-83E6-D7188B1321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C73F2-E1EA-477D-B98F-BC57FFE93E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30ECF-353D-4D9E-8F19-8732B537FDE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8373D9-C12C-4FBF-8E04-55529B21FFC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3166A-E250-4F97-9295-B839617DFF2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B2E6F-2F7E-48EC-AFB8-347FFB2AD6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74B2D-8A06-45DC-9FDE-63C10927010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3E13F-C073-4855-8A77-ADF2EF655E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5B82-EED7-4468-A38D-4313CBDE6FC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E4665-2B27-4EDA-B838-8626F40E033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1A2B9-E04D-4EFD-A27D-4C8438040C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04745-20D5-45E5-8BCE-057F74A2A66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1290A0-6E8D-4AA8-88C3-C4939AAA87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C99F41-3EAE-4CC2-953E-8036174653F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D6CF6F-7A0E-4D75-BB4F-6B46686D12E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2FE867-FBD5-4325-8225-AD75199110C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B011F-D524-44BC-BB9E-581C553FF10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5E71BD-EDC1-4C8F-AAD5-B40B78E970F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D6F12-73DA-4E8B-818E-7E1BEFFC37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7C43-2DCC-4762-9B8B-69070359AE3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75534-1A08-4999-844D-F5944742BEB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94E5D-D00E-4770-9BFA-86086C0CCC7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B08A5-FF48-4E54-B911-56033C9195D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22D7F-2F4B-42B4-99EC-983A685802E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3E9A0-6421-41EB-906E-73D4D02C1B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58A75-2C25-4CA5-9F35-DF18A0382DA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EF43B-D965-4CBB-9A69-745DC05F19A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23489-37A2-4352-9CC2-F320D641132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08FED3-9C41-4CD1-9FE7-9B410C9E9B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6766-DF5D-4684-B9DA-C0BC228B9C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5669-1BE4-4234-8FB9-5FE295FA879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915A1-C0E3-4B18-BF34-56C9198BCE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FC14-0E7A-4A67-9957-EC1865301D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63AE-D52E-47BB-B568-8F6C2BEE47F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0B802-EFA7-4912-884D-963F706EB30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0248-067E-4FCF-9F2C-9FFEB674A68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6AE0-9CCE-434B-B082-92898D3024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A16F0-C3DE-4982-B5B8-84E61305B4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6BAC7-6BA6-4DB6-9833-A324B166034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3B59-6595-4391-B683-9FE5336E25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C0ED7-F069-4B6A-AACC-2CBC1D782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5BB6-8F98-48CF-B1FF-1ACAB672F7B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C2A7-EA78-4957-A393-EE2B7B96879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9BE0AE-81C2-4C14-9752-146126140A5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034BC-E37E-422C-BA77-32D39D8C04D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EFFBC8-2F34-4D21-B9FD-80403468F6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86C6B2-C457-40EA-8C82-9D030E05FB1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F6BD9-BE9A-4E84-A1F1-0B0AF91B3CD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99AEE-EF4C-4320-9AA5-F163E523270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47CCE8-2E1D-4DF2-8B82-ABA5336CEC7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8DD1BE-AB70-44EF-91AC-922FD1643F5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75B80D-42E9-4AAA-88A3-390A933618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1E6C-7FC0-45FA-95B2-F2C2B613686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4FCBF-1DD3-4EC1-AB7E-5938ECDC82B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22DF2-E027-467D-8E3F-23B0FFBF322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CEF647-C370-4B5B-B6CC-E73E7A4EE66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3370C-F353-4FA5-B478-480178344BB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CE9B9-A493-4294-B666-3AA16CE886E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58F6A-E14A-4CBC-BC1D-9F86AE0896F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813F0-FA02-4DEF-A8AA-A46880938FF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6A7C4-4107-4DE8-AD5F-0BDBC4653C3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77E5F-C1D4-4951-B168-CE0775E5495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D24759-6A48-433A-97FB-8D24AF2CE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536B-ECE6-44C3-8F3D-C1691898C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D8D1-2CD2-4FFB-A9C1-4E392DB86D5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7D6BA-B683-4BB7-9AE1-32B0BF757F8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FB975-0012-4304-9846-604D0B48586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BA810-B53B-44FA-A88F-B9EC66E019A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D2535-9BF4-4ABB-94C4-B6027920D70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42DA3-E327-4E87-8863-6507F7AF0BD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D6BD-C4A4-40C4-8BBC-9C06CCFF58E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56091-E5EE-4283-AD02-88EFE631986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C28B9-C464-4B58-877A-CFB23E7D7DD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10C26-EE28-4252-BB85-44C920F82F8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90EF-1FFF-460F-A7B8-5F68F0E3A7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7746-C444-4D03-A4C6-5250ADD6BBE8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2C1D-F43E-40F1-ADC3-BB7A2331C93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B521D-1F44-4517-A676-36879292638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7586C-05BB-4414-A81D-CAFAF560DCE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24D11-C6F0-4A14-B8E7-5B19C9238AB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A3AC-9920-43DF-B295-98C24FC6BE7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1868-4D09-49C1-B609-4F55F2078FB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5A2B-A937-41DF-8A93-A8588E4E57A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0A82F-73FB-47B3-A486-AB04204348F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81D509-5D1B-4082-A158-C872386F94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C87C35-AF81-41A5-845B-819938ACE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11A6-B6A4-438C-A8D2-38C9C7FB45D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47D954-784E-4249-8B85-C13CB5B6856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2577C8-A31C-4506-BC3E-DDA911D3AF9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075A4-4A31-4E75-B1B8-2FA2F7E3B42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F0966E-193B-487B-9F09-B2FF644772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AA9943-1A8D-4BCE-9401-670D41FEDBC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D6B7B7-3097-4DA6-BCA4-6EA20EE8F02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D0C074-A07A-44E0-B77C-0052175681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99A6BB-82D7-4CDD-8471-2D2D56856E4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14941C-0ED3-4B56-B05C-B410821D198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B741C-C031-41C5-8ADF-8A8735005E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AF93-DEF5-4918-8E99-516D60D197D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650EE-401D-44E5-B347-922EEB3F1D1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E6B45-EDFD-4D35-8C8A-49B1F2A5899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C208E-6CDE-4EE5-A505-2263D157EAB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B6B74-BCB3-4556-B4CD-994FCE8A71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CD4D8-BB29-4E62-9640-2D09890753A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C4FAC-0A70-42F3-80DC-81D669CB722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BC09B-B10D-4A59-82DA-55EA2EDD154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57F575-BB4B-4098-828D-0A3527B6DCF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73678D-F0BA-488E-A25D-7057B4D2A46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1C393-CE76-4E03-9DDA-AD5BDD89D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2EB8-27B4-4501-8288-CD1FBC2AE75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FEA5F-5812-4A8E-8318-16843E1F7F3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D3E17-1842-487E-9E4B-93977DB0DC6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0333-342B-4702-BE07-D14EF6763A7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F6EDC-2C84-4B4C-9CEE-6328FC02D33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B51E-FCCA-42A5-BC9B-1C2917A55A1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334F-E89A-47EB-B8CC-BB4E9B5F478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29180-47BF-4721-90F4-398243A086F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1717-595A-4ED5-BDD6-D52E74352FE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C58CD-1CB0-43C2-ACDF-C655922FC58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CF962-26BC-43C5-93D3-D2A80B2F99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25E-9AE9-453A-8FC6-55DE146024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86FA0-0754-4580-9A39-D8C8733A786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47F5-1851-48B1-A81D-78E759407BB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7EDFA-BCF0-45B5-B81A-C4AE8D5A2CA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DE5D4-63B4-4B94-BDF6-6304E298C4E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B318A0-0E55-4D00-8E2E-CC23A0A8DBC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74FBC2-E0F1-41EA-9078-535CDAEBF1B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1D550D-F50B-49C6-A95D-FE2A810DC0A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6E7C5B-7686-4F21-BF07-863346F2387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59EF0-4B89-402F-B048-FA252AD7929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4282D1-5D65-42AB-BC64-9E28EED874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A6C-B702-4018-A25B-60C981231EE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0EE58-0FB4-4C43-AC01-897D918526D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0B0FF-6D14-4E9A-8B7A-8C29330004B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F50091-454A-4FEC-B560-E7BE2E90EC1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BA326-88B2-402F-937F-3365F1532A6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3C00A4-9EEF-4644-8B78-9CB7BC7D08C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F30645-DD7E-4639-82FD-B21F844E3C7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F84A4-ADE3-46AC-A6D3-EAC08EB0150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2115DF-9192-4708-9335-BB8596AAD6A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82FCC-98A8-43F9-AA73-51E168AF274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82F5F-D05B-43E5-A63C-089053BAD3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62D-54D3-43C4-87B7-F321D6E9592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EF9C5-FA9A-465B-8117-44FF2AD4A49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10D4EC-73A6-4FF5-94BD-F66520B8990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894E8-C8C3-4EDD-A3F7-71D6803BA56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B39D9-399D-4555-BF6C-010E02440A2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23DAD-51FE-4EBD-A555-9C228B1FEC1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A42F3-9F02-4A2E-A79D-2C2D27E003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55689-70AC-41A5-924B-497A2FC21C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0DAC6-7053-4A48-9038-2915EAF877D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DD94A-0F51-410B-86B1-8BA52D099AF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B1312-1409-4330-8D39-47B7317B2E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F6C-3E53-4EA0-AECF-A7F92FC656B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AFEC-CB88-4BC2-928E-1C5A1040ADA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D0CE2-2EC9-4486-A2A3-8078327FA32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515BE-04A8-4BE5-B40B-76E1B7DD2B4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A074E-5607-4220-83AB-B7818C7C18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5CD2C-14E7-40E7-908E-392B6655C0D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044E8-8DBC-419C-A0D7-6F73A34339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8858-F8AB-45D0-9F9E-52B9CB28623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3A9DE-F238-4863-8984-0B59E714232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435B-094F-4EB4-9940-7F43DF61BC5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09961-3EDF-4604-8608-7B2E0F3F18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3CE-3CC8-4B17-A0F5-10946CCE6C4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72A43-AD90-43E2-9DB6-34154822BD1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88458-34A2-4443-BD0C-4256E543792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8E20C-A7F2-4208-A045-EFA2CD1D598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E7E01-5DDD-4D02-8367-534B1B0441E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68C3E-C450-472B-A074-7B76F39D35A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E728C-D927-4C2E-A38D-0A5106CD3CC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AAA17-732F-406E-8F43-66B83513EE6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AE78E-DC59-4AEB-84C3-8F77FF7C00C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BFC4A-EC44-4E85-AA27-25F26ECB16E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FC4B5-FEA2-4F02-8B97-32E2CDBD44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64E4-7B0F-44B0-9A7E-BC22095EE8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6E2-2EC8-4C9E-8F89-2E14E03512A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7C868-739D-4B39-8C98-E98B0744792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5A1AD-DD0A-4545-BCCB-490F759F134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AEA40-5E8E-427E-A369-26799E651CE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665223-5F7A-4F88-9C64-0F9571B7E6D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1ACF5-5A79-4C1C-8EC4-3C4E197683D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8AA700-A843-4FB5-BCD0-1E91A21B4AE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756E7-7144-4EBB-994A-4EA19450CE6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EAB308-B90D-44D5-BA1D-73BEF5FCD7D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261CD0-2B92-48B8-ADFA-0B949AF0300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550C1-9D9C-41EF-BCD4-1B6BFE19E0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54B-CA3F-407A-B2DA-F2FBFFA23F5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57C4E-FC81-4FF4-A0D7-7300832D5E9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83D54E-3438-4DB0-926C-116C4A0B8C9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DB9A61-ADCB-4147-AB9E-9E6744A7E479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E3E4-BD2F-466E-8684-80FC6E47119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B663D-F16D-4BBD-84B1-E793CC0FBB9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ED7E3-66C6-40F4-902B-F744921CCD9B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09DEF-3EC3-4CD4-AA18-51EF63D7282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14A75-1FED-48B1-A4A3-4420EF959B9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A6674-13D0-43AB-9A4C-8EF7150F271D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02B3F-B446-4859-8637-93260A47A6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1BE-F4EA-457B-BF44-E199713A439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A7444-388D-4968-A4B3-6C8BF261873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9F9EF-6047-49A1-BFDE-724F0DEC675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372CB-191E-4F72-9767-4CB4C703846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AD3B0-46D0-43D1-83C1-B0FD42FD0FF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A4AA-7DBA-4DC3-96F0-90C54DE6AB4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224AC-C71E-4D80-AAF6-E77B9B40201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BD5D3-58DF-4A5B-9596-4D95D025E0D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48C1B-87FA-483C-AE2D-A97B40232EF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476298-14A7-41EB-9CB8-1B26DBCEC75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2D03D-8F39-4F0C-A502-2C28FF7BB0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778-94D7-4ECA-A798-D94646DC97E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9AF1-46CC-4DA5-87A3-3D0BF297F7E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08898-C58D-4131-9AAA-33724E4A3FD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EA39C4-4F55-4DBB-802A-4853545DC03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548A1-8294-4956-A4CC-C1B52120779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06D76-54D9-4B11-AF13-6C2860FDDDCB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271D1-5097-4A58-AAE7-7C5299517722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3B559-B3B0-4EC4-9411-112DEB089E5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F9C14-17F1-40AA-A3F0-5F042F569337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4E1006-5E16-4E6B-8549-B2ADA8CF86E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A9AE55-C986-4A10-944A-7C8020D571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C52-2CFE-4E32-BFDE-4573D5D0270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BE13E3-538E-4561-BBF5-A813FAAF94E7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9B6517-342D-43BA-844F-4785E077CD2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178EF0-8DA3-4D8E-B0BD-019CAD533F1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1FF19B-D89A-4CD2-A345-BB8432CC0688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F288E7-43D2-4FD8-95FE-D0CA69378FE9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569C1C-517F-4AD5-B8F9-0266212895F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5A29A-D2A2-4AD1-9948-05592DE6DD6C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7FE20F-B4D8-4EE1-ABC4-A84E39D325DE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EB87A1-2A93-4A12-85FE-65EB520A03E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529BF-A581-425B-93AD-623C3E0E05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6DA4-6230-4835-AF72-22FCCF6375F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462F9-5EDD-42C6-957E-DD93FEFC6D22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80150-617A-41F4-A2F0-EC5051B8345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1271-9F07-46F2-9544-F46C66D94D08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A488A-4817-4340-AAE7-1DE0570B24A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92FE0-B2DA-4294-A649-45343A148E6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EB5C5-7B25-47FC-867B-29938A8AFC1C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4C065-F4FA-4E54-8327-623070D862B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B2781-2292-4B76-ABBE-58D0F8C8B44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92160-71C8-4CA6-8463-F90CDD461D3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087DB-4C20-47B8-9BCC-9343ECCC32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195-496C-415B-9F28-29BF3FA113DE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D7B20-7C9E-4030-8A22-7D525077D7B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D1BF8F-9E48-4510-8F77-45875863651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E5DEC7-9BB5-4CC5-88C3-1EEAB5ECDA9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2838DE8-C814-4970-B104-8BBE7CC72101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3E9BBC-DC8D-4604-AE63-E5405052A90B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FB4A00-FC09-4858-8CA4-EE73D5C9FB0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6B731A-358A-4832-B310-1A0BB95E26D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025FC8-C553-4A07-8A98-C1829B75ADD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D43604-A94C-4027-A42F-62C501F8236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47477B-BD4C-4B49-A603-9A31EE661B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A298B-BE93-4136-8684-E85B9B966319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EE82C7-2BE2-416B-B815-3F7C10766DA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1FE6E1-095E-4BB4-BB03-4D6EA95D33F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0C3C94-3AE7-4FA6-B388-C358E374BCA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0A9111-15D2-4ECD-AD57-F0D3512E7C4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06569-AB6E-4841-B7D0-8E3338645D3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B18AA-9831-420D-AA2A-6E9F6CC8FB7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172C7-B89F-44C0-B90E-966A709D08E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F3A131-E155-4656-99C3-27E8EEAE7C6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820A9A-9F78-4E5A-8EB6-9432BEDCDCA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54C40A-0862-4373-9F32-DD6D12DCB7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5E783-A63A-43F3-B9DD-C3099BFD7FF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2405DC-BD9B-475E-8AEB-7867BBB1C3A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159BC0-6928-4AE4-A114-41EC79EDA1B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801AD-AC0E-48A8-B4BC-29D658BD50B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194991-3FEE-4284-AE3D-4EB03395AA6B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6985B6-960D-4DDD-B6A7-6F22055BD24C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0A1E-2D0B-4CF6-A540-E4B6665143EB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8F3CF-2F6C-4845-9776-8681072F97A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6FBA6-E11A-4CD9-9F1E-409BB452A9A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E38A5-584B-4F78-8D27-8EB9AA0CBFC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5E01-13CD-4ED2-A8D6-100CAFA8C9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F90E4-F02B-4096-9FA2-082682399BC8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16DC1-1E77-4A07-B617-7F30945FC27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13053-B572-4DF1-87C1-D9181D49110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444B-82E2-4F8E-8034-8768C93B863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F63A6-4377-49DA-82AA-F0830E74156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28687-8133-472D-BBC5-41437CE50245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43851-64DF-4F65-B94F-8ECFE79C563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470EB-BCCA-4BB0-8B78-0FF9CD3E64F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C4AB9-4E26-4F3C-9C63-B53ACBC443D3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AC910-F262-49C3-9F60-DDAA765BDAF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3E1AC-C7DF-44DD-A3CF-7ED9D5FA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AD0B-9BC4-4FC8-BDF7-B7D0DA7197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2EA90-37AB-47A0-B287-D6E70099DC2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640D7-9A09-40FE-9D52-4CEDEEEA2F8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EBF72-617C-42CC-84AD-7CCF80DD61C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9C97D-4309-4BED-9B69-1440BBB2793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6D730-60CF-4197-8A57-86704B82767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FFE521-511E-493C-A491-C79D4048E406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653A1-2991-4EC7-BA49-9135FA1D6BB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0D735-7257-4556-B412-D87AE366507C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9118A-0FB5-4ED4-A5B7-0D8A7BD5639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AFA27-AFE5-43EA-A666-E4F316E8F34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FDA7A-D129-49EB-A246-A97A6DF1E7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31984-0802-4266-9AEC-EAB20A3B4F8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C2C01E-D483-4075-B51B-72216D36F9D1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FA90F9-DC75-4595-9F32-F0688165AF46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46129-358E-4FFE-AFB4-7FAA2187FC90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B92EEC-F2AC-4037-A8A4-E23BEAD18EAC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B6971D-EC53-4C7C-8140-992B4ED5AF6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AF9D3F-D6AC-4009-A977-E4458E632D8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0F7502-EC9D-49D5-9430-477A1FD71B7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720122-0507-4F5F-B98F-FBCEBBB21D1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46EFEA-C014-4C34-AC4D-B20384510AA3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7124DA-9840-4A4A-B759-6B9F9C276A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20531-E3BA-4F6C-8726-DEAF4487078A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EC507C-E2BD-4A23-AAE7-F29A361E88C2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B52CF-6DC2-43EE-85D1-B92957E21A84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DDFCC-8E79-47BC-ABAE-207E3A51577A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F25A-042D-4C3B-B6E2-6086E064058E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22C24-D292-466F-A77A-97C455B64202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1B4B7-D074-48AE-92A8-B84144553B8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52087-D576-40D3-B0B5-4806101AA626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837E-A242-487D-8BF7-0F4D830F92E1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4CA1-D6DE-4CD5-B0EC-6DFA56200ED1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06B37-6FD1-4727-AE83-3D5DEF74B7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93560-BC62-466B-97E4-01915AA82C3B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4F56F-F789-41FA-B755-32976FF93DB0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AF82F-647A-4605-AE7E-1724342DA76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C1A2D-DE71-418C-A06B-93E4CAF45E42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0F0ABC-877A-48C0-ABA8-4A80433187CC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07852C-0274-4868-A6BA-D48CE6844FA0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5C3DE3-C1BB-4EE3-87E5-678B4DE269D2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6ADBEA-D792-4BD5-9B17-BA73A27D7CF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799229-CDEE-4B4B-9351-C99B65BCFED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CC51B9-3A1E-491B-A81B-B458F414E3D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1B005D-5852-4EDA-83D4-360A2153B1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53470-80B0-45BF-B167-148A34E241E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20832E-06BE-4FF4-8A43-8106ED6F0B77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25A34F-8D68-45D0-BC05-7FD04C183BF6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EC8715-801B-4646-950B-978EFB4677BC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BDA25B-216E-490D-B015-00318126163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B5C8D01-453E-4AE2-B015-06BAC07D3E2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42C49-0069-40F1-BBE1-37E61F87EE23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F49764-E1D4-4882-B115-6ADEE7FB275B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022716-3C07-46AD-B078-FA6797D83777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8F13A6-7909-4B5E-A1F7-E38185C4703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AD17E4-F7DD-4DD3-B7E7-60AD08046B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14C21-E9F3-401C-B23A-5474B7A5E86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E0E197-7211-487D-8F8F-35A1B3CB9569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EC1EA6-FA4D-4547-BDEE-672BCA1D77F9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98993E-98C9-4AB0-AD46-DCD64FAA66B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92C982-4778-4BC2-85F1-2283633AC33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693B27-5E79-4988-9A36-654FCACCB47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4ED44-F618-4A16-B430-CE6A495A658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5535C-6AD7-4C65-A577-09544C94EA2D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753173-82E7-4F7C-825E-B154313FF30E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D86F1-BCFB-4223-8F35-CDE352E5BD1A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4F5C0D-5904-4D88-861C-97E72805BE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A4D01-A17A-42CF-8E39-5EAC8A17CDCF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BDCF2-8E3B-49D0-B3AA-160886CF8147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F1E12-5836-4E52-9E44-9E1F9A3E099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5438C-9CA8-41DB-B997-BBF2401ED92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92B7A-07D2-44DE-B73F-821A36AE753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DC37B-D431-4184-8B5C-DAAE2D785918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DE070-506A-4662-A62A-5447E6B27CC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B0D4A-B7D8-4344-BFE5-B9767E6C772E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E8439-CCFF-499C-A241-8830BDECCAE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2AF7D-9E3E-4A29-9455-CD96734469E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F99088-DA4D-47A1-9327-A880DC00FD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10CDF-7CDC-4DD0-8535-87F8482A981B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F05332-3C22-4B03-BFE7-7B8596F45EBF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4B1664-9785-4B90-84BB-6D034272693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43C42A-2784-4B6B-8703-C68043B63D2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0EAACB-6015-43E0-9B10-679ED80E383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D277B6-92F3-4384-861E-929484168729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20BF54-B42E-4DB7-AEB8-915CC5D9EA53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ED6042-5FB5-4BD9-8F43-CE559DA7E0BC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E29414-1404-4957-A286-F7288C6C4FF5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5A7A6D-9AF2-4E54-993C-6B422C8DA402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D183A9-A51C-4BFB-ACC7-EAADEA0A8A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0571-F1C1-4A8D-AF39-2857727A6705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B5B174-A64E-4638-BCE7-33DDAAC461E5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FD433DF-782A-47B7-B47E-D7047211D1E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D6EB83-633F-48A4-9E46-795547C8EA20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56F77F-E9A5-4781-88D7-641068092BE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ECD0AF-CEF2-454E-987F-FA3375165FF0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FD4278-047A-4218-93A4-9B7AAC94A418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F494E5-19A9-422F-A9DE-1094B48779D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07AD67-7076-4970-9562-B2C39B83BE3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7BBD51-67E3-4DF3-8EB1-DB75E60FACD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4C6142-402C-48FB-836D-0875AC43F91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C00EC-70B8-4F0F-9A1C-F2EB2155690F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55CC81-DD05-44B2-A177-54AFAF9530CE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2CFDC8-7F85-4884-8EDB-050E1A0D4242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BA157C-10FE-415F-A935-B4651EEE6CD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31D14-E315-480B-96C2-D48A83D35A4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EAADA-17DD-4595-B3FD-656CFCF3A125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7BECE-F5A8-4914-9218-CEAA1CB221A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B7798-7496-4868-8D49-008F7145028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1DFC9-436E-4475-9169-67CFC92B52C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DA0E4-0370-49E7-9707-8674456171B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F4455A-EEA3-4739-8C37-C658C1A0A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3051-35DC-4371-ABF4-8252808FD1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91664-6849-436B-961C-9450EEA3159F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B8A93B-6E45-440C-98BE-0341D322977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2843B-4B88-416D-800F-68DA86269A3A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0F3CD-549A-41FE-9552-36E7CC13116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88903-B676-41F6-B900-19FD386FC4D2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C833E-EDC7-42EA-A799-219F25C5406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BF1DA8-4F6F-486A-BABB-2426311B302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426CA8-4C8D-405F-817F-44DCBBC5273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8916BA-B8DF-45E1-92D8-2B588BE4A50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DD38F4-5D9E-4604-9155-9E18D654885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DE35BE-55F7-493C-8F7F-3DF9912045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87AF-6490-4C66-93ED-5238502AD313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227D0B-4CE9-4A02-9B4A-9330E127E32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10F451-1147-4B08-8F6A-FC3F8D91603F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AEEF8B-7164-45B1-8325-D8D7D63D4F1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DC926E-97C5-4CA7-B485-2015AE3B739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339D8C-E624-4118-9C3F-13300ADA5A8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FA5F54-6196-4DC2-B651-F33A93A84CA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9AFA8F-1E2A-43D5-8C54-4F552B58FC0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82D67F-A4E0-4309-B896-BA5C498D76D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3CCBC3-6D4E-4F1C-AC7E-C7B51837446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31D02D-BDDA-40F6-BF18-961E52258C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8E619-0BB9-4C3B-8A7C-C3A10E4D9BFE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E7B307-EE45-4495-97A8-491D05123A38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573454-1B08-4E39-9F10-625B339D9EEF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C08F1E-7516-499E-AD03-9545D736D77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F2654F-E7E7-47B3-AAC2-BCAB2634BC76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2F258B-27F7-49EE-9971-EBB040C47C19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D72707-1787-4B30-BA64-E5C86C893290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3C6E1A-2858-4D2B-8797-DBA74011396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379174-9DC1-4BC5-BC13-054F8F191B3A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DB68DC-8A4E-4854-97F8-E1FC17B46E2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9FE8D-5C55-408A-AD3E-B0ABAF2E5B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B4472-D07C-4A75-9095-8C914B93A8DF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66736-30EF-46F7-9EDA-241E2EAD5082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0782A2-BAFE-4E8F-A894-4289715CC32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BBE9C1-289E-4850-9E1A-A02900E0537E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26420-B26B-46E2-8939-9C4999BB4C3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5D937-B8DC-4435-A397-C042D21D93E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032E5-6C4A-415B-B778-368B1059BB7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7BAC5-E33E-4F08-9F2F-343A0F817C1D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0BBAA-530F-4A32-8FB8-6F75AF649889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E7C48-5BD9-459B-9622-11155D1360B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E1F1C-9884-406A-A498-1BDED073BC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8A012-1E63-4885-AEE2-1B894F430420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464BA-5B1B-4B23-981D-D2C13E7C456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1D6061-4137-4E18-819B-2FA87FA2CAE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DEB3A1-780D-455E-A283-DE485FAC9D1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B61F59-302C-4D04-ACBB-C81321703DF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A8D0E1-720E-4747-B99C-CB6D36A0343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442A1B-E9BE-43BD-BFF7-114824ABA7D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C7D114-31B8-477F-B345-57AA4CED1C9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561ED8-C858-4637-8740-A9A44AFBD4A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B0C3F50-4821-457A-9D16-44889BED222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4343A46-196A-44B2-B07E-2B3A3F94018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4CD45-D29B-4B7F-AFD2-8E4AFD2E49E2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CC6712-D7B7-47CC-90C0-6BC64E057AA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0CC473-CCE9-4D11-B68C-EE5BF5C10395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C497FA-856D-403A-992D-468CBF5EDCF1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048E27-B6DF-4538-9081-B476482E63AD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7428C7-25F6-4372-997F-2DBEB69F3FA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DBEACC-3067-43BF-9381-D218F71B7887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86F2BB9-0CD9-4878-8180-AF666479238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2637E7-01C2-43B4-81A8-0E33D79AF0A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6CF40D-E34D-47D4-920D-7B9B18AC5807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0ABC2E-26CC-4B16-91F0-5F64ACC0F7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670DE-463A-44B2-B212-0479B057D476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BBFBE9-F764-4A79-8F3A-DAA6F505D59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6CA83D-3CA8-4F2F-B9FB-B49DAAD1F5D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D7741B-CBDE-4F17-9E19-18E4F8376C7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BC3E32-498C-481E-8C3D-CE279756F6C6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EF4FC7-5372-409F-9614-6D7ED46FA18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D26C40-7385-4829-B463-C2DB95C049B9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2EBC5-EC80-4B6D-8C90-260F7C040D6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A4208-344F-4B53-A5BC-BBB0013B1B7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F5F9A-E7DB-4C3C-AFD6-2CECB7CB9D3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E8C15-3BAB-41FA-A1B8-78DE191E6EF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60EB-03E0-4F53-B721-F7CE47CC6442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9FEAF-7157-4685-AB41-47C6DDD188DE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7C926-1942-4E72-977B-0C359B5F597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49CA8-6338-42BF-B3DA-44DED13CEB8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8D8B8-71FB-4E02-8F9D-7E651C04BE7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DC3D4-0F99-4B8D-BD08-9CA92506490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53FA1-7A78-46E4-A6C2-FC49589B0D6B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80F1E-9984-4A0C-AE4D-13CF05E1A4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09118-E643-44C1-A7AE-5FD1FDC345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C947-5F62-4DDA-B342-8C0059301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9040-D629-404C-AC81-262BD3757D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414CB-91C2-4AE4-9CBA-E5E3168CBF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4699-13F6-452B-BB53-562D0C7FC4E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5EC4-9D51-40CA-ABE2-7141070D4C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421C-6E24-46F3-881C-C717D203C4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A4FC-E3CF-4EAA-977D-F9C0B6D9B5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C84C-139F-44C5-A58E-71BE9AD7A0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551-F94B-41D7-A0A2-DD32887078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9C92-4251-41A0-AF4E-05EA8D86D63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6CA-CD87-473E-BDD9-B30D28723F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082B-ADB5-4739-B90B-9FC8289C8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CB39-817F-42D0-AD12-10065113DD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988B-67ED-4546-83DD-46A2DA0815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753B-4D03-4B3E-8A48-0470EF9076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0FFE-FEFB-4653-8495-8C4A2DA0EE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2EDFB-3AD0-45E3-AF6A-30777BBA7A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0E3EB-5233-4795-B317-6C42817E52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C32AD-D61A-4CE2-AC03-61073FF103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A6BC5-5B41-4556-9724-0A2F2F9F3B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D1BB8-439E-4059-B732-3C81208FE3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B6F77-FAC4-4D81-A94A-51985E83BAE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A7A8DA-AE9A-4CCA-8984-40C37EAC5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9C4-DE27-4942-8063-DCC5FE7006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F9EC76-802C-4AE7-948A-6E535795C7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7ABEB-A741-4EFB-A4B3-2B038A8B3D3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8C49B-BDB3-4938-8412-2CB707AFAB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B39BB-D474-45D7-A9E2-61AE294C6E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FC38A4-E99C-466B-9F64-EC0B1DA99D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7D3C7-0B2A-441D-9FBE-F52052A475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B6E9C-7D77-4210-A109-1EBE39586ED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347FE-26DF-49E9-80A3-C5BD77AF36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71E0E-98CE-4CA9-9377-1383E6B168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FD8D5-7457-4B73-9070-9A19760D5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B119-0E76-4EA3-8EED-ECD8F2805D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864216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7805F-7AFC-4695-B806-3FA9988BD1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751DD-D800-42B7-B3F0-4070779928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DC3C8-FD44-44BB-A49C-D95B126BAC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BB623-1C91-4ACF-AA93-5F97E49BA1C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79280" y="3682800"/>
            <a:ext cx="86407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A095C-4AC3-4F9F-BDBC-21098E2A8F3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06920" y="112536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7928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06920" y="3682800"/>
            <a:ext cx="42163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AB2AE-4EA4-4F8D-851B-AEC021BF514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0068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440" y="112536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792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0068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440" y="3682800"/>
            <a:ext cx="27820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4A5BC-E4E8-42AC-8427-9A4C4DF0152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B31CC-112A-4422-9F6F-6F765AC86A1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E183-927C-42BA-9103-AD3CBDAA003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0B0D-01DD-4FB6-B14A-9EA50EFBA6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4EE-7710-4B6A-91BA-68642AF6EC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CCD7-1FB2-497F-9105-F7FC81C0EEB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906E-60DA-4D8B-88DA-CA02E9F169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00E5-F54B-471A-9A2C-934065DB4C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92CA-2C89-4D0B-B025-E31EA23723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93F-C1B4-47CE-90BE-8D3A1873F1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8928-C2F3-408C-9424-208A01FD31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5D38-7836-42A5-A68A-00E56090F7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1757-120E-4994-8039-713DF8782A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A529-A41E-41DB-BF0C-214CB4E51C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5459-BC2B-4FD7-8834-CF6DFF582F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D6DF-4FA5-4BBD-8716-93DA6525CB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8E33-457A-41CF-8135-27638A3970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D9A-B2EE-4C6E-ABB1-13E1EF39B8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B948-A034-4384-85E2-9DFDB7B4DC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A74-2925-418A-80A8-DBA84BB18E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6D2-6D1F-4492-8E50-1E232FEC17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416-AD1D-4F56-981D-A58297E8BD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2B4-BFB1-4FD3-9DC6-73F98FE036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7107-7D62-4347-A5C9-97BA7ED3C0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AD3-7060-4FA3-BD25-8BA7C46C65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6723-DB55-4DE1-A317-8701D32985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1F4-EC79-40C4-94D3-D6D36AC60A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2BF3-8DC9-4788-809F-8990479D66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767-2B29-422C-9B0A-BB8309A9E9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09C-E7F0-4CF6-8D0C-4FB5B43116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D636-9393-4771-AD5A-6BEDCAA772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DD0-52D8-4A52-999F-3AD66E5C84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E19-F452-4DCB-9ADC-7D85B821FC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837-BECF-4615-9142-DBE7BDE27C8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297D-93E2-4949-8BAE-26704DDA9E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366F-911E-4748-B03E-6A4F2114A1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2D57-F4F3-4923-B140-909DE8177A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2A8-14A7-4281-8541-5C3DAAB6CF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26E7-00F7-471B-993A-2E89B1E2566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5D75-8080-4BC2-A119-998356657A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EE9B-73B1-4DE6-924A-5C33FA5E66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C22-1BDE-458E-8CFA-DD91CDAE0F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3213-C675-49A2-BF3A-6B40335A35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839F-946E-493B-9F95-0EBDDA36A9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75A0-A99F-4C7D-93E3-FC8AD0B2909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187-4F97-44FF-A288-D6B64EC01D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2E9-8662-425E-A474-1AB127DFD66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7F8-9A8F-4B56-ACF8-678B41414B9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FCF0-AC69-4005-B2D7-4D7B769A00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34D5-9B5F-4A96-BCF4-816061F51D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A928-D9DB-4E4B-B198-D376115ACF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A8FB-D21F-4263-9BFB-1A2F44062A3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65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AutoShape 3098"/>
          <p:cNvSpPr/>
          <p:nvPr/>
        </p:nvSpPr>
        <p:spPr>
          <a:xfrm>
            <a:off x="3073320" y="4165560"/>
            <a:ext cx="140832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AutoShape 3100"/>
          <p:cNvSpPr/>
          <p:nvPr/>
        </p:nvSpPr>
        <p:spPr>
          <a:xfrm>
            <a:off x="5186520" y="2508120"/>
            <a:ext cx="140796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AutoShape 3099"/>
          <p:cNvSpPr/>
          <p:nvPr/>
        </p:nvSpPr>
        <p:spPr>
          <a:xfrm>
            <a:off x="4738680" y="4165560"/>
            <a:ext cx="140796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AutoShape 3097"/>
          <p:cNvSpPr/>
          <p:nvPr/>
        </p:nvSpPr>
        <p:spPr>
          <a:xfrm>
            <a:off x="3841920" y="1573200"/>
            <a:ext cx="140940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Rectangle 3077"/>
          <p:cNvSpPr/>
          <p:nvPr/>
        </p:nvSpPr>
        <p:spPr>
          <a:xfrm>
            <a:off x="-50760" y="739800"/>
            <a:ext cx="93139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ara estar informados de cual es el EAC/EFC de los 5 Compone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89948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Misión de esta char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3090"/>
          <p:cNvSpPr/>
          <p:nvPr/>
        </p:nvSpPr>
        <p:spPr>
          <a:xfrm>
            <a:off x="3587760" y="1933560"/>
            <a:ext cx="191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Je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Rectangle 3092"/>
          <p:cNvSpPr/>
          <p:nvPr/>
        </p:nvSpPr>
        <p:spPr>
          <a:xfrm>
            <a:off x="4930920" y="2941560"/>
            <a:ext cx="192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Trabaja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Rectangle 3093"/>
          <p:cNvSpPr/>
          <p:nvPr/>
        </p:nvSpPr>
        <p:spPr>
          <a:xfrm>
            <a:off x="4481640" y="4527720"/>
            <a:ext cx="1920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Rectangle 3094"/>
          <p:cNvSpPr/>
          <p:nvPr/>
        </p:nvSpPr>
        <p:spPr>
          <a:xfrm>
            <a:off x="2817720" y="4527720"/>
            <a:ext cx="1920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ocie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AutoShape 3096"/>
          <p:cNvSpPr/>
          <p:nvPr/>
        </p:nvSpPr>
        <p:spPr>
          <a:xfrm>
            <a:off x="2496960" y="2581200"/>
            <a:ext cx="1408320" cy="14414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Rectangle 3095"/>
          <p:cNvSpPr/>
          <p:nvPr/>
        </p:nvSpPr>
        <p:spPr>
          <a:xfrm>
            <a:off x="2241720" y="3013200"/>
            <a:ext cx="1920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Rectangle 3077"/>
          <p:cNvSpPr/>
          <p:nvPr/>
        </p:nvSpPr>
        <p:spPr>
          <a:xfrm>
            <a:off x="351000" y="5780160"/>
            <a:ext cx="84121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spcBef>
                <a:spcPts val="5499"/>
              </a:spcBef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que formamos Mercad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10"/>
          <p:cNvSpPr/>
          <p:nvPr/>
        </p:nvSpPr>
        <p:spPr>
          <a:xfrm>
            <a:off x="73080" y="84240"/>
            <a:ext cx="86835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ompetencias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(en kilitr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Text Box 5"/>
          <p:cNvSpPr/>
          <p:nvPr/>
        </p:nvSpPr>
        <p:spPr>
          <a:xfrm>
            <a:off x="147600" y="858960"/>
            <a:ext cx="33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OTAL Merc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Text Box 6"/>
          <p:cNvSpPr/>
          <p:nvPr/>
        </p:nvSpPr>
        <p:spPr>
          <a:xfrm>
            <a:off x="6864480" y="8841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Text Box 9"/>
          <p:cNvSpPr/>
          <p:nvPr/>
        </p:nvSpPr>
        <p:spPr>
          <a:xfrm>
            <a:off x="3622680" y="88884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erecede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1 Flecha derecha"/>
          <p:cNvSpPr/>
          <p:nvPr/>
        </p:nvSpPr>
        <p:spPr>
          <a:xfrm>
            <a:off x="2743200" y="3710160"/>
            <a:ext cx="1036800" cy="922320"/>
          </a:xfrm>
          <a:prstGeom prst="rightArrow">
            <a:avLst>
              <a:gd name="adj1" fmla="val 50000"/>
              <a:gd name="adj2" fmla="val 65272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7" name="Picture 14" descr=""/>
          <p:cNvPicPr/>
          <p:nvPr/>
        </p:nvPicPr>
        <p:blipFill>
          <a:blip r:embed="rId1"/>
          <a:stretch/>
        </p:blipFill>
        <p:spPr>
          <a:xfrm>
            <a:off x="731880" y="1359000"/>
            <a:ext cx="1857240" cy="5476680"/>
          </a:xfrm>
          <a:prstGeom prst="rect">
            <a:avLst/>
          </a:prstGeom>
          <a:ln w="0">
            <a:noFill/>
          </a:ln>
        </p:spPr>
      </p:pic>
      <p:pic>
        <p:nvPicPr>
          <p:cNvPr id="1898" name="Picture 15" descr=""/>
          <p:cNvPicPr/>
          <p:nvPr/>
        </p:nvPicPr>
        <p:blipFill>
          <a:blip r:embed="rId2"/>
          <a:stretch/>
        </p:blipFill>
        <p:spPr>
          <a:xfrm>
            <a:off x="3863880" y="1306440"/>
            <a:ext cx="1819440" cy="5486400"/>
          </a:xfrm>
          <a:prstGeom prst="rect">
            <a:avLst/>
          </a:prstGeom>
          <a:ln w="0">
            <a:noFill/>
          </a:ln>
        </p:spPr>
      </p:pic>
      <p:pic>
        <p:nvPicPr>
          <p:cNvPr id="1899" name="Picture 16" descr=""/>
          <p:cNvPicPr/>
          <p:nvPr/>
        </p:nvPicPr>
        <p:blipFill>
          <a:blip r:embed="rId3"/>
          <a:stretch/>
        </p:blipFill>
        <p:spPr>
          <a:xfrm>
            <a:off x="6556320" y="1271520"/>
            <a:ext cx="1866960" cy="5486400"/>
          </a:xfrm>
          <a:prstGeom prst="rect">
            <a:avLst/>
          </a:prstGeom>
          <a:ln w="0">
            <a:noFill/>
          </a:ln>
        </p:spPr>
      </p:pic>
      <p:sp>
        <p:nvSpPr>
          <p:cNvPr id="1900" name="1 Flecha abajo"/>
          <p:cNvSpPr/>
          <p:nvPr/>
        </p:nvSpPr>
        <p:spPr>
          <a:xfrm rot="10800000">
            <a:off x="367920" y="3795840"/>
            <a:ext cx="260280" cy="312480"/>
          </a:xfrm>
          <a:prstGeom prst="downArrow">
            <a:avLst>
              <a:gd name="adj1" fmla="val 43593"/>
              <a:gd name="adj2" fmla="val 84956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13 Flecha abajo"/>
          <p:cNvSpPr/>
          <p:nvPr/>
        </p:nvSpPr>
        <p:spPr>
          <a:xfrm rot="10800000">
            <a:off x="329760" y="1983960"/>
            <a:ext cx="336600" cy="484200"/>
          </a:xfrm>
          <a:prstGeom prst="downArrow">
            <a:avLst>
              <a:gd name="adj1" fmla="val 43593"/>
              <a:gd name="adj2" fmla="val 84925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1 CuadroTexto"/>
          <p:cNvSpPr/>
          <p:nvPr/>
        </p:nvSpPr>
        <p:spPr>
          <a:xfrm>
            <a:off x="348120" y="525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1 Flecha abajo"/>
          <p:cNvSpPr/>
          <p:nvPr/>
        </p:nvSpPr>
        <p:spPr>
          <a:xfrm>
            <a:off x="336600" y="3017880"/>
            <a:ext cx="296640" cy="379440"/>
          </a:xfrm>
          <a:prstGeom prst="downArrow">
            <a:avLst>
              <a:gd name="adj1" fmla="val 43593"/>
              <a:gd name="adj2" fmla="val 851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1 Flecha abajo"/>
          <p:cNvSpPr/>
          <p:nvPr/>
        </p:nvSpPr>
        <p:spPr>
          <a:xfrm>
            <a:off x="387360" y="4637160"/>
            <a:ext cx="225360" cy="268200"/>
          </a:xfrm>
          <a:prstGeom prst="downArrow">
            <a:avLst>
              <a:gd name="adj1" fmla="val 43593"/>
              <a:gd name="adj2" fmla="val 855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1 Flecha abajo"/>
          <p:cNvSpPr/>
          <p:nvPr/>
        </p:nvSpPr>
        <p:spPr>
          <a:xfrm>
            <a:off x="387360" y="4297320"/>
            <a:ext cx="225360" cy="266760"/>
          </a:xfrm>
          <a:prstGeom prst="downArrow">
            <a:avLst>
              <a:gd name="adj1" fmla="val 43593"/>
              <a:gd name="adj2" fmla="val 851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1 Flecha abajo"/>
          <p:cNvSpPr/>
          <p:nvPr/>
        </p:nvSpPr>
        <p:spPr>
          <a:xfrm>
            <a:off x="417600" y="4970520"/>
            <a:ext cx="164880" cy="199800"/>
          </a:xfrm>
          <a:prstGeom prst="downArrow">
            <a:avLst>
              <a:gd name="adj1" fmla="val 43593"/>
              <a:gd name="adj2" fmla="val 848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1 Flecha abajo"/>
          <p:cNvSpPr/>
          <p:nvPr/>
        </p:nvSpPr>
        <p:spPr>
          <a:xfrm>
            <a:off x="365040" y="6404040"/>
            <a:ext cx="225360" cy="266760"/>
          </a:xfrm>
          <a:prstGeom prst="downArrow">
            <a:avLst>
              <a:gd name="adj1" fmla="val 43593"/>
              <a:gd name="adj2" fmla="val 851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1 Flecha abajo"/>
          <p:cNvSpPr/>
          <p:nvPr/>
        </p:nvSpPr>
        <p:spPr>
          <a:xfrm>
            <a:off x="439560" y="5192640"/>
            <a:ext cx="106560" cy="173160"/>
          </a:xfrm>
          <a:prstGeom prst="downArrow">
            <a:avLst>
              <a:gd name="adj1" fmla="val 43593"/>
              <a:gd name="adj2" fmla="val 8535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1 CuadroTexto"/>
          <p:cNvSpPr/>
          <p:nvPr/>
        </p:nvSpPr>
        <p:spPr>
          <a:xfrm>
            <a:off x="348120" y="5400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1 Flecha abajo"/>
          <p:cNvSpPr/>
          <p:nvPr/>
        </p:nvSpPr>
        <p:spPr>
          <a:xfrm>
            <a:off x="450720" y="5659560"/>
            <a:ext cx="106560" cy="174600"/>
          </a:xfrm>
          <a:prstGeom prst="downArrow">
            <a:avLst>
              <a:gd name="adj1" fmla="val 43593"/>
              <a:gd name="adj2" fmla="val 8606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1 CuadroTexto"/>
          <p:cNvSpPr/>
          <p:nvPr/>
        </p:nvSpPr>
        <p:spPr>
          <a:xfrm>
            <a:off x="327600" y="59198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2"/>
          <p:cNvSpPr/>
          <p:nvPr/>
        </p:nvSpPr>
        <p:spPr>
          <a:xfrm>
            <a:off x="6345360" y="2819520"/>
            <a:ext cx="1369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Rectangle 4"/>
          <p:cNvSpPr/>
          <p:nvPr/>
        </p:nvSpPr>
        <p:spPr>
          <a:xfrm>
            <a:off x="6400800" y="2152800"/>
            <a:ext cx="1284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5030640" y="2144880"/>
            <a:ext cx="13701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Rectangle 7"/>
          <p:cNvSpPr/>
          <p:nvPr/>
        </p:nvSpPr>
        <p:spPr>
          <a:xfrm>
            <a:off x="1752480" y="2144880"/>
            <a:ext cx="3313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mos Ca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Rectangle 8"/>
          <p:cNvSpPr/>
          <p:nvPr/>
        </p:nvSpPr>
        <p:spPr>
          <a:xfrm>
            <a:off x="146160" y="2144880"/>
            <a:ext cx="1606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Rectangle 9"/>
          <p:cNvSpPr/>
          <p:nvPr/>
        </p:nvSpPr>
        <p:spPr>
          <a:xfrm>
            <a:off x="146160" y="2725560"/>
            <a:ext cx="16063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Rectangle 10"/>
          <p:cNvSpPr/>
          <p:nvPr/>
        </p:nvSpPr>
        <p:spPr>
          <a:xfrm>
            <a:off x="146160" y="1565280"/>
            <a:ext cx="16063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Surti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Rectangle 11"/>
          <p:cNvSpPr/>
          <p:nvPr/>
        </p:nvSpPr>
        <p:spPr>
          <a:xfrm>
            <a:off x="146160" y="955800"/>
            <a:ext cx="1606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Rectangle 12"/>
          <p:cNvSpPr/>
          <p:nvPr/>
        </p:nvSpPr>
        <p:spPr>
          <a:xfrm>
            <a:off x="146160" y="896760"/>
            <a:ext cx="1606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Rectangle 13"/>
          <p:cNvSpPr/>
          <p:nvPr/>
        </p:nvSpPr>
        <p:spPr>
          <a:xfrm>
            <a:off x="6400800" y="2725560"/>
            <a:ext cx="12841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Rectangle 14"/>
          <p:cNvSpPr/>
          <p:nvPr/>
        </p:nvSpPr>
        <p:spPr>
          <a:xfrm>
            <a:off x="5030640" y="2725560"/>
            <a:ext cx="13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Rectangle 16"/>
          <p:cNvSpPr/>
          <p:nvPr/>
        </p:nvSpPr>
        <p:spPr>
          <a:xfrm>
            <a:off x="1752480" y="2725560"/>
            <a:ext cx="331308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l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Rectangle 17"/>
          <p:cNvSpPr/>
          <p:nvPr/>
        </p:nvSpPr>
        <p:spPr>
          <a:xfrm>
            <a:off x="6400800" y="1573200"/>
            <a:ext cx="1284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.8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Rectangle 18"/>
          <p:cNvSpPr/>
          <p:nvPr/>
        </p:nvSpPr>
        <p:spPr>
          <a:xfrm>
            <a:off x="5030640" y="1565280"/>
            <a:ext cx="13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4.25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Rectangle 20"/>
          <p:cNvSpPr/>
          <p:nvPr/>
        </p:nvSpPr>
        <p:spPr>
          <a:xfrm>
            <a:off x="1752480" y="1565280"/>
            <a:ext cx="33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s de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Rectangle 21"/>
          <p:cNvSpPr/>
          <p:nvPr/>
        </p:nvSpPr>
        <p:spPr>
          <a:xfrm>
            <a:off x="6400800" y="963720"/>
            <a:ext cx="1284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0.3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Rectangle 22"/>
          <p:cNvSpPr/>
          <p:nvPr/>
        </p:nvSpPr>
        <p:spPr>
          <a:xfrm>
            <a:off x="5030640" y="955800"/>
            <a:ext cx="1370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0.2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Rectangle 24"/>
          <p:cNvSpPr/>
          <p:nvPr/>
        </p:nvSpPr>
        <p:spPr>
          <a:xfrm>
            <a:off x="1752480" y="955800"/>
            <a:ext cx="3313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 del Produc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Rectangle 25"/>
          <p:cNvSpPr/>
          <p:nvPr/>
        </p:nvSpPr>
        <p:spPr>
          <a:xfrm>
            <a:off x="6400800" y="415800"/>
            <a:ext cx="12841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Rectangle 26"/>
          <p:cNvSpPr/>
          <p:nvPr/>
        </p:nvSpPr>
        <p:spPr>
          <a:xfrm>
            <a:off x="5045040" y="425520"/>
            <a:ext cx="1279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Line 28"/>
          <p:cNvSpPr/>
          <p:nvPr/>
        </p:nvSpPr>
        <p:spPr>
          <a:xfrm>
            <a:off x="146160" y="95580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Line 29"/>
          <p:cNvSpPr/>
          <p:nvPr/>
        </p:nvSpPr>
        <p:spPr>
          <a:xfrm>
            <a:off x="146160" y="155592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Line 30"/>
          <p:cNvSpPr/>
          <p:nvPr/>
        </p:nvSpPr>
        <p:spPr>
          <a:xfrm>
            <a:off x="146160" y="212868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Line 31"/>
          <p:cNvSpPr/>
          <p:nvPr/>
        </p:nvSpPr>
        <p:spPr>
          <a:xfrm>
            <a:off x="146160" y="896760"/>
            <a:ext cx="0" cy="644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Freeform 32"/>
          <p:cNvSpPr/>
          <p:nvPr/>
        </p:nvSpPr>
        <p:spPr>
          <a:xfrm>
            <a:off x="5065560" y="355680"/>
            <a:ext cx="5040" cy="2879640"/>
          </a:xfrm>
          <a:custGeom>
            <a:avLst/>
            <a:gdLst/>
            <a:ahLst/>
            <a:rect l="l" t="t" r="r" b="b"/>
            <a:pathLst>
              <a:path w="3" h="2513">
                <a:moveTo>
                  <a:pt x="0" y="0"/>
                </a:moveTo>
                <a:lnTo>
                  <a:pt x="3" y="25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Freeform 33"/>
          <p:cNvSpPr/>
          <p:nvPr/>
        </p:nvSpPr>
        <p:spPr>
          <a:xfrm>
            <a:off x="6378480" y="328680"/>
            <a:ext cx="4680" cy="2916000"/>
          </a:xfrm>
          <a:custGeom>
            <a:avLst/>
            <a:gdLst/>
            <a:ahLst/>
            <a:rect l="l" t="t" r="r" b="b"/>
            <a:pathLst>
              <a:path w="3" h="2502">
                <a:moveTo>
                  <a:pt x="3" y="0"/>
                </a:moveTo>
                <a:lnTo>
                  <a:pt x="0" y="2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Line 36"/>
          <p:cNvSpPr/>
          <p:nvPr/>
        </p:nvSpPr>
        <p:spPr>
          <a:xfrm>
            <a:off x="5065560" y="896760"/>
            <a:ext cx="127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Line 37"/>
          <p:cNvSpPr/>
          <p:nvPr/>
        </p:nvSpPr>
        <p:spPr>
          <a:xfrm>
            <a:off x="6345360" y="896760"/>
            <a:ext cx="136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Line 38"/>
          <p:cNvSpPr/>
          <p:nvPr/>
        </p:nvSpPr>
        <p:spPr>
          <a:xfrm>
            <a:off x="7715160" y="896760"/>
            <a:ext cx="128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Line 39"/>
          <p:cNvSpPr/>
          <p:nvPr/>
        </p:nvSpPr>
        <p:spPr>
          <a:xfrm>
            <a:off x="8999640" y="1541520"/>
            <a:ext cx="0" cy="79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Line 41"/>
          <p:cNvSpPr/>
          <p:nvPr/>
        </p:nvSpPr>
        <p:spPr>
          <a:xfrm>
            <a:off x="8999640" y="4019400"/>
            <a:ext cx="0" cy="240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Line 42"/>
          <p:cNvSpPr/>
          <p:nvPr/>
        </p:nvSpPr>
        <p:spPr>
          <a:xfrm>
            <a:off x="7715160" y="6424560"/>
            <a:ext cx="1284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Line 43"/>
          <p:cNvSpPr/>
          <p:nvPr/>
        </p:nvSpPr>
        <p:spPr>
          <a:xfrm>
            <a:off x="146160" y="6424560"/>
            <a:ext cx="4919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Line 44"/>
          <p:cNvSpPr/>
          <p:nvPr/>
        </p:nvSpPr>
        <p:spPr>
          <a:xfrm>
            <a:off x="5065560" y="6424560"/>
            <a:ext cx="127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Line 45"/>
          <p:cNvSpPr/>
          <p:nvPr/>
        </p:nvSpPr>
        <p:spPr>
          <a:xfrm>
            <a:off x="146160" y="4019400"/>
            <a:ext cx="0" cy="2405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Line 46"/>
          <p:cNvSpPr/>
          <p:nvPr/>
        </p:nvSpPr>
        <p:spPr>
          <a:xfrm>
            <a:off x="146160" y="1541520"/>
            <a:ext cx="0" cy="79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Line 47"/>
          <p:cNvSpPr/>
          <p:nvPr/>
        </p:nvSpPr>
        <p:spPr>
          <a:xfrm>
            <a:off x="6345360" y="6424560"/>
            <a:ext cx="1369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Line 50"/>
          <p:cNvSpPr/>
          <p:nvPr/>
        </p:nvSpPr>
        <p:spPr>
          <a:xfrm>
            <a:off x="146160" y="2716200"/>
            <a:ext cx="87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Rectangle 51"/>
          <p:cNvSpPr/>
          <p:nvPr/>
        </p:nvSpPr>
        <p:spPr>
          <a:xfrm>
            <a:off x="239760" y="147600"/>
            <a:ext cx="3271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Quejas Línea 90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Rectangle 53"/>
          <p:cNvSpPr/>
          <p:nvPr/>
        </p:nvSpPr>
        <p:spPr>
          <a:xfrm>
            <a:off x="7699320" y="2701800"/>
            <a:ext cx="1279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Wingdings"/>
                <a:ea typeface="Wingdings"/>
              </a:rPr>
              <a:t>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Rectangle 55"/>
          <p:cNvSpPr/>
          <p:nvPr/>
        </p:nvSpPr>
        <p:spPr>
          <a:xfrm>
            <a:off x="7688160" y="2090880"/>
            <a:ext cx="12798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Rectangle 57"/>
          <p:cNvSpPr/>
          <p:nvPr/>
        </p:nvSpPr>
        <p:spPr>
          <a:xfrm>
            <a:off x="7705800" y="309600"/>
            <a:ext cx="12794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Rectangle 58"/>
          <p:cNvSpPr/>
          <p:nvPr/>
        </p:nvSpPr>
        <p:spPr>
          <a:xfrm>
            <a:off x="7688160" y="927000"/>
            <a:ext cx="127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Rectangle 55"/>
          <p:cNvSpPr/>
          <p:nvPr/>
        </p:nvSpPr>
        <p:spPr>
          <a:xfrm>
            <a:off x="7696080" y="1571760"/>
            <a:ext cx="1279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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Rectangle 9"/>
          <p:cNvSpPr/>
          <p:nvPr/>
        </p:nvSpPr>
        <p:spPr>
          <a:xfrm>
            <a:off x="2216160" y="5892840"/>
            <a:ext cx="50464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risis cremas: 15.500 llamad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Freeform 33"/>
          <p:cNvSpPr/>
          <p:nvPr/>
        </p:nvSpPr>
        <p:spPr>
          <a:xfrm>
            <a:off x="7740720" y="328680"/>
            <a:ext cx="4680" cy="2916000"/>
          </a:xfrm>
          <a:custGeom>
            <a:avLst/>
            <a:gdLst/>
            <a:ahLst/>
            <a:rect l="l" t="t" r="r" b="b"/>
            <a:pathLst>
              <a:path w="3" h="2502">
                <a:moveTo>
                  <a:pt x="3" y="0"/>
                </a:moveTo>
                <a:lnTo>
                  <a:pt x="0" y="25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Freeform 32"/>
          <p:cNvSpPr/>
          <p:nvPr/>
        </p:nvSpPr>
        <p:spPr>
          <a:xfrm>
            <a:off x="1684440" y="955800"/>
            <a:ext cx="4680" cy="2268360"/>
          </a:xfrm>
          <a:custGeom>
            <a:avLst/>
            <a:gdLst/>
            <a:ahLst/>
            <a:rect l="l" t="t" r="r" b="b"/>
            <a:pathLst>
              <a:path w="3" h="2513">
                <a:moveTo>
                  <a:pt x="0" y="0"/>
                </a:moveTo>
                <a:lnTo>
                  <a:pt x="3" y="25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9" name="1 Gráfico" descr=""/>
          <p:cNvPicPr/>
          <p:nvPr/>
        </p:nvPicPr>
        <p:blipFill>
          <a:blip r:embed="rId1"/>
          <a:stretch/>
        </p:blipFill>
        <p:spPr>
          <a:xfrm>
            <a:off x="719280" y="2981160"/>
            <a:ext cx="7893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8:58:09Z</dcterms:created>
  <dc:creator>Eduardo Maldonado Garcia &lt;emaldonado@mercadona.es&gt;</dc:creator>
  <dc:description/>
  <dc:language>en-US</dc:language>
  <cp:lastModifiedBy>Eduardo Maldonado Garcia &lt;emaldonado@mercadona.es&gt;</cp:lastModifiedBy>
  <dcterms:modified xsi:type="dcterms:W3CDTF">2013-01-22T12:09:29Z</dcterms:modified>
  <cp:revision>3</cp:revision>
  <dc:subject/>
  <dc:title>Presentación de PowerPoint</dc:title>
</cp:coreProperties>
</file>