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FD1C-3366-4618-AFA5-00F0DC2F42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-157320" y="685800"/>
            <a:ext cx="7391520" cy="554364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164880" y="6300360"/>
            <a:ext cx="6576840" cy="24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15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62" name="Rectangle 11"/>
          <p:cNvSpPr/>
          <p:nvPr/>
        </p:nvSpPr>
        <p:spPr>
          <a:xfrm>
            <a:off x="4540320" y="258840"/>
            <a:ext cx="619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 marL="258840" indent="-25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8840" indent="-25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88D5-0F06-427D-BA44-82A8BD781111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- </a:t>
            </a:r>
            <a:fld id="{C275F6A6-D347-458C-9669-88F83C4878C4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BC77-7D81-4B18-A6ED-FFC8A1B1B08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/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ESIDENCIA /JR,VB "Reunión Anual 2013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9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/CD/AÑO 2013/Anual/Reunión anual Gerentes.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ldImg"/>
          </p:nvPr>
        </p:nvSpPr>
        <p:spPr>
          <a:xfrm>
            <a:off x="249120" y="480960"/>
            <a:ext cx="6275520" cy="4708440"/>
          </a:xfrm>
          <a:prstGeom prst="rect">
            <a:avLst/>
          </a:prstGeom>
          <a:ln w="0">
            <a:noFill/>
          </a:ln>
        </p:spPr>
      </p:sp>
      <p:sp>
        <p:nvSpPr>
          <p:cNvPr id="1968" name="Rectangle 11"/>
          <p:cNvSpPr/>
          <p:nvPr/>
        </p:nvSpPr>
        <p:spPr>
          <a:xfrm>
            <a:off x="4869000" y="12600"/>
            <a:ext cx="7538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58840" indent="-25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Rectangle 11"/>
          <p:cNvSpPr/>
          <p:nvPr/>
        </p:nvSpPr>
        <p:spPr>
          <a:xfrm>
            <a:off x="190440" y="5170320"/>
            <a:ext cx="652788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 marL="179280" indent="-179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Conclusiones</a:t>
            </a: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Somos el primer jugador de todo el mercado en kilitro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En Perecederos, los primeros son los Termitas con casi la mitad del merca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En Secos, Mercadona es el primer jugador, seguido de Dia, Carrefour y Erosk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El único jugador de los importantes que está ganando cuota además de Mercadona es D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Datos</a:t>
            </a: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Otras competencias son: Ultramarinos + Charcuterías + Perfumerías/Droguerías + Especialistas de congelado + Farmacias  + Gasolineras + Kioscos + Especialistas Comida Animales + Veterinario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14B6-270A-4916-B737-5F6EA3AEBDEB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- </a:t>
            </a:r>
            <a:fld id="{A36E32CE-2CA0-4228-83C7-D61E55A99C63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AE84-D13B-4AB3-A4F6-A991ACD4EBD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/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ESIDENCIA /JR,VB "Reunión Anual 2013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10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/CD/AÑO 2013/Anual/Reunión anual Gerentes.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23840" y="455760"/>
            <a:ext cx="6945120" cy="5209920"/>
          </a:xfrm>
          <a:prstGeom prst="rect">
            <a:avLst/>
          </a:prstGeom>
          <a:ln w="0">
            <a:noFill/>
          </a:ln>
        </p:spPr>
      </p:sp>
      <p:sp>
        <p:nvSpPr>
          <p:cNvPr id="1975" name="Rectangle 11"/>
          <p:cNvSpPr/>
          <p:nvPr/>
        </p:nvSpPr>
        <p:spPr>
          <a:xfrm>
            <a:off x="3784680" y="74520"/>
            <a:ext cx="13748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58840" indent="-25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175680" y="5765760"/>
            <a:ext cx="6280200" cy="31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0CBA-EB6A-4373-B091-D79A20CC957A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- </a:t>
            </a:r>
            <a:fld id="{8609669C-4C09-47BA-AAA0-690580BDD097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21D2-0A67-4119-9937-1841328CC0B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/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ESIDENCIA /JR,VB "Reunión Anual 2013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9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/CD/AÑO 2013/Anual/Reunión anual Gerentes.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AA35-000A-48DF-A613-DF353505D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CCBA-87A6-4183-AEC1-24D1D4C8B80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1767-5283-4B2B-AEFF-46D24B863D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72D5-958E-4C9D-8662-6D54151B52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8755-C492-41CC-B9E5-B74968BA47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0B47-3411-47F9-8494-F390249DEB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614B-DCA3-4643-859B-454B20B49D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159F-C6C5-41E8-8D2C-F865F6C4C0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9AC5-2534-4CD7-B51B-94FD8312E9F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D684-7A7A-4617-BC27-14E9726CFF7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B071-E48F-4C5D-9D25-FAEAA4B2083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4F388-1F45-4CB4-A45D-BBC42CCAB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22B8-C452-4E31-B017-D89C3082AC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EB0A3-D183-4894-A1CC-10638DA7BF1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27B34-5565-4B45-983A-D4C7186B7F3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8A9EB-9706-41B3-AA63-AA8D7A302C5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4CCF3-F9D3-465D-9781-CB2FF1CBE12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573F0-5028-4F8E-9967-CEDF427007D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644E2-55DA-4465-9875-1E154A2A7B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9A1F1-23CF-43FF-8B63-6DBE12F1EE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7929B-919C-4B78-A8FD-1DD992AE2D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0CD48-DF9E-4758-AE88-BD1697C548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65D2D3-B546-4598-B48D-694298A95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B544-7B2E-4F99-AA96-DBE1741792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819A87-AE82-456E-BD61-4412595F08C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319E9-437D-45E6-8643-A3533A1E077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F959D-F6DD-4D9B-A167-E550C8EAE1E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0D63C-6252-421E-8926-6118B0C89E4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8556F-146C-4EF9-95A7-69F65A8DB39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45D1C-D658-4371-B0C3-5886740D42B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B1E72-63F1-4BB5-B952-C0B3FA64C6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DFD4F-7E32-40A0-AA47-F8E673E133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4AE39-8117-49E4-B8DC-D3214D4FCB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B0F31-2A3D-4AC4-8505-A7A49E954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D14D-6F2B-4F11-A92C-A1184A3B48E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2411E-7959-4937-8D39-FDC2301BC1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0D6D8-00E6-41EA-A199-8AB38B8C0B4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105D1-99FB-4BF2-8FC9-613EF78FB8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6483-9EBF-44AF-9800-C817D43595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B9A1-614F-4C94-85CC-29213EC7A17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8194-9791-43BA-8269-289FF307E6D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9357-29DE-4950-A972-0C55F5B905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2A47-6D09-40DF-8B38-3D254722F6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4580-D381-45B7-9392-B6CE2F63C3D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7F79-991F-4CB8-B5E0-C0F017FC41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8276-9BFD-4553-97BB-4D40CD39E6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B611-5E08-4EE9-943E-833A943A1A6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9309-FF4B-4A6C-9FF5-D692FD71EF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AED7-6FAA-4C66-AE24-381B4CB6792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5A35-8C7F-4D56-9423-3511C319DD1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A94B-CCC5-4CA9-8B34-EBE809865D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1629E-8A3C-402D-AFAD-C9F155FAAF8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CC075C-383C-4DF2-963A-6D9E376DEBB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D3BC9-31E7-444E-AB49-EA4850D182C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0FB610-0D80-4A4F-BFD6-CCD46A2EB70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E5ADAE-AB92-40F8-AB7E-27164106C7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1B5D-6CC1-4408-BE39-9E6DE0BC63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883E5B-3071-48E4-978D-569C4F97F77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935580-2919-4AF7-B4BC-207CC4BD681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EADA1E-3820-46B4-A846-EFF7B0F213C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9CD65-E3CF-44AF-8843-F5F25297F05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CF7C0-50C2-45F9-A35B-A2AD7E5CE38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15D16C-8DF5-48A3-A92F-B8ABD96AC61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528219-B964-42E6-9760-778CA35AF3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07E97-D98D-4EF8-B629-07089AB2D66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322B6-FCC2-4DD6-91F2-316A44C06D5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98890-0D67-4DCA-94BE-D181A2443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F15C-2F4B-45AC-8EAE-40D2ABEB5D2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0A10B-C3BF-4DC3-8F56-D7F88FBB33B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39550-23B2-49BE-8496-9BB7599F093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7B194-5372-4AD3-9280-DE14A1BAF22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44D5A-2208-4F99-A407-8AA18858145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DD653-79F3-42CE-B25B-D533346BEA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AED23-B4C5-4CBA-BD2F-3545D452DDC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B8874-B2B7-449E-B598-914A66C7614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8BE4F-B86A-4E1B-BC86-17BE781B5A1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091EC-2020-447E-B330-D40BBB7B79F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570EB-2A22-4E75-B5E0-539E69A90A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494F-2140-42B2-9192-5330ED82B54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DCC5-6345-456C-96A5-D91C3159CCA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5A0A9-C5AB-4F1D-B5F0-A780ADE9A8D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5ACD-A90E-49E6-9CCE-BD630F8ADA8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2E728-B074-4841-B6BA-E6756DAFD03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3389-9A67-4DB1-A113-08F44F05FD7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7922C-439D-4441-820B-7D359AE335F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FB7BE-05C0-45F0-86C7-D97F9F9607B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29EA-BF53-41E1-B959-CC03EDBF490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7419E-74CC-46DD-8B76-D42B809C27B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B3926-1E9D-40CC-9B44-739332DB8A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7A39-EFA3-42E8-A665-54187B65885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3CA37-9AE0-44E2-A206-29A8F68C08D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D8CE8-A644-4C4F-9A73-904AD01D590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36D56A-643B-43AC-9CDE-CA81EA6413D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6D32E-03F3-4149-9C80-8CCBA1D5E7D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5F862-7709-4D0D-9A3A-8558A4041D7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220E46-576A-49F1-9F71-6DD18C825B7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116AC5-BE2D-466C-BD34-A12249B6C6D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2C4A6-6C8E-477A-8CF6-58CABC5AEF5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EF679-C88B-4EC3-A27F-448A748003C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9A022-5AB5-44D9-9D9B-9DA2E2E6AF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5B17-BDC7-49F3-B94B-9C9B4DF821C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6A58C4-ED93-47EB-9283-62D169AB341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D008A0-AC86-4E44-8820-C9BB6D708CC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1F19C4-B75A-4CD6-B822-9E5C0A979CF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63B9C-F77F-4FE8-A215-9B9801A9F4F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C1D20-54CE-45DF-B2C7-21F1B093FEF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724F7-7786-44E2-8AC9-9393ED77303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F0BEE-02B1-47BB-B43A-880D03DCD01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097B8-1518-4DE7-9ACF-4A51A12C3A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58830-538A-451F-B17D-12AE017C7AD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9D95B-2ECE-492E-B2D6-B7F5F2F25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0558-275B-4117-BE6D-FE9A2BFF9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BD92-8E84-4A0E-AA78-C6406C2D27C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5863D-219F-485A-AB02-65E4354568A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79D6F-AE17-46E9-B7ED-889BC1277AE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CA4DF-F919-4189-937B-7DF2DD77A8F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E6741-1463-4CB6-A092-76CDA3D5F8B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DF3A2-E6DA-45BC-8937-7C638469851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39EFC-8418-4DF5-B98D-86E0DDDDB23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9142-7E65-4339-A962-A24588BECB6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F88B9-00C1-4372-A36B-BF6DC553CE3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682ED-2642-47C6-856D-9BC629DDF0E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27DB-A9BE-46EF-8BA7-1FB06F17A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577B-7B37-46C8-B016-D407539E092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DA1C1-6F87-4189-B0D5-11DE3D6208A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EDF7-2E69-4B2E-929A-281CF027880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AB1F-D9C9-417A-B793-6101A456674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C01CE-BFEB-45F8-8CA7-5E5E7CF4B21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CC10-C7DA-423F-A9EB-5EF8A9236C0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05C7B-0247-4BB3-BB6B-E1C7C53CFDE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1C4FE-4EC6-4D63-8883-EAF66AB26C2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CA6F6-9372-464E-BD14-D2A138DC4B4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08B689-3D53-4ECD-B424-061DD6E2500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F6F44B-43D0-41BF-9C7E-9F07C22543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1EDF-3E00-418B-B62A-F5135E6D2D6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CA2EA6-F8D3-478D-B1B9-7BE0D088F70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A90D1-8867-4FA7-9128-6D6A6E61D30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F3EB37-00C2-41FE-B5A1-106A44B2B19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9E688-0F63-416C-93D6-D0664322A1B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E20086-40C5-4B0D-98D5-88BF4E68EB5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210CA5-F6E4-41D4-B8EB-C59CC4BD2C4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199D9-02C2-4998-86A9-A56A36F90F4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D0EEB5-4F45-4EFE-A4F6-0F2050DF74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D22CC5-F292-4BE7-B6E2-9B03ADC0198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BDC26-C6B9-4996-BDF1-29F489463F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0931-79E1-46DD-B2EF-1D2D937C268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7C533-C727-445F-B434-A60FBB8BE4E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17598-AEE5-4401-AEB6-90FB408EDA7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93836-C54F-47B2-AE9A-7EDD44D25EB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09B1B-C7F7-4FCB-8E48-E7E2D5FA8AD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D65E9-9ABA-4AE8-9DA5-596C4762463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A2C1C-99FD-42AD-8655-94DF9D9F2AA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05BDE-BAB5-491B-8104-8D00B149DCA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50033-B0C7-46E4-98D0-356B9166D49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06C0B-1BCA-4741-9E94-33921C0F120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D80EB-8AF6-4DA4-A0C4-7CC3B75E2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7030-5054-4118-963C-A4E8004E2A7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D3C9A7-BE34-467E-840E-AAA86754BD0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AC9AE-000D-489E-9084-A95400A529A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89F03-8ABC-42F0-A113-9A070F8FE34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0B63F-09CE-437F-8C4E-E6A8C0B6E41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19761-76EC-440E-9CFD-ABF4D357EF6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D1601-7B9E-487E-AC20-5D08D0FC3B6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59F85-CA05-4434-B812-13FFF9FFEBB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04033-61E7-499C-9673-FE4CB6B3620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966A-AF02-4B7B-8028-9A3CD239AFA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AF290-B1D1-4664-A9C6-0DBBFD8147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A36-6B79-43EE-811F-C9487229BA2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C3F6-29F8-4C18-AEEE-6D1961BE8B4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6596E-2E87-47A8-B0AF-9E4A7789149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9884-8A24-4869-9AEE-3B2287239F5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9B524A-46D2-406C-AA43-51EB657348F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311EFD-1617-4B2B-B1E9-9B1CE5E2057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8A5FD-B709-4FEA-91B9-2D12A481D96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1B6812-8663-4806-9E6E-808CF333FC3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0A8ED-5B22-48F7-8B89-6F52261A70F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6DBC29-5E36-471C-B6E3-142B8E3CB79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1B71D3-E3D2-4B2D-8623-04D926293E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A44-AA77-44FB-BF32-61FEE494F5B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4967B-151E-48DC-AD3B-B09479321C9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A13FCF-01B6-497C-BC13-07446020C12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0D0AAA-F845-48C5-A97E-B4488CEA86D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58107D-50A2-4429-973D-691C2C36F3F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33C7D4-2E5A-420E-B8D2-219520B71EB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A00367-3688-49B8-A70E-D6DEFF25710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AC6DE-2CA0-44CA-A4C8-491C75A6B7F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C984BC-BD10-4E8F-8AE3-0F0E2359730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1C018-CEBD-4848-B1FF-83D092F53D5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72F29-0EB6-4703-94E9-2A4EF5ED73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823-A095-4B5B-9ECD-B63348290FA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632F2-462E-4ADF-8BFB-5169DF850E9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23146-3498-447A-A5D1-1B635D942D5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55611F-1540-4942-9836-37B8AB6B78E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806D94-EEEF-42F4-BE7F-D94F3823A17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4F3581-04AE-4FE5-A72C-BF8E504CCA4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A25995-4CE0-4FA1-817F-1BA833AAFDF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C6F51-5C2F-4AC7-AF86-2BFD4E79734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428B7-D1DE-4B7A-B1C5-FEAA857412B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22E76-31D9-402C-BC2D-95F5AD3209C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9852C-ED86-4C9E-AB24-8EC03F77AA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468-071C-4BEA-9810-8940C9785AF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6A2F-D772-43AD-868A-9CA513A406D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58E76-7CCC-45C6-8936-2451B7CE96E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D61E2-038E-4DB4-BBB6-AAB2E9C7AAE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9693-3D14-4D94-906E-19754548969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8B19-4FCD-4EDD-BE5C-665402289A6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326D4-B03F-4666-9F6B-3BBB23CAAE1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26854-4890-4016-A268-131783F943B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3D55B-40C6-4BE1-88FF-036A44A2EC4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DEED4-2F94-45B0-ABBE-9790840E046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1CA50-C72D-4837-8BB6-4122E7D869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40E-0628-475A-B1E9-49DB7D36B09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50A24-456E-4F9A-B493-2EADD8483FB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FE789-4506-4051-8639-E398B21606B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41B66-8F6D-4615-9B13-8C19B4FFE8A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7F520-F1AA-4218-BF22-05953BEE113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1573D-9916-4A07-B4A1-B4E661F90C7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2B345-8FF6-4E65-B00C-C434B14C385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7B87B-01F1-4D29-BDBD-76288FEE17C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EAA81-B0EA-4ADB-8CCD-1824D05F9D9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CA3EF-15D3-43C8-8B1A-1FBFA86126E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3C34A-D742-458A-89F9-AAB4A8457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9FC1-A09C-4C22-8552-88B437BD54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8F0-A218-4248-B6DE-C1FF234D6D3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920C1-117E-4E57-B170-0217207DBE1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A90919-D79D-4C23-AC86-5FEAFF658E2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A1186-868B-4C71-B232-E0EE383E623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108CA-1742-4033-999D-5ABAD75861E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E69C0B-A577-43DA-B10A-486548A60D4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0EB62F-26CB-403D-800B-114592380D7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F3691D-10DE-4E30-BD4F-89ED1C32AA7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B93959-BE30-4313-A524-E53B53055BB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139D2-311D-429C-9543-97FBA02E785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4771AB-0C96-45DC-A2C5-259EA9A289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12C-D813-4F74-B683-E3FD928E0F9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4E5613-E7D5-4F2D-AC18-97B61DCDBA1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81DC29-EECC-4C76-9651-1910427F234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F4EE42-C53D-489C-8A02-E050A836D23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787F3-B0B0-459F-B6BB-8E5EFE5E3F7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7F8B8-EC07-4AE0-9CD4-8CE6DB54719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17CA3-52E4-403C-BAC6-822C37CEEE8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FDF7B-D544-487E-A89A-673201E4F00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C55BA-90CA-4600-95D5-361C3286F8A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34D16-E506-4C08-A349-7A88843436B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76FBF-C53E-4CFB-8E89-C9FC9C69B0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0E1-938A-497C-9B99-F558B04986B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2849F-797F-43BF-805E-5C97897801E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CDDF4-5718-461D-B2C5-CAD614C2CF0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1B973-FAB5-4A27-B81E-74AEBEB85AA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630A3-CBBD-4D42-BD74-704C0798702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F59EA-72CA-4B47-9CE7-8B62022CCB1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D185C-CFA0-4EED-A98B-F8ED1395872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F46F6-C596-4246-8CF5-9C36DFF06BA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79F68-08E7-4A8E-8B6B-168BE5512E48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F1AEE-37B2-4B11-9768-1AEA9784E163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8079C-C4C9-4CD9-83BB-3858C0C9F1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2D4-FE1E-4A9D-8571-6DA953C5653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BC7E9-8F72-4F10-99E1-6232B6754AE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1A0B8-B554-4D0A-8EC1-3C570F3A3E0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35AC1-CC06-4A08-A7F1-85DBA11E759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D4D9B-2D15-44BF-B4CF-12E563FADD98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0F70D-0AC3-4257-8361-76ABD140506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4F473-FB48-4284-AA06-9BFC4DCED6B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6ED0F-6D64-44AA-97BF-4CB9FB413A51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EC8162-F8FC-4852-BB02-E7C7E916D692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4C253F-F3F5-459F-9F91-9FB26D19050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BE5EA9-CBDD-4C7F-9229-48C290F558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DAB-6164-4FBE-AA66-A933F321ED8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507AE9-E511-4A0C-B913-E86F2CCE8E1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112364-9827-46C5-A0F6-C22AD584CBB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C81C0-D6B4-4DF5-8FC2-5E41E61A6A7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342895-F30D-498C-955A-B56FA3C21A3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E8B792-2A45-4752-9EDC-FA26B221F06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5E1A1-E080-4ED1-B899-1ED08DA24231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8F4D86-4AB2-4883-AFE8-A442652B373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DA4D9A-3D01-428C-A189-3A5DB871A06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8F0F23-B25B-4BD7-ADBE-19BEA725C317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73E9E-137D-48DD-BE43-21FED5A902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973-B2D7-43BC-8394-CC4DFB4DB91F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9B2B5-4622-4720-969C-9B06A058D3D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0A543-C88F-4D45-BBF8-5A42E8CB5FC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99608-9077-4C99-90A9-79A26E200F18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0F28A-A9B2-4DD0-B6D7-1C870C4CBB0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BE99C-07C8-41E0-BBC0-FEB7D9AFD35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4E15C-E41F-4DEF-86CB-2B96E351D6B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75A15-8AA6-48F9-A00D-7CE6651B148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AE9A0-A8C1-456F-AE93-9B571196118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78C1F-6084-4080-83CE-45FE4A98284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F1261-68FD-40DF-B9C4-47B036FC0D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AF0-EC7A-4AC8-BEAC-70A942763F7E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84DAC-4578-43F6-9530-B8B10C036AC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C10FFE-2F4D-4B59-B6A6-E4C8A9655FB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92C074-2390-4883-80A5-04B0D71587E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ED0DE6-3A82-418E-99D8-DD330572677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F84815-E88C-4DD9-9EEC-F6E8FCA10D4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17C30C-1FB3-4CAB-AF92-3C6F76A6CB18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6E9EB4-1BC1-496A-8C36-5E86A8C18E19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6AA9E6-5835-45E1-802C-A20D9650895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7FBDE6-6086-4983-960E-1EC5A6EAD2D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9C88D7-5B05-4990-A109-B2940B10F0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A6ABF-02C6-4D15-A8E0-6E686391EE5A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DA89DE-7257-4C7A-9DC2-BA902C2ECDF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E75E26-0222-43FE-B5A8-479715CC387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441F98-BB16-483A-A57E-E1152EDE66A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C9AFE8-C19C-4A66-B3A3-3651C5CE9E2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64A3A3-A29D-4B75-947E-1AE3DBD1C2E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801535-6699-4629-B3DA-2EB6A4343B61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38DBFF-3F48-4C82-8D6E-7C01282E3DB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DCBBB4-899E-4589-A0E0-EB00EF01D4C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21A5DB-34EC-4344-966A-ABD5EF6772E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4AA452-4439-46CF-B6ED-EF135077B6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E0AF2-9612-4D3D-B46D-DD644B7E5077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86FF5D-4BB6-417E-AC63-93715C0CB4F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557BCA-24A8-40D2-B197-8C48239A27C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BB5BD2-F1BA-4BFD-A738-01BE41F9F891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1571F0-A0B1-4FD5-A9DC-CEBEB9A2613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14F6B6-233C-4D94-A506-833E92D9344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0AF99-46B7-4883-AF23-FF5D3E5131F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DFDE0-4F6F-46F5-B1C2-1EB19A82D53E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0AA89-47A6-49A0-8F3E-7C5F84E85D37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9B53C-A7ED-4B57-A24F-BE4800D4AFA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473D2-5C87-45F2-956E-B775F2F973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6B941-F536-4DC9-B659-997A6D834794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18A33-5376-4D5C-9F71-0A24F2BFE92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8AE03-538D-4BD9-8184-6568DED8357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FAB5A-A8EC-4545-8F6F-C0335925112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EFEEB-A747-4C08-824D-7CB0F838BD0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12BE1-02F7-4D0D-A9C4-25BE70DFB2E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ED87C-5BDE-4C4A-AFD6-1DB923907335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8C8FC-64A8-498E-8ACE-7E259A556E8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FA334-BF03-4436-AFF3-5962CF1FAC5C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F9DBD-EB34-41F9-B98F-5769C3FCC61B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38831-9073-444F-82D9-728CDF483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6FB2-661F-4634-A23E-9CE609C823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ECE17-5196-4F71-942C-AB215ACA17F3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3C9DB-1779-48FE-AF4E-4D4D2703517B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6F857-22B2-4AFE-8744-5CCD8244442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BB356-AD27-456C-A792-51012B88382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07EB6-A3AE-45B3-AC18-C978A8FC534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3869A-F8B0-4D20-B280-77D9FC90EBCE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F8679-65C6-4F34-8EE1-4F82F42D382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ED47A-6672-4803-96ED-39EB58B09F8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FEAA7-B80E-406B-9FF1-CE7D3D133C91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F519C-D810-46E0-A592-AC2CB3130CD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6553FB-1EA6-449B-91DD-0F1C2AC3EF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E4DD3-E958-46AC-98D5-93F4B71DADBD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16BBCB-BBBC-4B23-BFEF-4D6596DC102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1048E6-AC5D-40C8-88D1-1C19166E10B3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A0BB37-F164-4F4F-BFB6-3588F745A01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A15706-07F8-4E8A-97D7-DF9C362618E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4C625E-ECAA-4026-A743-73C07CBDAE6C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ACA551-BB87-43AD-9061-6120A9657F68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39676D-3B85-452C-9DAF-C818A9DE2E47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150DEF-915F-4E8D-8E87-3539F747B844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9E69C1-A042-4206-B4A4-1C6CA1BB4B7E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76E4DA-990F-4822-8B7A-FFDC64273D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6BD3A-6FB3-4EFB-A24F-17CE3A05663A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FFEA71-D810-4B55-8B69-61D39EF7982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C7E67-C6A3-491B-B20D-47FB58104B85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C3848-3E6F-4527-960E-86CDE2C3B5D6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3CE36-FE16-4864-B300-438CC255DE3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33813-38A4-4985-856A-F06E88DA8EEA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8907D-A4FB-4474-A144-D9A9637C33B2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DFF45-6E09-4DD1-ABA4-7BFC343696DF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F868F-69A8-43D7-AD3A-A5960CA4BD6C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8C9E9-E8FE-4BCB-9E0C-BF94750482D0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7A750-76F6-46C4-931D-6E53247C4B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AA122-4EEF-4D12-8F3F-C51C5B28AD81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C02A5-0A1B-43FE-BD25-633CD7F07E8F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79B67-F91A-4FB1-B2F9-FB0451508A34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83B4F-F2D5-46C7-8F61-C3944DA3A79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B3FAA3-4AA4-4EF3-A7A2-EAB8A003FDE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5A96AC-C77F-41FD-A438-CBD042C5003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5E127B-9BF7-4CF1-BE3B-FCCF96BACBD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0DBE37-CD0F-4939-A98A-DD831DD5F11D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92E9D9-55F4-4121-876F-EA0CD915939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935AB8-F1B0-41A6-ADD2-1C400EF88D9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9000FF-BF30-4CD0-ABC9-240CF50606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B9A62-5016-41A9-AC75-9A6A8DE036C9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6B1A99-92CC-4DC0-848C-7B3778714D9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36D962-71AA-4624-AFA0-12D8906A9306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AF90E6-4118-449E-940C-A4F2D23F5EB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DFDBFA-2E22-4F10-9767-A286849796F8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2A6F45-9C54-4FD5-A364-C43BA55ED4DA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06F2E5-098A-484B-A0CC-C30E025C79A8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DDEC56-9BE6-4B1B-AA27-14886E0B4959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CDBDDA-2091-41AB-B757-50353ED2707A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AA4B8E-D029-4EB7-9DAB-3E23DBD216A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D98DED-2E01-49C2-A1C9-F3AD648979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68A45-EE67-4F9D-8B05-DA56DBB545EF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E3A566-FFF3-4348-8629-735C78C9E357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184011-224F-421B-A464-E072821968A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4CFDEA-4653-4060-8455-232E6FECB32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E0B06D-F4ED-466E-A648-7791EF81FF4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D466F1-6778-4BA2-A6F6-45360F529CA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93DD34-CE58-4DF1-8E66-E076816F222A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3AB122-8309-4D89-B970-DC905D7E5B8A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F2925-7E26-4AA8-A495-7CC4034AA081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204BF-6454-4E95-8A49-9D132C2F0AD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12FDD-1B53-4982-9223-6B4D0264CD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14FBB-F928-49EF-9752-08AB2953CF66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E876F-62AE-4794-8484-46AB5501765D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89A53-853F-4CBD-98C6-F6E68629560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5A287-5544-4FC5-9C03-440CE30AC73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F4381-F428-48D0-A7C7-D50B9D67ED87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66C0B-23A2-4B3E-A00A-ED85EEB11154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5A886-66B2-41D5-B04D-491DAA55E0F9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32245-667A-4292-8A16-E3957CDF0991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0D5F6-56D3-48E8-A03A-F2FC295F4023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77EEF-B0AF-4A99-B8FB-46941D631A76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CBCF0D-88DF-43F0-ACC8-1EB50A79A9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F2448-918C-4244-B9F1-A5EBDF78779C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571E34-0685-4987-9B7B-4ABD88F55D80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C32313-53BB-4CE1-9C1A-BF8DF94F67E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334DE5-AA87-4EF7-B2B9-C847FC60B8D3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DF3342-DF87-4DC5-8081-FDE71509BAF0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8F2584-5DD6-4151-A205-1D2D6ECD2817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6FB83B-9DA5-4B11-8247-FDF17672B026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411C58-4C4F-415C-8473-383643B2F6A3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237428-6D51-4569-AAFB-F8CB273C68F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BFC88B-9C48-48D1-BAFF-7FAB0BFF0A24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4FCC18-E711-45CA-A186-7377011C6F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20B6E-F775-42C3-AADA-F80289A314AF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06EE00-C0FE-46CA-8782-47591DF6C16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567E2E-EBC9-43E4-AA23-6DE1A4E1C67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B33EB0-7A19-440A-A6A8-EFE9D42CF2D7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B4154C-D299-4177-8913-88A03E6E272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462EE0-7F60-4A1F-B31B-E08517036E08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AF9121-355C-4E00-897D-2D9EEB6A7AA7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F29405-331B-4B5F-AE71-5CB87E022F3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E10A12-FEE9-4F91-A4DB-92EA3B2AEA34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51FF20-5CB7-496B-86D3-FFFAA44C3225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E7155D-9754-4B13-8DE7-EAB521ABBEC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1EB2-9176-412D-B5F4-65398BBA6AE3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5EC0AB-6BF7-4204-A6E2-918E72AE3756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81D6C1-DA9C-4296-9873-BF5A0FDE04B6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4D5AA4-73E9-4AE0-B90C-7136E75028AE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F841E-3C91-40A9-B790-48257F4DA14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6593D-8D12-4CEA-8DFE-E49106613D1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B3FB7-1FEC-4AB8-B7A5-EFE2C056864A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D6536-A899-4885-8D92-D506B6A5A04F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88B26-4773-4D9E-8C8E-FD57A89207B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B5886-9A19-4700-ABED-13D41D71B59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B527B-B2B7-4358-A24E-3BD691C38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1A5A-AD8E-4872-962D-77CF999E1E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BD3B1-F044-4F87-BFBF-A14E011B2A0E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68B95-E565-435A-9A5A-0001686B0FF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BA3E4-5097-4885-A080-D6F0AC9E64A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8F25C-6CA7-46EB-B5AD-13407B0ABFEC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5D61D-ED10-49FF-9443-3CDD2C71F42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63EDE-DB96-4CB9-ACBC-A5517054C05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F519F7-0B7D-4245-812A-606D2DD1205A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908AF1-CE02-4C30-92D6-F8F164917A7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CE33E5-1482-4791-8536-F396073210C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3E3082-29CB-4B1C-BAD6-BE543243D0A7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06DD80-F048-4F19-B917-CBF1E8DD81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DB577-F9E7-47AB-B997-68958A2F8FE6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7ADF98-234B-4BC0-8EE5-BBEAC5288984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FD3903-0C43-4B64-A9E6-1CE95BF95ED5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5CA9D1-7815-4A10-A111-250C8E97C829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C77451-9294-48BF-94B8-419399208644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627C54-EDCB-4760-B6B0-550EF90985E1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331B72-1FBA-4E1A-90E6-B80543EE8861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4AE8F0-7602-4B5D-B3D8-83DCD208C3C0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C05CA9-234E-41C1-AE1B-1ED1C630B6CD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BC2C6C-7DAA-4874-B5E2-90D0EFB83B2C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EB2221-F1A6-4837-868A-CEA078088A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55AA9-2521-44EB-816D-A3D5BC054084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096A4F-B1EF-47BD-9A74-790E0D293059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BD442B-7E52-43CD-A70D-619E47A2006A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57CAA7-1F15-4D7A-B201-1098F6EFD92C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9479EA-3047-489A-A966-B5886483D35B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748878-8E16-4283-941A-7FB6553B27BC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A5F8E1-CB34-4FE9-92FB-5A00DCC970D1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CC0482-5D02-445D-B48E-9AD2A0EAB319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FC934E-4FF4-4464-9CF0-354E1794B3AF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B89FEE-346F-4C2F-8016-5F8944A1976D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BB8B8-29AC-4198-86AC-3A3E96D6FB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B8CF5-4367-4017-A052-1D39C7B94847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DF558-25C3-4E14-918B-77B58BD1A758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801D9-3352-41A8-B3C3-8F6AED6ECFBC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A2070-5353-488B-9459-3E008C129E6A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264FC-E848-45E6-9525-E2550104C40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6DB7D-4A62-4DA9-B89F-B9BF2BD4DF22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8A560-E8D2-449E-83ED-10F9A592CF2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AEC72-66B4-4125-BC36-58AB7C2CD4B2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F6F0F-EF8E-450F-8CB5-430486CB7D3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C9696-1861-40E7-B75D-674A35384334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56239-4272-4DD8-9BA9-D85CB38C29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3CB6A-FFC0-41E5-A7E5-0B4EA091FE03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817C5-8F4E-478A-AAF6-65ADB73C2C71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C287DE-80AA-4EDA-B9A5-6E320BADB9D5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FC3AF4-595A-4F31-B3FF-A0891ADD0CCC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527CC1-80A1-4E98-9D5F-09119589D99B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52DA0F-62AB-4F31-BD8E-9C970613E8F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43B296-4892-4A06-8E79-2F77582463D4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063F07-A0DC-4226-97CD-0A998A01E403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BE2F2E-81AF-45CA-8E83-9F1B7BBE238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9EAB4F-0782-4B9C-89DD-BCF822F4371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47EA84-DA91-4ADE-883E-D55DDC4DEB5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D92E7-F690-43D3-B262-D2D2C8E421B6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E35F3F-5ECE-46C7-BE45-CAD189E9168D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7E1A1D-F3A5-4DC7-8985-EC6A2804BE8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7310B8-8BA4-4431-94FD-4F653E839D60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23ABE5-A08C-4D5E-A8B0-01A4C34B66A8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7FD0AE-9274-49C7-816D-17ABC55F9D10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28504C-4A6D-408A-8B10-5C7321DADB31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1BFF48-616B-485E-AF38-EBE202AA26BF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97AE39-3154-4278-B8B3-B18CE529B317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45FFF3-DBA1-4E3C-9642-980612BEA2A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40B2B2-8756-429A-B453-A819F6D9F8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6CCE9-B0A7-4D26-9693-51B99A6E38C3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7E7C16-D471-4E01-BAB8-6ED81D9205B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C8CFFA-6FE4-4836-BB50-2D376456FFB2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A385F4-C11E-4FEE-9D7E-2255CEDF010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F4A237-34A7-400F-B6C2-2F6BD374BB3A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37B182-0318-46E7-9072-D0FCED6BFED7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009C9-E1E1-4267-954B-5047AB4B25CB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13692-EF38-47CB-9769-C2107D6A7C66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DAD91-48B1-405A-900F-FFD03AFE71E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699A8-B619-403A-8CB8-45BE1B25B99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A0824-B966-4C36-AA53-B6471EFD88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71856-2B7F-4FB7-BAD8-22DB743AD670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854A8-D7AE-474E-989C-653FF42E19A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A28AD-FC40-4FCE-BB44-EF2E2FD4BB9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A222C-4249-4440-869F-444573CB72D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C8CEA-519D-424B-A3A7-D1D0C31E8A11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33DB8-6640-4DE9-9FE2-C73A12501FB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6102B-E9D6-4C8D-A0E9-5690CF2A31B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3AA70-B639-4C2C-9C7F-927F5FC132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E6FD3-BC7A-4217-A392-4310307A7B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901A9-6BBE-469A-B935-569C34A11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36BF-B2D2-4460-AAD7-BF2FBA65A34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D6B19-8822-4C20-8177-0C72DE723AE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8B50-C004-4253-9760-823768FC7C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28B5-040F-4BF9-9A51-1CCE4264C4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A929-3803-4F87-91A5-4CD183A16B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F837-6C2D-4334-B631-82C713B7CCE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D07-D11F-4A29-8D95-DA853B23B7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A9F1-5F60-4B84-8CD8-6369A0D5E3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9471-8EBD-45E2-A44C-4652CD4142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3E6-D39B-4E26-9214-D6C7F5A771E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B2B3-DF98-40DD-AFA9-E2E3ED80F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1D17-B405-4B6A-BAE7-E12E8D8FA07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15B0-53EE-42FC-8540-03F14F1A46D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D24F-C17D-49A8-B4A1-0F080C9D5B6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122-8636-4DC7-9BE3-AA4AFFAFBB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B21AB-98F9-48FE-A252-9942FEA068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0A5DC-AAC3-4566-BC9C-DA6274D790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6FAAB-FC48-4249-94A2-CE28E52CE4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67ACA-1068-4F14-AFB8-93A50960B7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4BCA8-4179-454B-BD64-EF4DF5A1605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0F28C-2016-4664-AEE4-D65C4E151A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A9506-9432-4D8E-8B31-41307FDBC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E41F-B8AA-4C74-904B-11F0DAE7CD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5902E-4018-4380-9B31-7024AEB118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D45CE-1EB7-4A89-8247-FCF4EF7867A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CE296-84A8-40CF-81C6-DD7C780569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87329-DA80-4F0C-BA4C-19DA5793B7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69A63C-5D14-4D76-B143-8E9B94BF1D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28635-41A4-4A6D-A1B4-FA238543D50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EC311-30E9-4557-AACE-C20D5DADEC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F89FB-719D-49BB-AC34-603E4D4E5D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30293-C880-4F55-9DF3-DB89A30A18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A01E8-52B0-4606-B8B1-39466CCBE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E503-81CF-4ED7-8568-31C2C4DCD06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95AE8-4675-47AF-BEE9-67D98E3B4B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024F5-91A5-4540-8554-A0B3E86D1BA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08F0F-B97F-4CAF-8BAA-47EC56C701A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1CB42-EB94-4FDC-AE5C-CC3BCA5866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4BE02-0FEE-4D6E-8019-A3387B6DC3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BA2BF-7DA4-4DE8-B303-906655BF00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89A97-DA21-4409-A821-3193F2968C7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1120-F21C-4FD6-B824-E094154ADC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9387-CD7D-4E9F-B9AF-739884C558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0E55-2541-4C0E-B2E4-6EA13B9EB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CBC4-CF76-4A63-A2A8-7C9A566C89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844E-4500-4D43-8C14-5FC9191D61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3C43-B206-4D37-924F-4C45EEEE16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9223-7F21-44C0-9BD0-CA437E1F92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64A9-9649-4D80-8C13-B80A5C8EB6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0D8B-DB15-401F-9BCB-27940939EB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CB88-3291-4D27-960F-F918B10128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225C-AD6D-4249-A319-5829C05E0A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D31-45EB-4920-AB48-D6255E437A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FD66-3440-4DCA-9E1F-36B63DF9D9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8B20-8185-4E20-A5DF-48F3766C75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5863-E341-4A43-9EB3-ED675F7AF7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D781-B62C-44C2-9A32-3F698C9FA4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E85D-8CAF-469A-89CD-2CAC393030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B306-C3FB-4FF9-8B93-41829C0792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D103-B660-4BA5-A83D-7F3818195D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5A34-AD16-4900-8226-808C86EC49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6A7F-1BD4-48E4-9F1F-7F17A5E67D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0294-EB6C-4FDD-A7D4-71169F3301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84A5-F795-425B-BD9B-CEECBFC46F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F630-F671-4B94-B2F8-AB7EE06FF1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1462-0409-42CC-8B23-D073FFF044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8AFE-D592-4E2E-86D3-5968E58D41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2AC2-5343-4BFA-AB8C-99BBA19C83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16A1-F654-4E1F-B43E-348509500C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2735-3BBE-4A13-B6BE-8EBCB4B01A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B1AC-D0CA-4D85-9BF9-C9D116DC76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1B9B-4DFB-4347-9237-26D622DBE5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D1C-9D8F-4B57-90C5-785F9F8084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FCF6-44B1-43CD-8AE4-8939DD9893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D9A0-1096-42EA-BFCD-CC5DE63F4E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6029-36AE-4446-AB9A-442DEAA032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FDCF-661F-44D7-A555-7413D26DB6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4E26-9B30-4E5C-8F00-56AC31085F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324-2E1A-42B5-9017-AF3F12741C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D793-E0CF-4DD4-828C-4FCEA8D087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B87-D391-4CDF-93BE-9EDC1F7B45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4297-DDB0-41C8-B507-D529BC1187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8804-9F5C-4D16-94AC-1D76610CF8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B40F-020E-48BA-9740-0F9E16DD86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8B16-65FF-42D0-87A5-EF27DFEE65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E41C-EC2B-4723-B712-787D356BF9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75EA-3FCA-42F8-A6E3-A00B4CD220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9DEF-08FA-46F1-BDF8-30FFAC4C22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6B9F-A7C9-4BBD-841C-69AD3C91F5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48D1-B8C9-4C27-903E-437ED33C73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8C3F-75E8-4BC9-9762-4E9572B3F0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0874-FD5A-4600-AB0F-0C9D0B0622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65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AutoShape 3098"/>
          <p:cNvSpPr/>
          <p:nvPr/>
        </p:nvSpPr>
        <p:spPr>
          <a:xfrm>
            <a:off x="3073320" y="4165560"/>
            <a:ext cx="140832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AutoShape 3100"/>
          <p:cNvSpPr/>
          <p:nvPr/>
        </p:nvSpPr>
        <p:spPr>
          <a:xfrm>
            <a:off x="5186520" y="2508120"/>
            <a:ext cx="140796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AutoShape 3099"/>
          <p:cNvSpPr/>
          <p:nvPr/>
        </p:nvSpPr>
        <p:spPr>
          <a:xfrm>
            <a:off x="4738680" y="4165560"/>
            <a:ext cx="140796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AutoShape 3097"/>
          <p:cNvSpPr/>
          <p:nvPr/>
        </p:nvSpPr>
        <p:spPr>
          <a:xfrm>
            <a:off x="3841920" y="1573200"/>
            <a:ext cx="140940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Rectangle 3077"/>
          <p:cNvSpPr/>
          <p:nvPr/>
        </p:nvSpPr>
        <p:spPr>
          <a:xfrm>
            <a:off x="-50760" y="739800"/>
            <a:ext cx="93139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estar informados de cual es el EAC/EFC de los 5 Compon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8994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Misión de esta cha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3090"/>
          <p:cNvSpPr/>
          <p:nvPr/>
        </p:nvSpPr>
        <p:spPr>
          <a:xfrm>
            <a:off x="3587760" y="1933560"/>
            <a:ext cx="191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Je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Rectangle 3092"/>
          <p:cNvSpPr/>
          <p:nvPr/>
        </p:nvSpPr>
        <p:spPr>
          <a:xfrm>
            <a:off x="4930920" y="2941560"/>
            <a:ext cx="192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rabajad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Rectangle 3093"/>
          <p:cNvSpPr/>
          <p:nvPr/>
        </p:nvSpPr>
        <p:spPr>
          <a:xfrm>
            <a:off x="4481640" y="4527720"/>
            <a:ext cx="1920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Rectangle 3094"/>
          <p:cNvSpPr/>
          <p:nvPr/>
        </p:nvSpPr>
        <p:spPr>
          <a:xfrm>
            <a:off x="2817720" y="4527720"/>
            <a:ext cx="1920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AutoShape 3096"/>
          <p:cNvSpPr/>
          <p:nvPr/>
        </p:nvSpPr>
        <p:spPr>
          <a:xfrm>
            <a:off x="2496960" y="2581200"/>
            <a:ext cx="140832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Rectangle 3095"/>
          <p:cNvSpPr/>
          <p:nvPr/>
        </p:nvSpPr>
        <p:spPr>
          <a:xfrm>
            <a:off x="2241720" y="3013200"/>
            <a:ext cx="1920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Rectangle 3077"/>
          <p:cNvSpPr/>
          <p:nvPr/>
        </p:nvSpPr>
        <p:spPr>
          <a:xfrm>
            <a:off x="351000" y="5780160"/>
            <a:ext cx="84121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que formamos Mercad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10"/>
          <p:cNvSpPr/>
          <p:nvPr/>
        </p:nvSpPr>
        <p:spPr>
          <a:xfrm>
            <a:off x="73080" y="84240"/>
            <a:ext cx="8683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ompetencias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(en kilitr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Text Box 5"/>
          <p:cNvSpPr/>
          <p:nvPr/>
        </p:nvSpPr>
        <p:spPr>
          <a:xfrm>
            <a:off x="147600" y="858960"/>
            <a:ext cx="33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OTAL Merc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Text Box 6"/>
          <p:cNvSpPr/>
          <p:nvPr/>
        </p:nvSpPr>
        <p:spPr>
          <a:xfrm>
            <a:off x="6864480" y="8841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Text Box 9"/>
          <p:cNvSpPr/>
          <p:nvPr/>
        </p:nvSpPr>
        <p:spPr>
          <a:xfrm>
            <a:off x="3622680" y="88884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ecede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1 Flecha derecha"/>
          <p:cNvSpPr/>
          <p:nvPr/>
        </p:nvSpPr>
        <p:spPr>
          <a:xfrm>
            <a:off x="2743200" y="3710160"/>
            <a:ext cx="1036800" cy="922320"/>
          </a:xfrm>
          <a:prstGeom prst="rightArrow">
            <a:avLst>
              <a:gd name="adj1" fmla="val 50000"/>
              <a:gd name="adj2" fmla="val 65272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7" name="Picture 14" descr=""/>
          <p:cNvPicPr/>
          <p:nvPr/>
        </p:nvPicPr>
        <p:blipFill>
          <a:blip r:embed="rId1"/>
          <a:stretch/>
        </p:blipFill>
        <p:spPr>
          <a:xfrm>
            <a:off x="731880" y="1359000"/>
            <a:ext cx="1857240" cy="547668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15" descr=""/>
          <p:cNvPicPr/>
          <p:nvPr/>
        </p:nvPicPr>
        <p:blipFill>
          <a:blip r:embed="rId2"/>
          <a:stretch/>
        </p:blipFill>
        <p:spPr>
          <a:xfrm>
            <a:off x="3863880" y="1306440"/>
            <a:ext cx="1819440" cy="548640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16" descr=""/>
          <p:cNvPicPr/>
          <p:nvPr/>
        </p:nvPicPr>
        <p:blipFill>
          <a:blip r:embed="rId3"/>
          <a:stretch/>
        </p:blipFill>
        <p:spPr>
          <a:xfrm>
            <a:off x="6556320" y="1271520"/>
            <a:ext cx="1866960" cy="5486400"/>
          </a:xfrm>
          <a:prstGeom prst="rect">
            <a:avLst/>
          </a:prstGeom>
          <a:ln w="0">
            <a:noFill/>
          </a:ln>
        </p:spPr>
      </p:pic>
      <p:sp>
        <p:nvSpPr>
          <p:cNvPr id="1900" name="1 Flecha abajo"/>
          <p:cNvSpPr/>
          <p:nvPr/>
        </p:nvSpPr>
        <p:spPr>
          <a:xfrm rot="10800000">
            <a:off x="367920" y="3795840"/>
            <a:ext cx="260280" cy="312480"/>
          </a:xfrm>
          <a:prstGeom prst="downArrow">
            <a:avLst>
              <a:gd name="adj1" fmla="val 43593"/>
              <a:gd name="adj2" fmla="val 8495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13 Flecha abajo"/>
          <p:cNvSpPr/>
          <p:nvPr/>
        </p:nvSpPr>
        <p:spPr>
          <a:xfrm rot="10800000">
            <a:off x="329760" y="1983960"/>
            <a:ext cx="336600" cy="484200"/>
          </a:xfrm>
          <a:prstGeom prst="downArrow">
            <a:avLst>
              <a:gd name="adj1" fmla="val 43593"/>
              <a:gd name="adj2" fmla="val 84925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1 CuadroTexto"/>
          <p:cNvSpPr/>
          <p:nvPr/>
        </p:nvSpPr>
        <p:spPr>
          <a:xfrm>
            <a:off x="348120" y="525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1 Flecha abajo"/>
          <p:cNvSpPr/>
          <p:nvPr/>
        </p:nvSpPr>
        <p:spPr>
          <a:xfrm>
            <a:off x="336600" y="3017880"/>
            <a:ext cx="296640" cy="379440"/>
          </a:xfrm>
          <a:prstGeom prst="downArrow">
            <a:avLst>
              <a:gd name="adj1" fmla="val 43593"/>
              <a:gd name="adj2" fmla="val 851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1 Flecha abajo"/>
          <p:cNvSpPr/>
          <p:nvPr/>
        </p:nvSpPr>
        <p:spPr>
          <a:xfrm>
            <a:off x="387360" y="4637160"/>
            <a:ext cx="225360" cy="268200"/>
          </a:xfrm>
          <a:prstGeom prst="downArrow">
            <a:avLst>
              <a:gd name="adj1" fmla="val 43593"/>
              <a:gd name="adj2" fmla="val 855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1 Flecha abajo"/>
          <p:cNvSpPr/>
          <p:nvPr/>
        </p:nvSpPr>
        <p:spPr>
          <a:xfrm>
            <a:off x="387360" y="4297320"/>
            <a:ext cx="225360" cy="266760"/>
          </a:xfrm>
          <a:prstGeom prst="downArrow">
            <a:avLst>
              <a:gd name="adj1" fmla="val 43593"/>
              <a:gd name="adj2" fmla="val 851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1 Flecha abajo"/>
          <p:cNvSpPr/>
          <p:nvPr/>
        </p:nvSpPr>
        <p:spPr>
          <a:xfrm>
            <a:off x="417600" y="4970520"/>
            <a:ext cx="164880" cy="199800"/>
          </a:xfrm>
          <a:prstGeom prst="downArrow">
            <a:avLst>
              <a:gd name="adj1" fmla="val 43593"/>
              <a:gd name="adj2" fmla="val 848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1 Flecha abajo"/>
          <p:cNvSpPr/>
          <p:nvPr/>
        </p:nvSpPr>
        <p:spPr>
          <a:xfrm>
            <a:off x="365040" y="6404040"/>
            <a:ext cx="225360" cy="266760"/>
          </a:xfrm>
          <a:prstGeom prst="downArrow">
            <a:avLst>
              <a:gd name="adj1" fmla="val 43593"/>
              <a:gd name="adj2" fmla="val 851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1 Flecha abajo"/>
          <p:cNvSpPr/>
          <p:nvPr/>
        </p:nvSpPr>
        <p:spPr>
          <a:xfrm>
            <a:off x="439560" y="5192640"/>
            <a:ext cx="106560" cy="173160"/>
          </a:xfrm>
          <a:prstGeom prst="downArrow">
            <a:avLst>
              <a:gd name="adj1" fmla="val 43593"/>
              <a:gd name="adj2" fmla="val 8535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1 CuadroTexto"/>
          <p:cNvSpPr/>
          <p:nvPr/>
        </p:nvSpPr>
        <p:spPr>
          <a:xfrm>
            <a:off x="348120" y="5400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1 Flecha abajo"/>
          <p:cNvSpPr/>
          <p:nvPr/>
        </p:nvSpPr>
        <p:spPr>
          <a:xfrm>
            <a:off x="450720" y="5659560"/>
            <a:ext cx="106560" cy="174600"/>
          </a:xfrm>
          <a:prstGeom prst="downArrow">
            <a:avLst>
              <a:gd name="adj1" fmla="val 43593"/>
              <a:gd name="adj2" fmla="val 86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1 CuadroTexto"/>
          <p:cNvSpPr/>
          <p:nvPr/>
        </p:nvSpPr>
        <p:spPr>
          <a:xfrm>
            <a:off x="327600" y="5919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2"/>
          <p:cNvSpPr/>
          <p:nvPr/>
        </p:nvSpPr>
        <p:spPr>
          <a:xfrm>
            <a:off x="6345360" y="2819520"/>
            <a:ext cx="13698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Rectangle 4"/>
          <p:cNvSpPr/>
          <p:nvPr/>
        </p:nvSpPr>
        <p:spPr>
          <a:xfrm>
            <a:off x="6400800" y="2152800"/>
            <a:ext cx="1284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5030640" y="2144880"/>
            <a:ext cx="13701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Rectangle 7"/>
          <p:cNvSpPr/>
          <p:nvPr/>
        </p:nvSpPr>
        <p:spPr>
          <a:xfrm>
            <a:off x="1752480" y="2144880"/>
            <a:ext cx="3313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mos Ca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Rectangle 8"/>
          <p:cNvSpPr/>
          <p:nvPr/>
        </p:nvSpPr>
        <p:spPr>
          <a:xfrm>
            <a:off x="146160" y="2144880"/>
            <a:ext cx="16063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Rectangle 9"/>
          <p:cNvSpPr/>
          <p:nvPr/>
        </p:nvSpPr>
        <p:spPr>
          <a:xfrm>
            <a:off x="146160" y="2725560"/>
            <a:ext cx="16063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Rectangle 10"/>
          <p:cNvSpPr/>
          <p:nvPr/>
        </p:nvSpPr>
        <p:spPr>
          <a:xfrm>
            <a:off x="146160" y="1565280"/>
            <a:ext cx="16063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Surti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Rectangle 11"/>
          <p:cNvSpPr/>
          <p:nvPr/>
        </p:nvSpPr>
        <p:spPr>
          <a:xfrm>
            <a:off x="146160" y="955800"/>
            <a:ext cx="1606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Rectangle 12"/>
          <p:cNvSpPr/>
          <p:nvPr/>
        </p:nvSpPr>
        <p:spPr>
          <a:xfrm>
            <a:off x="146160" y="896760"/>
            <a:ext cx="1606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Rectangle 13"/>
          <p:cNvSpPr/>
          <p:nvPr/>
        </p:nvSpPr>
        <p:spPr>
          <a:xfrm>
            <a:off x="6400800" y="2725560"/>
            <a:ext cx="1284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Rectangle 14"/>
          <p:cNvSpPr/>
          <p:nvPr/>
        </p:nvSpPr>
        <p:spPr>
          <a:xfrm>
            <a:off x="5030640" y="2725560"/>
            <a:ext cx="13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Rectangle 16"/>
          <p:cNvSpPr/>
          <p:nvPr/>
        </p:nvSpPr>
        <p:spPr>
          <a:xfrm>
            <a:off x="1752480" y="2725560"/>
            <a:ext cx="3313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l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Rectangle 17"/>
          <p:cNvSpPr/>
          <p:nvPr/>
        </p:nvSpPr>
        <p:spPr>
          <a:xfrm>
            <a:off x="6400800" y="1573200"/>
            <a:ext cx="1284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.8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Rectangle 18"/>
          <p:cNvSpPr/>
          <p:nvPr/>
        </p:nvSpPr>
        <p:spPr>
          <a:xfrm>
            <a:off x="5030640" y="1565280"/>
            <a:ext cx="13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.2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Rectangle 20"/>
          <p:cNvSpPr/>
          <p:nvPr/>
        </p:nvSpPr>
        <p:spPr>
          <a:xfrm>
            <a:off x="1752480" y="1565280"/>
            <a:ext cx="33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s de Produc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Rectangle 21"/>
          <p:cNvSpPr/>
          <p:nvPr/>
        </p:nvSpPr>
        <p:spPr>
          <a:xfrm>
            <a:off x="6400800" y="963720"/>
            <a:ext cx="1284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0.3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Rectangle 22"/>
          <p:cNvSpPr/>
          <p:nvPr/>
        </p:nvSpPr>
        <p:spPr>
          <a:xfrm>
            <a:off x="5030640" y="955800"/>
            <a:ext cx="1370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0.2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Rectangle 24"/>
          <p:cNvSpPr/>
          <p:nvPr/>
        </p:nvSpPr>
        <p:spPr>
          <a:xfrm>
            <a:off x="1752480" y="955800"/>
            <a:ext cx="3313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 del Produc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Rectangle 25"/>
          <p:cNvSpPr/>
          <p:nvPr/>
        </p:nvSpPr>
        <p:spPr>
          <a:xfrm>
            <a:off x="6400800" y="415800"/>
            <a:ext cx="12841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Rectangle 26"/>
          <p:cNvSpPr/>
          <p:nvPr/>
        </p:nvSpPr>
        <p:spPr>
          <a:xfrm>
            <a:off x="5045040" y="425520"/>
            <a:ext cx="1279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Line 28"/>
          <p:cNvSpPr/>
          <p:nvPr/>
        </p:nvSpPr>
        <p:spPr>
          <a:xfrm>
            <a:off x="146160" y="95580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Line 29"/>
          <p:cNvSpPr/>
          <p:nvPr/>
        </p:nvSpPr>
        <p:spPr>
          <a:xfrm>
            <a:off x="146160" y="155592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Line 30"/>
          <p:cNvSpPr/>
          <p:nvPr/>
        </p:nvSpPr>
        <p:spPr>
          <a:xfrm>
            <a:off x="146160" y="212868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Line 31"/>
          <p:cNvSpPr/>
          <p:nvPr/>
        </p:nvSpPr>
        <p:spPr>
          <a:xfrm>
            <a:off x="146160" y="896760"/>
            <a:ext cx="0" cy="64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Freeform 32"/>
          <p:cNvSpPr/>
          <p:nvPr/>
        </p:nvSpPr>
        <p:spPr>
          <a:xfrm>
            <a:off x="5065560" y="355680"/>
            <a:ext cx="5040" cy="2879640"/>
          </a:xfrm>
          <a:custGeom>
            <a:avLst/>
            <a:gdLst/>
            <a:ahLst/>
            <a:rect l="l" t="t" r="r" b="b"/>
            <a:pathLst>
              <a:path w="3" h="2513">
                <a:moveTo>
                  <a:pt x="0" y="0"/>
                </a:moveTo>
                <a:lnTo>
                  <a:pt x="3" y="25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Freeform 33"/>
          <p:cNvSpPr/>
          <p:nvPr/>
        </p:nvSpPr>
        <p:spPr>
          <a:xfrm>
            <a:off x="6378480" y="328680"/>
            <a:ext cx="4680" cy="2916000"/>
          </a:xfrm>
          <a:custGeom>
            <a:avLst/>
            <a:gdLst/>
            <a:ahLst/>
            <a:rect l="l" t="t" r="r" b="b"/>
            <a:pathLst>
              <a:path w="3" h="2502">
                <a:moveTo>
                  <a:pt x="3" y="0"/>
                </a:moveTo>
                <a:lnTo>
                  <a:pt x="0" y="2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Line 36"/>
          <p:cNvSpPr/>
          <p:nvPr/>
        </p:nvSpPr>
        <p:spPr>
          <a:xfrm>
            <a:off x="5065560" y="896760"/>
            <a:ext cx="127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Line 37"/>
          <p:cNvSpPr/>
          <p:nvPr/>
        </p:nvSpPr>
        <p:spPr>
          <a:xfrm>
            <a:off x="6345360" y="896760"/>
            <a:ext cx="136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Line 38"/>
          <p:cNvSpPr/>
          <p:nvPr/>
        </p:nvSpPr>
        <p:spPr>
          <a:xfrm>
            <a:off x="7715160" y="896760"/>
            <a:ext cx="1284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Line 39"/>
          <p:cNvSpPr/>
          <p:nvPr/>
        </p:nvSpPr>
        <p:spPr>
          <a:xfrm>
            <a:off x="8999640" y="1541520"/>
            <a:ext cx="0" cy="79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Line 41"/>
          <p:cNvSpPr/>
          <p:nvPr/>
        </p:nvSpPr>
        <p:spPr>
          <a:xfrm>
            <a:off x="8999640" y="4019400"/>
            <a:ext cx="0" cy="240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Line 42"/>
          <p:cNvSpPr/>
          <p:nvPr/>
        </p:nvSpPr>
        <p:spPr>
          <a:xfrm>
            <a:off x="7715160" y="6424560"/>
            <a:ext cx="1284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Line 43"/>
          <p:cNvSpPr/>
          <p:nvPr/>
        </p:nvSpPr>
        <p:spPr>
          <a:xfrm>
            <a:off x="146160" y="6424560"/>
            <a:ext cx="491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Line 44"/>
          <p:cNvSpPr/>
          <p:nvPr/>
        </p:nvSpPr>
        <p:spPr>
          <a:xfrm>
            <a:off x="5065560" y="6424560"/>
            <a:ext cx="127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Line 45"/>
          <p:cNvSpPr/>
          <p:nvPr/>
        </p:nvSpPr>
        <p:spPr>
          <a:xfrm>
            <a:off x="146160" y="4019400"/>
            <a:ext cx="0" cy="240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Line 46"/>
          <p:cNvSpPr/>
          <p:nvPr/>
        </p:nvSpPr>
        <p:spPr>
          <a:xfrm>
            <a:off x="146160" y="1541520"/>
            <a:ext cx="0" cy="79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Line 47"/>
          <p:cNvSpPr/>
          <p:nvPr/>
        </p:nvSpPr>
        <p:spPr>
          <a:xfrm>
            <a:off x="6345360" y="6424560"/>
            <a:ext cx="136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Line 50"/>
          <p:cNvSpPr/>
          <p:nvPr/>
        </p:nvSpPr>
        <p:spPr>
          <a:xfrm>
            <a:off x="146160" y="271620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Rectangle 51"/>
          <p:cNvSpPr/>
          <p:nvPr/>
        </p:nvSpPr>
        <p:spPr>
          <a:xfrm>
            <a:off x="239760" y="147600"/>
            <a:ext cx="3271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Quejas Línea 9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Rectangle 53"/>
          <p:cNvSpPr/>
          <p:nvPr/>
        </p:nvSpPr>
        <p:spPr>
          <a:xfrm>
            <a:off x="7699320" y="2701800"/>
            <a:ext cx="1279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Wingdings"/>
                <a:ea typeface="Wingdings"/>
              </a:rPr>
              <a:t>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Rectangle 55"/>
          <p:cNvSpPr/>
          <p:nvPr/>
        </p:nvSpPr>
        <p:spPr>
          <a:xfrm>
            <a:off x="7688160" y="2090880"/>
            <a:ext cx="1279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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Rectangle 57"/>
          <p:cNvSpPr/>
          <p:nvPr/>
        </p:nvSpPr>
        <p:spPr>
          <a:xfrm>
            <a:off x="7705800" y="309600"/>
            <a:ext cx="1279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Rectangle 58"/>
          <p:cNvSpPr/>
          <p:nvPr/>
        </p:nvSpPr>
        <p:spPr>
          <a:xfrm>
            <a:off x="7688160" y="927000"/>
            <a:ext cx="127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</a:t>
            </a: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Rectangle 55"/>
          <p:cNvSpPr/>
          <p:nvPr/>
        </p:nvSpPr>
        <p:spPr>
          <a:xfrm>
            <a:off x="7696080" y="1571760"/>
            <a:ext cx="12798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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Rectangle 9"/>
          <p:cNvSpPr/>
          <p:nvPr/>
        </p:nvSpPr>
        <p:spPr>
          <a:xfrm>
            <a:off x="2216160" y="5892840"/>
            <a:ext cx="50464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risis cremas: 15.500 llam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Freeform 33"/>
          <p:cNvSpPr/>
          <p:nvPr/>
        </p:nvSpPr>
        <p:spPr>
          <a:xfrm>
            <a:off x="7740720" y="328680"/>
            <a:ext cx="4680" cy="2916000"/>
          </a:xfrm>
          <a:custGeom>
            <a:avLst/>
            <a:gdLst/>
            <a:ahLst/>
            <a:rect l="l" t="t" r="r" b="b"/>
            <a:pathLst>
              <a:path w="3" h="2502">
                <a:moveTo>
                  <a:pt x="3" y="0"/>
                </a:moveTo>
                <a:lnTo>
                  <a:pt x="0" y="2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Freeform 32"/>
          <p:cNvSpPr/>
          <p:nvPr/>
        </p:nvSpPr>
        <p:spPr>
          <a:xfrm>
            <a:off x="1684440" y="955800"/>
            <a:ext cx="4680" cy="2268360"/>
          </a:xfrm>
          <a:custGeom>
            <a:avLst/>
            <a:gdLst/>
            <a:ahLst/>
            <a:rect l="l" t="t" r="r" b="b"/>
            <a:pathLst>
              <a:path w="3" h="2513">
                <a:moveTo>
                  <a:pt x="0" y="0"/>
                </a:moveTo>
                <a:lnTo>
                  <a:pt x="3" y="25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9" name="1 Gráfico" descr=""/>
          <p:cNvPicPr/>
          <p:nvPr/>
        </p:nvPicPr>
        <p:blipFill>
          <a:blip r:embed="rId1"/>
          <a:stretch/>
        </p:blipFill>
        <p:spPr>
          <a:xfrm>
            <a:off x="719280" y="2981160"/>
            <a:ext cx="78930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8:58:09Z</dcterms:created>
  <dc:creator>Eduardo Maldonado Garcia &lt;emaldonado@mercadona.es&gt;</dc:creator>
  <dc:description/>
  <dc:language>en-US</dc:language>
  <cp:lastModifiedBy>Eduardo Maldonado Garcia &lt;emaldonado@mercadona.es&gt;</cp:lastModifiedBy>
  <dcterms:modified xsi:type="dcterms:W3CDTF">2013-01-22T12:09:29Z</dcterms:modified>
  <cp:revision>3</cp:revision>
  <dc:subject/>
  <dc:title>Presentación de PowerPoint</dc:title>
</cp:coreProperties>
</file>