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DCC7-0EBA-4497-ABBE-F6445B2C1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02840"/>
            <a:ext cx="8228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44BD-A35A-45B5-ACDD-EEE8B117A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02840"/>
            <a:ext cx="401508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4002840"/>
            <a:ext cx="401508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5FD8-205F-4DAE-B6DE-D72A75F3F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02840"/>
            <a:ext cx="26492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4002840"/>
            <a:ext cx="26492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4002840"/>
            <a:ext cx="26492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0AD0-BF02-4751-86EB-EB50A3AE3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6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5300-EE07-40F3-9DEF-03A0A20DF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BDEA-6B93-41ED-9ED0-C0FF0844C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617B-BA33-4BCF-8477-389E2E2B2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13D3-FCF8-4AD8-92FE-991EFD996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2CE6-7A5E-40D1-8FCC-AAE08FB98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02840"/>
            <a:ext cx="401508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CC3C-266B-4A5B-B33E-39C4D56C1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4002840"/>
            <a:ext cx="401508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38A8-72AE-4D51-86D4-4CC8FF6D9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02840"/>
            <a:ext cx="8228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3306-4B67-4612-8A04-59BF3FCBC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fr-FR" sz="18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DejaVu Sans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fr-FR" sz="18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DejaVu Sans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fr-FR" sz="18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5ADF155-7E9D-4F8C-A349-F8D33142FCF3}" type="slidenum">
              <a:rPr b="0" lang="fr-FR" sz="18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59280" y="1557360"/>
            <a:ext cx="1873080" cy="1655640"/>
          </a:xfrm>
          <a:custGeom>
            <a:avLst/>
            <a:gdLst>
              <a:gd name="textAreaLeft" fmla="*/ 0 w 1873080"/>
              <a:gd name="textAreaRight" fmla="*/ 1873440 w 1873080"/>
              <a:gd name="textAreaTop" fmla="*/ 0 h 1655640"/>
              <a:gd name="textAreaBottom" fmla="*/ 1656000 h 165564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3T18:24:37Z</dcterms:created>
  <dc:creator>Pierre Martineau</dc:creator>
  <dc:description/>
  <dc:language>en-US</dc:language>
  <cp:lastModifiedBy>Pierre Martineau</cp:lastModifiedBy>
  <dcterms:modified xsi:type="dcterms:W3CDTF">2012-10-13T18:24:41Z</dcterms:modified>
  <cp:revision>1</cp:revision>
  <dc:subject/>
  <dc:title>Diapositive 1</dc:title>
</cp:coreProperties>
</file>