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584-69BF-476D-87FE-B1D71D7E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27A-BAF3-4042-AC3B-2D834B95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4FE-FDD8-4045-BB94-85FF13E8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7D5-83A7-4741-9DAA-BCC2AE8F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714-11F7-47E1-A399-88E9153F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AF0-6BA9-478B-BF3C-309AD1EF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7AD-24AA-48EB-94FC-6FB0663C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33C-D2AD-404D-B605-50F6A88C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52E-BBA6-442B-A39A-7A14CEE7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9B0-732B-430B-B752-F7D1F1E9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215-CD85-429C-87AB-A71DA914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EDA-61F0-4AEA-B208-247521D2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557C92-03DE-48DB-80B7-F199EA506DA0}" type="slidenum"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1557360"/>
            <a:ext cx="1873080" cy="16556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8:24:37Z</dcterms:created>
  <dc:creator>Pierre Martineau</dc:creator>
  <dc:description/>
  <dc:language>en-US</dc:language>
  <cp:lastModifiedBy>Pierre Martineau</cp:lastModifiedBy>
  <dcterms:modified xsi:type="dcterms:W3CDTF">2012-10-13T18:24:41Z</dcterms:modified>
  <cp:revision>1</cp:revision>
  <dc:subject/>
  <dc:title>Diapositive 1</dc:title>
</cp:coreProperties>
</file>