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A0B-5A3C-4939-A63C-F12B0EAF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51A-FC20-40EC-BEF1-23A137B2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86E8-65FB-4A4F-ACF5-82C08C7F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BDD-1917-4DF4-97B6-9E94BB0E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F58-839A-4D41-B8E8-D888C4B0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269-16CE-475D-B30C-39895F87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CE74-8C97-405E-AAA3-621CBBB0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5093-D036-409E-A72C-B9AF6017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373B-F2B8-44C0-903B-A3C2594B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3B54-6948-4F0D-BAE4-DF502EB7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B139-0475-4760-862A-B727B7A4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3EED-072C-44B0-9DA0-37C2FE99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0A7C-A7DF-4291-B239-D064DA36A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1557360"/>
            <a:ext cx="1873080" cy="1655640"/>
          </a:xfrm>
          <a:custGeom>
            <a:avLst/>
            <a:gdLst>
              <a:gd name="textAreaLeft" fmla="*/ 0 w 1873080"/>
              <a:gd name="textAreaRight" fmla="*/ 1873440 w 187308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18:24:37Z</dcterms:created>
  <dc:creator>Pierre Martineau</dc:creator>
  <dc:description/>
  <dc:language>en-US</dc:language>
  <cp:lastModifiedBy>Pierre Martineau</cp:lastModifiedBy>
  <dcterms:modified xsi:type="dcterms:W3CDTF">2012-10-13T18:24:41Z</dcterms:modified>
  <cp:revision>1</cp:revision>
  <dc:subject/>
  <dc:title>Diapositive 1</dc:title>
</cp:coreProperties>
</file>