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3F9-411A-41BE-9495-76067A51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6B1-6BD2-4BF3-A817-C651E978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5D5-9838-4BB9-AA17-8875329A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0DB-A5AB-40F9-B153-0DBC28B2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026-1323-4CA8-A73A-F12DBF22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B9D-D516-44B2-9974-DB30C562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46B-B10B-4989-90C2-43D9C96E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9908-CCD0-4C06-9956-D1826633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8C7-5E6B-4CDC-A58B-C03B6DBA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63A-989E-471B-B788-D48C75C3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245-CE0E-464E-924D-F7B1B76D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1CF-999F-40EB-BD94-5374D68F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8E95-DBC1-42E8-859F-300501A65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1557360"/>
            <a:ext cx="1873080" cy="165564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8:24:37Z</dcterms:created>
  <dc:creator>Pierre Martineau</dc:creator>
  <dc:description/>
  <dc:language>en-US</dc:language>
  <cp:lastModifiedBy>Pierre Martineau</cp:lastModifiedBy>
  <dcterms:modified xsi:type="dcterms:W3CDTF">2012-10-13T18:24:41Z</dcterms:modified>
  <cp:revision>1</cp:revision>
  <dc:subject/>
  <dc:title>Diapositive 1</dc:title>
</cp:coreProperties>
</file>