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9FF-B4E7-46E5-9E50-3C0EBAA4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073-2291-4BA3-89E2-185CC353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DCB-BCF3-4EFE-AB7A-D04D6DD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7920"/>
            <a:ext cx="29196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30F-D3E1-4AD2-82C0-6010CCA9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B8D-C467-4519-8B4E-98821EA9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DA1-B1C4-4989-96F6-03576EB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0FF-33BE-4064-BDA2-0BB0ADAA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5CF-024D-46AF-95A3-DD0BFA96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91A-B079-44D3-9CC6-8CF1B372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604-A5CE-486C-9898-186B84E6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79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8E8-398D-4135-A93E-261E6C7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7920"/>
            <a:ext cx="9067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624-15D1-412D-98DE-93CC55A7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1C960-A9E4-4CB8-8369-C083E71E1571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43280" y="2016000"/>
            <a:ext cx="1728720" cy="172908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729080"/>
              <a:gd name="textAreaBottom" fmla="*/ 1729440 h 172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3966" y="10934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5:28:41Z</dcterms:created>
  <dc:creator>Pierre Martineau</dc:creator>
  <dc:description/>
  <dc:language>en-US</dc:language>
  <cp:lastModifiedBy>Pierre Martineau</cp:lastModifiedBy>
  <dcterms:modified xsi:type="dcterms:W3CDTF">2012-10-13T17:54:33Z</dcterms:modified>
  <cp:revision>6</cp:revision>
  <dc:subject/>
  <dc:title/>
</cp:coreProperties>
</file>