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FED0-A502-4F8E-82BD-0F6A903D8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7920"/>
            <a:ext cx="9067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4F45-26B7-449B-9887-536546EF2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7920"/>
            <a:ext cx="44247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7920"/>
            <a:ext cx="44247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DDE8-4916-4B70-A2A9-6727E9F16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6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6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8320"/>
            <a:ext cx="29196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7920"/>
            <a:ext cx="29196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6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7920"/>
            <a:ext cx="29196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EB53-D0A9-4250-9BA9-2BF95D6C4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76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2F54-1330-4E6A-90B4-68841DE40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D03C-962C-410A-8900-BE964F972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C7AF-C463-4E94-A80A-A8B37865D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F2DC-8AFD-4F19-9046-D184032E0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A73D-AC8C-4950-A4A5-43CC234AA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7920"/>
            <a:ext cx="44247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3414-CA0D-457E-962B-61B8896F9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7920"/>
            <a:ext cx="44247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ACCF-EF82-48D0-B704-C8F16131E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7920"/>
            <a:ext cx="9067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5682-461B-4AE6-B602-AA903B798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76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D23A94-C6A4-4956-BAA5-98E2449F332C}" type="slidenum">
              <a:rPr b="0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743280" y="2016000"/>
            <a:ext cx="1728720" cy="1729080"/>
          </a:xfrm>
          <a:custGeom>
            <a:avLst/>
            <a:gdLst>
              <a:gd name="textAreaLeft" fmla="*/ 0 w 1728720"/>
              <a:gd name="textAreaRight" fmla="*/ 1729080 w 1728720"/>
              <a:gd name="textAreaTop" fmla="*/ 0 h 1729080"/>
              <a:gd name="textAreaBottom" fmla="*/ 1729440 h 172908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3966" y="10934"/>
                </a:lnTo>
                <a:lnTo>
                  <a:pt x="13600" y="10800"/>
                </a:lnTo>
                <a:close/>
              </a:path>
            </a:pathLst>
          </a:custGeom>
          <a:solidFill>
            <a:srgbClr val="cfe7f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3T15:28:41Z</dcterms:created>
  <dc:creator>Pierre Martineau</dc:creator>
  <dc:description/>
  <dc:language>en-US</dc:language>
  <cp:lastModifiedBy>Pierre Martineau</cp:lastModifiedBy>
  <dcterms:modified xsi:type="dcterms:W3CDTF">2012-10-13T17:54:33Z</dcterms:modified>
  <cp:revision>6</cp:revision>
  <dc:subject/>
  <dc:title/>
</cp:coreProperties>
</file>