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313D-76BD-4480-ACA4-BECE15B8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8640"/>
            <a:ext cx="9069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EDA4-8870-4ABB-B1BC-4D74B6CF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8640"/>
            <a:ext cx="4425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8640"/>
            <a:ext cx="4425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B883-8A81-404E-BBA2-666CA0F82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8640"/>
            <a:ext cx="29199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8640"/>
            <a:ext cx="29199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8640"/>
            <a:ext cx="29199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FCCE-1A64-431C-8073-A9115D4E7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2720" indent="0" algn="ctr">
              <a:lnSpc>
                <a:spcPct val="93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BFD8-908F-4326-AC68-497282F9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2BE3-DA3A-46D7-8BAC-11A3E83C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E0F4-E472-4973-A46D-D6ACB9B4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726F-ED88-44E2-BC54-2FCEC41D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2720" indent="-342720" algn="ctr">
              <a:lnSpc>
                <a:spcPct val="93000"/>
              </a:lnSpc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8094-ECD2-4C55-9CDF-B747A82A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8640"/>
            <a:ext cx="4425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FF3E-81C4-421B-9D42-154C7B53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8640"/>
            <a:ext cx="4425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FBB5-0E0D-47CB-9C2A-A54D311C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8640"/>
            <a:ext cx="9069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FFBA-B5FC-409D-9F44-0BA50B9A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55520"/>
                <a:tab algn="l" pos="604800"/>
                <a:tab algn="l" pos="1054080"/>
                <a:tab algn="l" pos="1503360"/>
                <a:tab algn="l" pos="1952280"/>
                <a:tab algn="l" pos="2401560"/>
                <a:tab algn="l" pos="2850840"/>
                <a:tab algn="l" pos="3300120"/>
                <a:tab algn="l" pos="3749400"/>
                <a:tab algn="l" pos="4198680"/>
                <a:tab algn="l" pos="4647960"/>
                <a:tab algn="l" pos="5097240"/>
                <a:tab algn="l" pos="5546520"/>
                <a:tab algn="l" pos="599580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fr-FR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84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04480"/>
                <a:tab algn="l" pos="653760"/>
                <a:tab algn="l" pos="1103040"/>
                <a:tab algn="l" pos="1552320"/>
                <a:tab algn="l" pos="2001600"/>
                <a:tab algn="l" pos="2450880"/>
                <a:tab algn="l" pos="2900160"/>
                <a:tab algn="l" pos="334944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160"/>
                <a:tab algn="l" pos="87404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fr-FR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57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96560"/>
                <a:tab algn="l" pos="645840"/>
                <a:tab algn="l" pos="1095120"/>
                <a:tab algn="l" pos="1544400"/>
                <a:tab algn="l" pos="1993680"/>
                <a:tab algn="l" pos="2442960"/>
                <a:tab algn="l" pos="2892240"/>
                <a:tab algn="l" pos="3341520"/>
                <a:tab algn="l" pos="3790800"/>
                <a:tab algn="l" pos="4240080"/>
                <a:tab algn="l" pos="4689360"/>
                <a:tab algn="l" pos="5138640"/>
                <a:tab algn="l" pos="5587920"/>
                <a:tab algn="l" pos="6037200"/>
                <a:tab algn="l" pos="6486480"/>
                <a:tab algn="l" pos="6935760"/>
                <a:tab algn="l" pos="7385040"/>
                <a:tab algn="l" pos="7833960"/>
                <a:tab algn="l" pos="8283240"/>
                <a:tab algn="l" pos="8732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8640"/>
                <a:tab algn="l" pos="637920"/>
                <a:tab algn="l" pos="1087200"/>
                <a:tab algn="l" pos="1536480"/>
                <a:tab algn="l" pos="1985760"/>
                <a:tab algn="l" pos="243504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6760"/>
                <a:tab algn="l" pos="7826040"/>
                <a:tab algn="l" pos="8275320"/>
                <a:tab algn="l" pos="8724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8640"/>
                <a:tab algn="l" pos="637920"/>
                <a:tab algn="l" pos="1087200"/>
                <a:tab algn="l" pos="1536480"/>
                <a:tab algn="l" pos="1985760"/>
                <a:tab algn="l" pos="243504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6760"/>
                <a:tab algn="l" pos="7826040"/>
                <a:tab algn="l" pos="8275320"/>
                <a:tab algn="l" pos="8724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8640"/>
                <a:tab algn="l" pos="637920"/>
                <a:tab algn="l" pos="1087200"/>
                <a:tab algn="l" pos="1536480"/>
                <a:tab algn="l" pos="1985760"/>
                <a:tab algn="l" pos="243504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6760"/>
                <a:tab algn="l" pos="7826040"/>
                <a:tab algn="l" pos="8275320"/>
                <a:tab algn="l" pos="87246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fr-FR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BAA17F6-91B1-4C48-B8EE-DD6E356F5DD3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44000" y="2016000"/>
            <a:ext cx="1728000" cy="1728000"/>
          </a:xfrm>
          <a:custGeom>
            <a:avLst/>
            <a:gdLst>
              <a:gd name="textAreaLeft" fmla="*/ 0 w 1728000"/>
              <a:gd name="textAreaRight" fmla="*/ 1728360 w 1728000"/>
              <a:gd name="textAreaTop" fmla="*/ 0 h 1728000"/>
              <a:gd name="textAreaBottom" fmla="*/ 1728360 h 17280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fe7f5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17:28:41Z</dcterms:created>
  <dc:creator>Pierre Martineau</dc:creator>
  <dc:description/>
  <dc:language>en-US</dc:language>
  <cp:lastModifiedBy>Pierre Martineau</cp:lastModifiedBy>
  <dcterms:modified xsi:type="dcterms:W3CDTF">2012-10-13T19:54:33Z</dcterms:modified>
  <cp:revision>6</cp:revision>
  <dc:subject/>
  <dc:title/>
</cp:coreProperties>
</file>