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B0E-2F86-4EC8-BC52-EE2B073D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864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AE0-3DF4-40B5-91DA-E37963D6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B95-0F51-45E4-8BDA-2FF89336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7F4-8FC7-4DA1-8F65-156A81A6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lnSpc>
                <a:spcPct val="93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978-0B57-41FC-AECF-173EC326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2F1-E150-47B3-B4C4-87375ECC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5B5-BB62-4631-936E-300FC072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55F-EB55-4F7F-9CC1-E189F8A3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lnSpc>
                <a:spcPct val="93000"/>
              </a:lnSpc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E74-EDA0-44A5-AB27-6616A5D2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7F1-603F-4785-9492-CEBAF0B7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E38-A30E-4273-9428-2AFBC0FD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AC5-0280-4EFB-A5CA-843DD16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4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9A8419-FDF8-4F22-9886-E47F76E40D60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4000" y="2016000"/>
            <a:ext cx="1728000" cy="1728000"/>
          </a:xfrm>
          <a:custGeom>
            <a:avLst/>
            <a:gdLst>
              <a:gd name="textAreaLeft" fmla="*/ 0 w 1728000"/>
              <a:gd name="textAreaRight" fmla="*/ 1728360 w 1728000"/>
              <a:gd name="textAreaTop" fmla="*/ 0 h 1728000"/>
              <a:gd name="textAreaBottom" fmla="*/ 1728360 h 172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7:28:41Z</dcterms:created>
  <dc:creator>Pierre Martineau</dc:creator>
  <dc:description/>
  <dc:language>en-US</dc:language>
  <cp:lastModifiedBy>Pierre Martineau</cp:lastModifiedBy>
  <dcterms:modified xsi:type="dcterms:W3CDTF">2012-10-13T19:54:33Z</dcterms:modified>
  <cp:revision>6</cp:revision>
  <dc:subject/>
  <dc:title/>
</cp:coreProperties>
</file>