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9BF-7AFE-4D4A-84F5-102750A2C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B905-5394-422C-97B0-CB5E7F10F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0CEC-CCCC-43BF-86C2-1C0C6E8C4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E4C4-3C9C-455F-BAE1-3B1BE88A5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47F-8E53-4DBC-8320-66747BC2A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2DD6-3B55-4AAE-83C7-8F1487513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7072-A071-4CA4-A7F1-909C239AD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E69A-96D5-4F42-88A5-D85BF6004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275-591D-4694-B4BE-D6178EF94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C08-9391-4EF7-BC9D-6FA578C44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5E79-EFF5-4FEA-B012-C285D8017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6FC2-F3A7-4C27-816C-418481E00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CDC-1169-4D32-8238-8E80CE4E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046-913A-4EBE-853D-07309915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1CE-D84C-43CF-939A-39AB9A56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A41-5B91-47AD-B0B5-E3CDE9C2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3006-2E6E-4289-BED0-462313C6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DA71-2F88-442E-96B1-4A85D6F2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726F-FD22-4616-A057-80E0CC9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CA44-C473-490C-B649-BCF1E29F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56B3-1202-4902-A907-CB62A536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D428-D6DB-4FC0-8EDB-4C63176A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50D5-9DE0-401A-93E3-86BEA45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900-1FFF-48ED-AF64-4C163AB1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CC8C-E86F-4B7D-9FFE-2B6121FE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CA9B-E0DD-4A70-8E9D-3D8048F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3799-2AE9-4B7D-A7EE-C2F0A1ED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4B64-4DD9-4DBE-8694-A932F469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8AA9-35EC-407B-A361-5F98DBA0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496-A4DB-4379-82CB-E552C39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F3B-0052-48B2-A9D4-6D5C5C8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15F-9B91-4315-96F5-C1BD806D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853-DD89-48DF-8E9A-F6FB0AB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A10-4E7C-4FD5-BF52-0A4EA03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28C-CEC5-4458-A6B1-3157FFE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C87-07C9-4B69-A896-EA45503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6C01-CBDA-49E5-9F1C-19BCEDC6C3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FAA-377F-465C-93F2-2BEEFD1E6C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Управлять – значит предвидеть, организовывать, </a:t>
            </a:r>
            <a:br>
              <a:rPr sz="2100"/>
            </a:b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распоряжаться,   координировать   и    контролировать.</a:t>
            </a:r>
            <a:br>
              <a:rPr sz="2100"/>
            </a:b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А. Файол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ЧЕСК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НИКОВ 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Ц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бразовательные приоритеты Слуцкого района: интеллект, творчество, патриотиз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635280" y="4076640"/>
            <a:ext cx="1800360" cy="1368360"/>
            <a:chOff x="3635280" y="4076640"/>
            <a:chExt cx="1800360" cy="1368360"/>
          </a:xfrm>
        </p:grpSpPr>
        <p:sp>
          <p:nvSpPr>
            <p:cNvPr id="101" name="Oval 5"/>
            <p:cNvSpPr/>
            <p:nvPr/>
          </p:nvSpPr>
          <p:spPr>
            <a:xfrm>
              <a:off x="3635280" y="4209840"/>
              <a:ext cx="1800360" cy="123516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Object 6"/>
            <p:cNvGraphicFramePr/>
            <p:nvPr/>
          </p:nvGraphicFramePr>
          <p:xfrm>
            <a:off x="3995280" y="4076640"/>
            <a:ext cx="1080360" cy="10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95280" y="4076640"/>
                      <a:ext cx="108036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7"/>
            <p:cNvGraphicFramePr/>
            <p:nvPr/>
          </p:nvGraphicFramePr>
          <p:xfrm>
            <a:off x="5042880" y="4677480"/>
            <a:ext cx="360000" cy="35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42880" y="4677480"/>
                      <a:ext cx="36000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8"/>
            <p:cNvGraphicFramePr/>
            <p:nvPr/>
          </p:nvGraphicFramePr>
          <p:xfrm>
            <a:off x="4224240" y="4410360"/>
            <a:ext cx="622440" cy="66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24240" y="4410360"/>
                      <a:ext cx="622440" cy="6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9"/>
            <p:cNvGraphicFramePr/>
            <p:nvPr/>
          </p:nvGraphicFramePr>
          <p:xfrm>
            <a:off x="3668040" y="4677480"/>
            <a:ext cx="326880" cy="300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68040" y="4677480"/>
                      <a:ext cx="326880" cy="3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0" name="Picture 10" descr="DOVE"/>
            <p:cNvPicPr/>
            <p:nvPr/>
          </p:nvPicPr>
          <p:blipFill>
            <a:blip r:embed="rId9"/>
            <a:stretch/>
          </p:blipFill>
          <p:spPr>
            <a:xfrm>
              <a:off x="4355280" y="4076640"/>
              <a:ext cx="42876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CADUCEUS"/>
            <p:cNvPicPr/>
            <p:nvPr/>
          </p:nvPicPr>
          <p:blipFill>
            <a:blip r:embed="rId10"/>
            <a:stretch/>
          </p:blipFill>
          <p:spPr>
            <a:xfrm>
              <a:off x="4486320" y="5312160"/>
              <a:ext cx="130680" cy="1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WordArt 12"/>
            <p:cNvSpPr txBox="1"/>
            <p:nvPr/>
          </p:nvSpPr>
          <p:spPr>
            <a:xfrm>
              <a:off x="4197600" y="5146920"/>
              <a:ext cx="819360" cy="12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тдел образования Слуцкого райисполкома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13" name="Rectangle 13"/>
          <p:cNvSpPr/>
          <p:nvPr/>
        </p:nvSpPr>
        <p:spPr>
          <a:xfrm>
            <a:off x="3132000" y="5589720"/>
            <a:ext cx="33116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9 августа 2012 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. Слуц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онкурсы 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рофессионального мастер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45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ажным инструментом  развития педагогической культуры являются конкурсы  профессиональ-ного мастер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шедшем учебном году с этой целью были проведены конкур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еоуроков для учителей первой категории «Урок, которым я горжус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олодой специалист год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Резерв кадр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ного внимания уделяется профессиональному развитию управленческих кадров, подготовке резер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е образования труди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ководителей учреждений образования. В резерве состои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дагогов составляют перспективный резер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2011-2012 учебного года проведено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й с резервом руководящих кадров. Прошли стажиров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новь назначенных руков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1 году повысили квалификаци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цев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щих в резерве кадров педаго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ЕДАГОГ ГОДА 20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8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рединская Инна Аликовна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учитель белорусского языка и литературы  СШ №13 г. Слуц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ауреа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ластного этапа республиканского конк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читель года -2011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иналис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республикан-ского конк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читель года -2011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учшее дошкольное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     учреждение год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19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Ясли-сад №4 г. Слуц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бедител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ластного этапа республиканского кон-к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учшее дошкольное учреждение год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иналис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республикан-ского конк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учшее дошкольное учреждение год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Работа с кадрами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066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В 2012/2013 учебном году в работе с кадрам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i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совершенствовать механизм опережающей подготовки педагогических и управленческих кадров в межкурсовой пери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содействовать достижению оптимального результата по обновлению содержания деятельности звеньев методической вертик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Работа с кадрами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066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В 2012/2013 учебном году в работе с кадрам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i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осуществлять диагностико-коррекционную деятельность по оказанию адресной методической поддержки педагог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изучать, обобщать и распространять образцы эффективной педагогической практики, совершенствовать алгоритм работы с банками педагогических идей и разработок.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Финансирование образова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финансирование системы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в 2011 году было  израсходова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лрд.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6"/>
          <p:cNvGraphicFramePr/>
          <p:nvPr/>
        </p:nvGraphicFramePr>
        <p:xfrm>
          <a:off x="1187280" y="2421000"/>
          <a:ext cx="612144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21000"/>
                    <a:ext cx="6121440" cy="3660840"/>
                  </a:xfrm>
                  <a:prstGeom prst="rect">
                    <a:avLst/>
                  </a:prstGeom>
                  <a:ln w="324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Укрепление учебной и материально-технической баз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дготовки учебных заведений к началу нового учебного года направле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47,0 мл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сегодняшнего времени таковы, что надо не только эконом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овать бюджетные средства, но и зарабатывать внебюджет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6 месяцев 2012 года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получено доходов от внебюджетной деятельности на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2234,3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млн. рублей. Оказано платных услуг на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2869,6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млн. рублей, в т. ч. услуг образования  -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1860,4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млн.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истема образования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(дошкольное образование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276720" y="3213000"/>
            <a:ext cx="2158920" cy="1152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332000" y="1413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сли-сад-С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148360" y="1413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ш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. раз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ён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1258920" y="4869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СЛИ-САД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3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5219640" y="4869000"/>
            <a:ext cx="237672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аторны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ий с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 flipH="1" flipV="1">
            <a:off x="2268000" y="2708280"/>
            <a:ext cx="1008360" cy="504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2124000" y="4365720"/>
            <a:ext cx="1152720" cy="503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V="1">
            <a:off x="5435640" y="2708280"/>
            <a:ext cx="1152360" cy="504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5435640" y="4365720"/>
            <a:ext cx="1224000" cy="503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Дошкольное образование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(вариативность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тдел образования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        Слуцкого райисполком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лад начальника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ИВАНА АНТОНОВИЧА ДЕРМА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Образовательные приоритеты Слуцкого района: интеллект, творчество, патриот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0" y="0"/>
            <a:ext cx="2090880" cy="1294920"/>
            <a:chOff x="0" y="0"/>
            <a:chExt cx="2090880" cy="1294920"/>
          </a:xfrm>
        </p:grpSpPr>
        <p:sp>
          <p:nvSpPr>
            <p:cNvPr id="117" name="Oval 6"/>
            <p:cNvSpPr/>
            <p:nvPr/>
          </p:nvSpPr>
          <p:spPr>
            <a:xfrm>
              <a:off x="0" y="126000"/>
              <a:ext cx="2090880" cy="116892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Object 7"/>
            <p:cNvGraphicFramePr/>
            <p:nvPr/>
          </p:nvGraphicFramePr>
          <p:xfrm>
            <a:off x="417960" y="0"/>
            <a:ext cx="1254600" cy="97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960" y="0"/>
                      <a:ext cx="1254600" cy="97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Object 8"/>
            <p:cNvGraphicFramePr/>
            <p:nvPr/>
          </p:nvGraphicFramePr>
          <p:xfrm>
            <a:off x="1634760" y="568800"/>
            <a:ext cx="417960" cy="3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34760" y="568800"/>
                      <a:ext cx="417960" cy="3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Object 9"/>
            <p:cNvGraphicFramePr/>
            <p:nvPr/>
          </p:nvGraphicFramePr>
          <p:xfrm>
            <a:off x="684000" y="316080"/>
            <a:ext cx="722880" cy="63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4000" y="316080"/>
                      <a:ext cx="72288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Object 10"/>
            <p:cNvGraphicFramePr/>
            <p:nvPr/>
          </p:nvGraphicFramePr>
          <p:xfrm>
            <a:off x="37800" y="568800"/>
            <a:ext cx="379800" cy="28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800" y="568800"/>
                      <a:ext cx="379800" cy="2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6" name="Picture 11" descr="DOVE"/>
            <p:cNvPicPr/>
            <p:nvPr/>
          </p:nvPicPr>
          <p:blipFill>
            <a:blip r:embed="rId9"/>
            <a:stretch/>
          </p:blipFill>
          <p:spPr>
            <a:xfrm>
              <a:off x="835920" y="0"/>
              <a:ext cx="49788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2" descr="CADUCEUS"/>
            <p:cNvPicPr/>
            <p:nvPr/>
          </p:nvPicPr>
          <p:blipFill>
            <a:blip r:embed="rId10"/>
            <a:stretch/>
          </p:blipFill>
          <p:spPr>
            <a:xfrm>
              <a:off x="988560" y="1169280"/>
              <a:ext cx="151560" cy="1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13"/>
            <p:cNvSpPr txBox="1"/>
            <p:nvPr/>
          </p:nvSpPr>
          <p:spPr>
            <a:xfrm>
              <a:off x="653400" y="1013040"/>
              <a:ext cx="95148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тдел образования Слуцкого райисполкома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хват дошкольным образование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539640" y="1496880"/>
          <a:ext cx="770436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96880"/>
                    <a:ext cx="7704360" cy="441972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Дошкольное образование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2012-2013 учебном году следу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296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должить  работу по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выполнению мероприятий Программы развития системы дошкольного образования  в Республике Беларусь на 2009-2014 годы, в том числе по своевременному вводу в эксплуатацию здания нового детского сада, укреплению материально-технической базы дошкольных учреждений в соответствии с современными требова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ями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Дошкольное образование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2012-2013 учебном году следу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296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обеспеч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ть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качест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дошкольного образования и разностороннего развития личности воспитанника в соответствии с его возрастными и индивидуальными возможностями, способностями и потреб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истема образования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(общее среднее образование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276720" y="3213000"/>
            <a:ext cx="2158920" cy="1152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1332000" y="1413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5148360" y="1413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сли-сад-С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468360" y="4869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2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6227640" y="4869000"/>
            <a:ext cx="237672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ОВ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000" y="2708280"/>
            <a:ext cx="1008360" cy="504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1979280" y="4365720"/>
            <a:ext cx="1297080" cy="503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5435640" y="2708280"/>
            <a:ext cx="1152360" cy="504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435640" y="4365720"/>
            <a:ext cx="136836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3203640" y="4941720"/>
            <a:ext cx="237636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ЧЕР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356000" y="4365720"/>
            <a:ext cx="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бщее среднее образование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(качество образования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632720" cy="46339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бщее среднее образование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(итоговая аттестация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39640" y="1450800"/>
            <a:ext cx="7993080" cy="44262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Трудоустройство выпуск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684360" y="1450800"/>
            <a:ext cx="7559640" cy="45882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бщее среднее образование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2012-2013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продолжить работу по обеспечению качества образования, положительной динамики учебных достижений учащихся по итогам учебного года и итоговой аттестации выпуск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бщее среднее образование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2012-2013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обеспечить результативное участие учащихся в предметных олимпиадах, конкурсах исследовательских работ учащихся, других интеллектуальных конкурсах  с учётом имеющихся резервов (учащиеся, занимающиеся на «6-10»  и  «9-10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нформатизация образова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т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ина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0-2011      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yfly                     30,30%        92,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кальные сети  71,70%        78,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атеки           71,70%        78,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6084720" y="263700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851280" y="30686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3851280" y="3645000"/>
            <a:ext cx="460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851280" y="3645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3851280" y="42926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истема образования  райо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348000" y="3068640"/>
            <a:ext cx="2158920" cy="1152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5280" y="1413000"/>
            <a:ext cx="237636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ШКО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2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276720" y="1197000"/>
            <a:ext cx="237636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300720" y="1413000"/>
            <a:ext cx="237672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ли-сад-С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395280" y="3068640"/>
            <a:ext cx="237636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ЫЕ ШКО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6227640" y="2997360"/>
            <a:ext cx="2376720" cy="129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ЕРНИЕ ШКО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395280" y="4941720"/>
            <a:ext cx="237636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. ОБРАЗ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3348000" y="4941720"/>
            <a:ext cx="237636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ЛИ-САДЫ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39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т.ч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школьны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разв. ребён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6300720" y="4941720"/>
            <a:ext cx="2376720" cy="1297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КРО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H="1" flipV="1">
            <a:off x="1547280" y="2707920"/>
            <a:ext cx="1800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5508720" y="2707920"/>
            <a:ext cx="201600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V="1">
            <a:off x="4427640" y="2491920"/>
            <a:ext cx="0" cy="57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 flipH="1">
            <a:off x="2700000" y="3716280"/>
            <a:ext cx="64764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5508720" y="3645000"/>
            <a:ext cx="7920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4427640" y="4221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 flipH="1">
            <a:off x="1403280" y="4221000"/>
            <a:ext cx="194472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5508720" y="4221000"/>
            <a:ext cx="194292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нформатизация образования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250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9044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Остается актуальным  подключение учреждений образования 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fly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и регионально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PN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-сети, обслуживание и защита локальных сетей учреждений образования, модернизация школьных библиотек и создание на их базе медиатек,  открытие кабинетов компьютерных технологий, создание официальных сайтов учреждений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нформатизация образования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9246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9044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Медленно продвигается процесс сертификации педкадров на предмет владения информационными технологиями (по состоянию на 01.06.2012 г. соответствующие сертификаты имеют 20  % педагогов учреждений общего среднего образо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 мотивированными учащими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27640" y="1484280"/>
            <a:ext cx="3743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тогам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ластных предмет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лимпиад  2012 года район завоева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пло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ям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спуб-ликанской олимпиа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012 года ст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3673440" cy="22370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 мотивированными учащими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08360" y="1341360"/>
            <a:ext cx="4826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Феноменальный результат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 показал де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классник гимназии №1 г. Слуцка</a:t>
            </a:r>
            <a:r>
              <a:rPr b="0" i="1" lang="be-B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Лазовский  Никифор,</a:t>
            </a:r>
            <a:r>
              <a:rPr b="0" i="1" lang="be-B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который завое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- на областной олимпиаде 4 диплома первой степени по математике, химии, физике и английскому язы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- 3 диплома различной степени и похвальный отзыв на республиканской олимпи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На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-ой Международной Менделеевской олимпиаде школьников по химии Никифор завоевал серебряную мед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На 44-й Международной Химической Олимпиаде - золо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 мотивированными учащими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Учащиеся гимназии №1 г. Слуцка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лись с дипломами с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V  Международной научно-практической конференции учащихся и студентов, которая проходила в г. Протвино Московской области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XXXIX Международных общественно-научных чтений, посвящённых 50-летию полёта человека в космос, в г. Гагарин Смолен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У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аяся Серяжской СШ Буканова Полина стала обладателем дипло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еждународной научно-практической конференции, посвящённой проблемам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 и мотивиро-ванными учащимися: задач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24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новом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37692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организовать проведение совместно с учреждениями нового типа диагностических олимпиад с учащимися старших классов (8, 9, 10-е классы) на базе гимназ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37692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оптимизировать работу межшкольных факультативов; открыть районные предметные клубы по математике, информатике и астроном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 и мотивиро-ванными учащимися: задач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новом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создать при районных методических объединениях учителей-предметников авторские группы педагогов, имеющих опыт результативного  участия в областных и республиканских олимпиадах, которые будут работать с учащимися-победителями районных олимпиад   на стадии подготовки к областным олимпиадам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 и мотивиро-ванными учащимися: задач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24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новом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- обеспечить работу профильных смен для учащихся-победителей районных олимпиад в начальной школе и 5-8-х классах на базе  оздоровительных лагерей с круглосуточным пребыв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- завоевать на областных олимпиадах не менее 20 дипломов, на республиканских - не менее 7, на конкурсах исследовательских работ всех уровней - не менее 5 дипл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 мотивированными учащими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4825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год подряд в районе  проводится конкурс исследовательских работ учащихся начальной школы. В прошедшем учебном году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в конкурсе приняли участие 42 учащихся (29 работ) из 19 учреждений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Учащаяся Исернского  УПК яслей-сада-СШ  Чечет Анна получила диплом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i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 степени на 3-ем  областном конкурсе исследовательских работ младших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 мотивированными учащими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00360" y="159984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Учреждения дополнитель-ного образования, а также СШ №8 г. Слуцка, в которой  проводятся занятия музы-кальной и хореографической направленности, в  2011-2012 учебном году заво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 на различного рода творческих конкурсах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145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диплом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них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на  международных  конкурсах,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 на республиканских и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1" lang="be-BY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на  облас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дровое обеспе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4676760" cy="28382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graphicFrame>
        <p:nvGraphicFramePr>
          <p:cNvPr id="149" name="Object 4"/>
          <p:cNvGraphicFramePr/>
          <p:nvPr/>
        </p:nvGraphicFramePr>
        <p:xfrm>
          <a:off x="3492360" y="3357720"/>
          <a:ext cx="5040360" cy="273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3357720"/>
                    <a:ext cx="5040360" cy="2732040"/>
                  </a:xfrm>
                  <a:prstGeom prst="rect">
                    <a:avLst/>
                  </a:prstGeom>
                  <a:ln w="324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абота с одарёнными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 мотивированными учащими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634920" y="1484280"/>
            <a:ext cx="49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учащихся являются стипендиатами районного исполнительного комитет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мированы Минским областным исполнительным комитетом,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ащихся - специальным фондом Президента Республики Беларусь по социальной поддержке одарённых учащихся и студентов (в 2010-2011 учебном году соответствен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,16,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пециальное образован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704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пециальное образован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6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7"/>
          <p:cNvSpPr/>
          <p:nvPr/>
        </p:nvSpPr>
        <p:spPr>
          <a:xfrm>
            <a:off x="3003480" y="2862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8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9916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пециальное образован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0" y="53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пециальное образование: нерешённые вопрос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36540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увеличить количество специальных   групп для детей дошкольного возраста с интеллектуальной недостаточностью,  отрыть  дополнительные пункты коррекционно-педагогической помощи в дошкольных учреждениях райо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36540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привести кабинеты учителей-дефектологов  в соответствие с  нормативными требова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36540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оснастить  опорные учреждения образования специальным оборудованием для детей с нарушением функций опорно-двигательного аппарата, совершенствовать содержание их работы.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Экспериментальная и инновационная деятельность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В районе рабо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1 экспериментальная и 1 инновационная площадки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, в работе которых были задействованы 18 педагогов из 2 учреждений образования (СШ №10 им. С. Ф. Рубанова и  гимназии №1 г. Слуц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" indent="34704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1 областной  педагогический 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5 педагогов из ДЦРР ясли-сада «Золотой ключик» г. Слуц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14 районных педагогических проектов по 7 направлениям в развитии дошкольного образования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(67 педагогов из 11 учреждений образ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спериментальная и инновационная деятельность: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</a:t>
            </a:r>
            <a:r>
              <a:rPr b="1" i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 2012/2013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должить экспериментальную и инновационную работу в учреждениях образования и создать условия для включения в неё других образовательных учреждений по актуальным для региона направл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еспечить курсовую подготовку педагогов  по инновационным направл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спериментальная и инновационная деятельность: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</a:t>
            </a:r>
            <a:r>
              <a:rPr b="1" i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 2012/2013 учебном году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раторам инновационных проектов оказывать адресную методическую помощь педагогам, которые осваивают то или иное инновационное направ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готовить публикации из опыта работы педагогов по реализуемому направ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атриотическое воспитан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800" spc="-1" strike="noStrike">
                <a:solidFill>
                  <a:srgbClr val="ffffff"/>
                </a:solidFill>
                <a:latin typeface="Arial"/>
              </a:rPr>
              <a:t>Клуб «Поиск» СШ №12 г. Слуц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211280" y="134100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Заслуживает внимания  опыт работы </a:t>
            </a:r>
            <a:r>
              <a:rPr b="1" lang="be-BY" sz="2800" spc="-1" strike="noStrike" u="sng">
                <a:solidFill>
                  <a:srgbClr val="000000"/>
                </a:solidFill>
                <a:uFillTx/>
                <a:latin typeface="Arial"/>
              </a:rPr>
              <a:t>клуба “Поиск” (рук. Черня-цова Лариса Анато-льевна).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300" spc="-1" strike="noStrike">
                <a:solidFill>
                  <a:srgbClr val="000000"/>
                </a:solidFill>
                <a:latin typeface="Arial"/>
              </a:rPr>
              <a:t>Школьники собирают материалы об узниках концлагеря для военно-пленных и гражданского населения, находившегося в годы войны на территории г. Слуцка. На сегодняшний день это самые полные и содержательные сведения о Слуцком концлагере.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ЕДКАДРЫ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(образовательный уровень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26920" y="1536840"/>
            <a:ext cx="7345440" cy="445932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Школьные музе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3241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учреждениях образования Слуцкого района функционирует 23 муз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ко-краеведческие –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ко-этнографические –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еи природы –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ей льна – 1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ей детского творчества –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ей «Пионерское объединение Случчины» -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3"/>
          <p:cNvSpPr/>
          <p:nvPr/>
        </p:nvSpPr>
        <p:spPr>
          <a:xfrm>
            <a:off x="5148360" y="2492280"/>
            <a:ext cx="214200" cy="201600"/>
          </a:xfrm>
          <a:custGeom>
            <a:avLst/>
            <a:gdLst>
              <a:gd name="textAreaLeft" fmla="*/ 66240 w 214200"/>
              <a:gd name="textAreaRight" fmla="*/ 147960 w 214200"/>
              <a:gd name="textAreaTop" fmla="*/ 77040 h 201600"/>
              <a:gd name="textAreaBottom" fmla="*/ 154080 h 201600"/>
            </a:gdLst>
            <a:ahLst/>
            <a:rect l="textAreaLeft" t="textAreaTop" r="textAreaRight" b="textAreaBottom"/>
            <a:pathLst>
              <a:path w="214312" h="201613">
                <a:moveTo>
                  <a:pt x="0" y="77009"/>
                </a:moveTo>
                <a:lnTo>
                  <a:pt x="81860" y="77010"/>
                </a:lnTo>
                <a:lnTo>
                  <a:pt x="107156" y="0"/>
                </a:lnTo>
                <a:lnTo>
                  <a:pt x="132452" y="77010"/>
                </a:lnTo>
                <a:lnTo>
                  <a:pt x="214312" y="77009"/>
                </a:lnTo>
                <a:lnTo>
                  <a:pt x="148085" y="124603"/>
                </a:lnTo>
                <a:lnTo>
                  <a:pt x="173382" y="201612"/>
                </a:lnTo>
                <a:lnTo>
                  <a:pt x="107156" y="154018"/>
                </a:lnTo>
                <a:lnTo>
                  <a:pt x="40930" y="201612"/>
                </a:lnTo>
                <a:lnTo>
                  <a:pt x="66227" y="1246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4"/>
          <p:cNvSpPr/>
          <p:nvPr/>
        </p:nvSpPr>
        <p:spPr>
          <a:xfrm>
            <a:off x="5148360" y="2997360"/>
            <a:ext cx="214200" cy="203040"/>
          </a:xfrm>
          <a:custGeom>
            <a:avLst/>
            <a:gdLst>
              <a:gd name="textAreaLeft" fmla="*/ 66240 w 214200"/>
              <a:gd name="textAreaRight" fmla="*/ 147960 w 214200"/>
              <a:gd name="textAreaTop" fmla="*/ 77400 h 203040"/>
              <a:gd name="textAreaBottom" fmla="*/ 155160 h 203040"/>
            </a:gdLst>
            <a:ahLst/>
            <a:rect l="textAreaLeft" t="textAreaTop" r="textAreaRight" b="textAreaBottom"/>
            <a:pathLst>
              <a:path w="214312" h="203200">
                <a:moveTo>
                  <a:pt x="0" y="77615"/>
                </a:moveTo>
                <a:lnTo>
                  <a:pt x="81860" y="77616"/>
                </a:lnTo>
                <a:lnTo>
                  <a:pt x="107156" y="0"/>
                </a:lnTo>
                <a:lnTo>
                  <a:pt x="132452" y="77616"/>
                </a:lnTo>
                <a:lnTo>
                  <a:pt x="214312" y="77615"/>
                </a:lnTo>
                <a:lnTo>
                  <a:pt x="148085" y="125584"/>
                </a:lnTo>
                <a:lnTo>
                  <a:pt x="173382" y="203199"/>
                </a:lnTo>
                <a:lnTo>
                  <a:pt x="107156" y="155230"/>
                </a:lnTo>
                <a:lnTo>
                  <a:pt x="40930" y="203199"/>
                </a:lnTo>
                <a:lnTo>
                  <a:pt x="66227" y="125584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5"/>
          <p:cNvSpPr/>
          <p:nvPr/>
        </p:nvSpPr>
        <p:spPr>
          <a:xfrm>
            <a:off x="5148360" y="3716280"/>
            <a:ext cx="214200" cy="203400"/>
          </a:xfrm>
          <a:custGeom>
            <a:avLst/>
            <a:gdLst>
              <a:gd name="textAreaLeft" fmla="*/ 66240 w 214200"/>
              <a:gd name="textAreaRight" fmla="*/ 147960 w 214200"/>
              <a:gd name="textAreaTop" fmla="*/ 77760 h 203400"/>
              <a:gd name="textAreaBottom" fmla="*/ 155520 h 203400"/>
            </a:gdLst>
            <a:ahLst/>
            <a:rect l="textAreaLeft" t="textAreaTop" r="textAreaRight" b="textAreaBottom"/>
            <a:pathLst>
              <a:path w="214312" h="203200">
                <a:moveTo>
                  <a:pt x="0" y="77615"/>
                </a:moveTo>
                <a:lnTo>
                  <a:pt x="81860" y="77616"/>
                </a:lnTo>
                <a:lnTo>
                  <a:pt x="107156" y="0"/>
                </a:lnTo>
                <a:lnTo>
                  <a:pt x="132452" y="77616"/>
                </a:lnTo>
                <a:lnTo>
                  <a:pt x="214312" y="77615"/>
                </a:lnTo>
                <a:lnTo>
                  <a:pt x="148085" y="125584"/>
                </a:lnTo>
                <a:lnTo>
                  <a:pt x="173382" y="203199"/>
                </a:lnTo>
                <a:lnTo>
                  <a:pt x="107156" y="155230"/>
                </a:lnTo>
                <a:lnTo>
                  <a:pt x="40930" y="203199"/>
                </a:lnTo>
                <a:lnTo>
                  <a:pt x="66227" y="12558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6"/>
          <p:cNvSpPr/>
          <p:nvPr/>
        </p:nvSpPr>
        <p:spPr>
          <a:xfrm>
            <a:off x="5148360" y="4005360"/>
            <a:ext cx="214200" cy="203040"/>
          </a:xfrm>
          <a:custGeom>
            <a:avLst/>
            <a:gdLst>
              <a:gd name="textAreaLeft" fmla="*/ 66240 w 214200"/>
              <a:gd name="textAreaRight" fmla="*/ 147960 w 214200"/>
              <a:gd name="textAreaTop" fmla="*/ 77400 h 203040"/>
              <a:gd name="textAreaBottom" fmla="*/ 155160 h 203040"/>
            </a:gdLst>
            <a:ahLst/>
            <a:rect l="textAreaLeft" t="textAreaTop" r="textAreaRight" b="textAreaBottom"/>
            <a:pathLst>
              <a:path w="214312" h="203200">
                <a:moveTo>
                  <a:pt x="0" y="77615"/>
                </a:moveTo>
                <a:lnTo>
                  <a:pt x="81860" y="77616"/>
                </a:lnTo>
                <a:lnTo>
                  <a:pt x="107156" y="0"/>
                </a:lnTo>
                <a:lnTo>
                  <a:pt x="132452" y="77616"/>
                </a:lnTo>
                <a:lnTo>
                  <a:pt x="214312" y="77615"/>
                </a:lnTo>
                <a:lnTo>
                  <a:pt x="148085" y="125584"/>
                </a:lnTo>
                <a:lnTo>
                  <a:pt x="173382" y="203199"/>
                </a:lnTo>
                <a:lnTo>
                  <a:pt x="107156" y="155230"/>
                </a:lnTo>
                <a:lnTo>
                  <a:pt x="40930" y="203199"/>
                </a:lnTo>
                <a:lnTo>
                  <a:pt x="66227" y="125584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7"/>
          <p:cNvSpPr/>
          <p:nvPr/>
        </p:nvSpPr>
        <p:spPr>
          <a:xfrm>
            <a:off x="5148360" y="3429000"/>
            <a:ext cx="214200" cy="201600"/>
          </a:xfrm>
          <a:custGeom>
            <a:avLst/>
            <a:gdLst>
              <a:gd name="textAreaLeft" fmla="*/ 66240 w 214200"/>
              <a:gd name="textAreaRight" fmla="*/ 147960 w 214200"/>
              <a:gd name="textAreaTop" fmla="*/ 77040 h 201600"/>
              <a:gd name="textAreaBottom" fmla="*/ 154080 h 201600"/>
            </a:gdLst>
            <a:ahLst/>
            <a:rect l="textAreaLeft" t="textAreaTop" r="textAreaRight" b="textAreaBottom"/>
            <a:pathLst>
              <a:path w="214312" h="201613">
                <a:moveTo>
                  <a:pt x="0" y="77009"/>
                </a:moveTo>
                <a:lnTo>
                  <a:pt x="81860" y="77010"/>
                </a:lnTo>
                <a:lnTo>
                  <a:pt x="107156" y="0"/>
                </a:lnTo>
                <a:lnTo>
                  <a:pt x="132452" y="77010"/>
                </a:lnTo>
                <a:lnTo>
                  <a:pt x="214312" y="77009"/>
                </a:lnTo>
                <a:lnTo>
                  <a:pt x="148085" y="124603"/>
                </a:lnTo>
                <a:lnTo>
                  <a:pt x="173382" y="201612"/>
                </a:lnTo>
                <a:lnTo>
                  <a:pt x="107156" y="154018"/>
                </a:lnTo>
                <a:lnTo>
                  <a:pt x="40930" y="201612"/>
                </a:lnTo>
                <a:lnTo>
                  <a:pt x="66227" y="124603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8"/>
          <p:cNvSpPr/>
          <p:nvPr/>
        </p:nvSpPr>
        <p:spPr>
          <a:xfrm>
            <a:off x="5148360" y="4508640"/>
            <a:ext cx="214200" cy="201600"/>
          </a:xfrm>
          <a:custGeom>
            <a:avLst/>
            <a:gdLst>
              <a:gd name="textAreaLeft" fmla="*/ 66240 w 214200"/>
              <a:gd name="textAreaRight" fmla="*/ 147960 w 214200"/>
              <a:gd name="textAreaTop" fmla="*/ 77040 h 201600"/>
              <a:gd name="textAreaBottom" fmla="*/ 154080 h 201600"/>
            </a:gdLst>
            <a:ahLst/>
            <a:rect l="textAreaLeft" t="textAreaTop" r="textAreaRight" b="textAreaBottom"/>
            <a:pathLst>
              <a:path w="214312" h="201613">
                <a:moveTo>
                  <a:pt x="0" y="77009"/>
                </a:moveTo>
                <a:lnTo>
                  <a:pt x="81860" y="77010"/>
                </a:lnTo>
                <a:lnTo>
                  <a:pt x="107156" y="0"/>
                </a:lnTo>
                <a:lnTo>
                  <a:pt x="132452" y="77010"/>
                </a:lnTo>
                <a:lnTo>
                  <a:pt x="214312" y="77009"/>
                </a:lnTo>
                <a:lnTo>
                  <a:pt x="148085" y="124603"/>
                </a:lnTo>
                <a:lnTo>
                  <a:pt x="173382" y="201612"/>
                </a:lnTo>
                <a:lnTo>
                  <a:pt x="107156" y="154018"/>
                </a:lnTo>
                <a:lnTo>
                  <a:pt x="40930" y="201612"/>
                </a:lnTo>
                <a:lnTo>
                  <a:pt x="66227" y="124603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bbb59"/>
              </a:gs>
            </a:gsLst>
            <a:lin ang="54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"/>
          <p:cNvGrpSpPr/>
          <p:nvPr/>
        </p:nvGrpSpPr>
        <p:grpSpPr>
          <a:xfrm>
            <a:off x="395280" y="1484280"/>
            <a:ext cx="4608360" cy="4392720"/>
            <a:chOff x="395280" y="1484280"/>
            <a:chExt cx="4608360" cy="4392720"/>
          </a:xfrm>
        </p:grpSpPr>
        <p:pic>
          <p:nvPicPr>
            <p:cNvPr id="307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608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AutoShape 12"/>
            <p:cNvSpPr/>
            <p:nvPr/>
          </p:nvSpPr>
          <p:spPr>
            <a:xfrm>
              <a:off x="2593800" y="433872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3"/>
            <p:cNvSpPr/>
            <p:nvPr/>
          </p:nvSpPr>
          <p:spPr>
            <a:xfrm>
              <a:off x="1662120" y="4248000"/>
              <a:ext cx="145800" cy="13932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3280 h 139320"/>
                <a:gd name="textAreaBottom" fmla="*/ 106560 h 139320"/>
              </a:gdLst>
              <a:ahLst/>
              <a:rect l="textAreaLeft" t="textAreaTop" r="textAreaRight" b="textAreaBottom"/>
              <a:pathLst>
                <a:path w="337" h="322">
                  <a:moveTo>
                    <a:pt x="0" y="123"/>
                  </a:moveTo>
                  <a:lnTo>
                    <a:pt x="129" y="123"/>
                  </a:lnTo>
                  <a:lnTo>
                    <a:pt x="169" y="0"/>
                  </a:lnTo>
                  <a:lnTo>
                    <a:pt x="208" y="123"/>
                  </a:lnTo>
                  <a:lnTo>
                    <a:pt x="337" y="123"/>
                  </a:lnTo>
                  <a:lnTo>
                    <a:pt x="233" y="199"/>
                  </a:lnTo>
                  <a:lnTo>
                    <a:pt x="273" y="322"/>
                  </a:lnTo>
                  <a:lnTo>
                    <a:pt x="169" y="246"/>
                  </a:lnTo>
                  <a:lnTo>
                    <a:pt x="64" y="322"/>
                  </a:lnTo>
                  <a:lnTo>
                    <a:pt x="104" y="1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4"/>
            <p:cNvSpPr/>
            <p:nvPr/>
          </p:nvSpPr>
          <p:spPr>
            <a:xfrm>
              <a:off x="1037880" y="397188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5"/>
            <p:cNvSpPr/>
            <p:nvPr/>
          </p:nvSpPr>
          <p:spPr>
            <a:xfrm>
              <a:off x="3133440" y="410976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6"/>
            <p:cNvSpPr/>
            <p:nvPr/>
          </p:nvSpPr>
          <p:spPr>
            <a:xfrm>
              <a:off x="2836800" y="527220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7"/>
            <p:cNvSpPr/>
            <p:nvPr/>
          </p:nvSpPr>
          <p:spPr>
            <a:xfrm>
              <a:off x="1037880" y="465444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8"/>
            <p:cNvSpPr/>
            <p:nvPr/>
          </p:nvSpPr>
          <p:spPr>
            <a:xfrm>
              <a:off x="1612440" y="480852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9"/>
            <p:cNvSpPr/>
            <p:nvPr/>
          </p:nvSpPr>
          <p:spPr>
            <a:xfrm>
              <a:off x="1272960" y="523080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0"/>
            <p:cNvSpPr/>
            <p:nvPr/>
          </p:nvSpPr>
          <p:spPr>
            <a:xfrm>
              <a:off x="2012760" y="205416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1"/>
            <p:cNvSpPr/>
            <p:nvPr/>
          </p:nvSpPr>
          <p:spPr>
            <a:xfrm>
              <a:off x="2739600" y="239256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22"/>
            <p:cNvSpPr/>
            <p:nvPr/>
          </p:nvSpPr>
          <p:spPr>
            <a:xfrm>
              <a:off x="2448000" y="445896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3"/>
            <p:cNvSpPr/>
            <p:nvPr/>
          </p:nvSpPr>
          <p:spPr>
            <a:xfrm>
              <a:off x="3646080" y="471960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4"/>
            <p:cNvSpPr/>
            <p:nvPr/>
          </p:nvSpPr>
          <p:spPr>
            <a:xfrm>
              <a:off x="2104920" y="358632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5"/>
            <p:cNvSpPr/>
            <p:nvPr/>
          </p:nvSpPr>
          <p:spPr>
            <a:xfrm>
              <a:off x="3038040" y="340524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6"/>
            <p:cNvSpPr/>
            <p:nvPr/>
          </p:nvSpPr>
          <p:spPr>
            <a:xfrm>
              <a:off x="2104920" y="205416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7"/>
            <p:cNvSpPr/>
            <p:nvPr/>
          </p:nvSpPr>
          <p:spPr>
            <a:xfrm>
              <a:off x="2158920" y="331452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28"/>
            <p:cNvSpPr/>
            <p:nvPr/>
          </p:nvSpPr>
          <p:spPr>
            <a:xfrm>
              <a:off x="4224240" y="387648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9"/>
            <p:cNvSpPr/>
            <p:nvPr/>
          </p:nvSpPr>
          <p:spPr>
            <a:xfrm>
              <a:off x="2593800" y="420048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0"/>
            <p:cNvSpPr/>
            <p:nvPr/>
          </p:nvSpPr>
          <p:spPr>
            <a:xfrm>
              <a:off x="2448000" y="4248000"/>
              <a:ext cx="145800" cy="13932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3280 h 139320"/>
                <a:gd name="textAreaBottom" fmla="*/ 106560 h 139320"/>
              </a:gdLst>
              <a:ahLst/>
              <a:rect l="textAreaLeft" t="textAreaTop" r="textAreaRight" b="textAreaBottom"/>
              <a:pathLst>
                <a:path w="337" h="322">
                  <a:moveTo>
                    <a:pt x="0" y="123"/>
                  </a:moveTo>
                  <a:lnTo>
                    <a:pt x="129" y="123"/>
                  </a:lnTo>
                  <a:lnTo>
                    <a:pt x="169" y="0"/>
                  </a:lnTo>
                  <a:lnTo>
                    <a:pt x="208" y="123"/>
                  </a:lnTo>
                  <a:lnTo>
                    <a:pt x="337" y="123"/>
                  </a:lnTo>
                  <a:lnTo>
                    <a:pt x="233" y="199"/>
                  </a:lnTo>
                  <a:lnTo>
                    <a:pt x="273" y="322"/>
                  </a:lnTo>
                  <a:lnTo>
                    <a:pt x="169" y="246"/>
                  </a:lnTo>
                  <a:lnTo>
                    <a:pt x="64" y="322"/>
                  </a:lnTo>
                  <a:lnTo>
                    <a:pt x="104" y="199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1"/>
            <p:cNvSpPr/>
            <p:nvPr/>
          </p:nvSpPr>
          <p:spPr>
            <a:xfrm>
              <a:off x="2739600" y="432144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32"/>
            <p:cNvSpPr/>
            <p:nvPr/>
          </p:nvSpPr>
          <p:spPr>
            <a:xfrm>
              <a:off x="2593800" y="4476960"/>
              <a:ext cx="145800" cy="13788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560 h 137880"/>
                <a:gd name="textAreaBottom" fmla="*/ 105480 h 13788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3"/>
            <p:cNvSpPr/>
            <p:nvPr/>
          </p:nvSpPr>
          <p:spPr>
            <a:xfrm>
              <a:off x="2931840" y="4458960"/>
              <a:ext cx="147240" cy="138240"/>
            </a:xfrm>
            <a:custGeom>
              <a:avLst/>
              <a:gdLst>
                <a:gd name="textAreaLeft" fmla="*/ 45360 w 147240"/>
                <a:gd name="textAreaRight" fmla="*/ 101880 w 14724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40" h="319">
                  <a:moveTo>
                    <a:pt x="0" y="122"/>
                  </a:moveTo>
                  <a:lnTo>
                    <a:pt x="130" y="122"/>
                  </a:lnTo>
                  <a:lnTo>
                    <a:pt x="170" y="0"/>
                  </a:lnTo>
                  <a:lnTo>
                    <a:pt x="210" y="122"/>
                  </a:lnTo>
                  <a:lnTo>
                    <a:pt x="340" y="122"/>
                  </a:lnTo>
                  <a:lnTo>
                    <a:pt x="235" y="197"/>
                  </a:lnTo>
                  <a:lnTo>
                    <a:pt x="275" y="319"/>
                  </a:lnTo>
                  <a:lnTo>
                    <a:pt x="170" y="244"/>
                  </a:lnTo>
                  <a:lnTo>
                    <a:pt x="65" y="319"/>
                  </a:lnTo>
                  <a:lnTo>
                    <a:pt x="105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4"/>
            <p:cNvSpPr/>
            <p:nvPr/>
          </p:nvSpPr>
          <p:spPr>
            <a:xfrm>
              <a:off x="1272960" y="4183200"/>
              <a:ext cx="145800" cy="138240"/>
            </a:xfrm>
            <a:custGeom>
              <a:avLst/>
              <a:gdLst>
                <a:gd name="textAreaLeft" fmla="*/ 45000 w 145800"/>
                <a:gd name="textAreaRight" fmla="*/ 100800 w 145800"/>
                <a:gd name="textAreaTop" fmla="*/ 52920 h 138240"/>
                <a:gd name="textAreaBottom" fmla="*/ 105840 h 138240"/>
              </a:gdLst>
              <a:ahLst/>
              <a:rect l="textAreaLeft" t="textAreaTop" r="textAreaRight" b="textAreaBottom"/>
              <a:pathLst>
                <a:path w="337" h="319">
                  <a:moveTo>
                    <a:pt x="0" y="122"/>
                  </a:moveTo>
                  <a:lnTo>
                    <a:pt x="129" y="122"/>
                  </a:lnTo>
                  <a:lnTo>
                    <a:pt x="169" y="0"/>
                  </a:lnTo>
                  <a:lnTo>
                    <a:pt x="208" y="122"/>
                  </a:lnTo>
                  <a:lnTo>
                    <a:pt x="337" y="122"/>
                  </a:lnTo>
                  <a:lnTo>
                    <a:pt x="233" y="197"/>
                  </a:lnTo>
                  <a:lnTo>
                    <a:pt x="273" y="319"/>
                  </a:lnTo>
                  <a:lnTo>
                    <a:pt x="169" y="244"/>
                  </a:lnTo>
                  <a:lnTo>
                    <a:pt x="64" y="319"/>
                  </a:lnTo>
                  <a:lnTo>
                    <a:pt x="104" y="197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ff99"/>
                </a:gs>
              </a:gsLst>
              <a:lin ang="5400000"/>
            </a:gra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Детские и молодёжные общественные объедин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684360" y="1450800"/>
            <a:ext cx="7704000" cy="46753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луцк – город,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дружественный детя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ружковая рабо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684360" y="1484280"/>
          <a:ext cx="7632720" cy="43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272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Здоровый образ жизни: проблемы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Учащиеся продолжают ку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За 1 полугодие  2012 года 25 учащихся задержаны в нетрезвом состоянии (за аналогичный период 2011 года –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Из 13 преступлений, совершенных учащимися школ района в 2011 году, 1 преступление совершено учащимся, находившимся  в состоянии алкогольного опья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Не в полной мере  используется потенциал  шестого школьного дня для приобщения учащихся к здоровому образу жизни через занятия физической культурой и спортом. Требует дальнейшего укрепления физкультурно-спортивная база учреждений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здоровление 201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539640" y="1484280"/>
          <a:ext cx="4319640" cy="31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4319640" cy="3121200"/>
                  </a:xfrm>
                  <a:prstGeom prst="rect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Object 4"/>
          <p:cNvGraphicFramePr/>
          <p:nvPr/>
        </p:nvGraphicFramePr>
        <p:xfrm>
          <a:off x="3564000" y="2994120"/>
          <a:ext cx="4967280" cy="302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994120"/>
                    <a:ext cx="4967280" cy="3025800"/>
                  </a:xfrm>
                  <a:prstGeom prst="rect">
                    <a:avLst/>
                  </a:prstGeom>
                  <a:ln w="2844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ето - 201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летних каникул было организо-ва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овых отрядов. Боле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трудились в составе сельскохозяйст-венных и волонтерских отрядов, строительных бригад, были заняты на предприятиях и в СП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Воспитательно-профилактическая работ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4538520" cy="32781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8589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6 месяцев 2012 года зарегистриров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преступ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3 участников), совершенных учащимися школ района (за 6 месяцев 2011 года – 4 пре-ступления, 4 участ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 случа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лкого хулиганства (в 2011 г. – 1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 algn="just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00"/>
                </a:solidFill>
                <a:latin typeface="Arial"/>
              </a:rPr>
              <a:t>25 учащихся задержаны в нетрезвом состоянии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(за аналогичный период 2011 года – 2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храна дет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тогам 2011 года 85,3% вновь выявленных детей-сирот устроены на семейные формы вос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действия Декрета Президента Республики Беларусь № 18 комплексную реабилитацию в приюте прошли 214 детей. Из них возвращены родителям 60%, определены в замещающие семьи 31%, в интернатные учреждения переданы 9 %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ведомственная работа, направленная на возврат государству денежных средств, позволила возместить обязанными лицами в 2011 году 72,4%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ЕДКАДРЫ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(квалификационный уровень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456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педагогов учреждений общего средн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ысшей и первой квалификационными категор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авля-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2010-2011 учебный год – 80,3%), педагогов дошкольных учреждений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,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57,9%), педагогов учреждений дополнитель-ного образовани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2,7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72,3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4538520" cy="275904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156" name="Rectangle 8"/>
          <p:cNvSpPr/>
          <p:nvPr/>
        </p:nvSpPr>
        <p:spPr>
          <a:xfrm>
            <a:off x="5148360" y="2133720"/>
            <a:ext cx="22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еют высшую категори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оспитательная работа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В 2012-2013 учебном году в вос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тательном процессе необходимо продолжить работу по решению следующи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повышение эффективности организации идеологической и воспитательной работы в учреждениях образования, дальнейшее развитие позитивных, общественно значимых молодёжных инициати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профилактика социального сиротства, устройство детей-сирот и детей, оставшихся без попечения родителей, на семейные формы воспитания, дальнейшая популяризация национального усыно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оспитательная работа: зада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В 2012-2013 учебном году в вос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be-BY" sz="2400" spc="-1" strike="noStrike" u="sng">
                <a:solidFill>
                  <a:srgbClr val="000000"/>
                </a:solidFill>
                <a:uFillTx/>
                <a:latin typeface="Arial"/>
              </a:rPr>
              <a:t>тательном процессе необходимо продолжить работу по решению следующи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совершенствование работы социально-педагогического центра по координации деятельности социально-педагогических и психологических служб учреждений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повышение роли семьи и ответственности родителей за воспитание детей, использование воспитательного потенциала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60043"/>
                </a:solidFill>
                <a:latin typeface="Arial"/>
              </a:rPr>
              <a:t>1 сентября – День зн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60043"/>
                </a:solidFill>
                <a:latin typeface="Arial"/>
              </a:rPr>
              <a:t>1 сентября – День зн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0043"/>
                </a:solidFill>
                <a:latin typeface="Arial"/>
              </a:rPr>
              <a:t>Учителя! Они как свет в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0043"/>
                </a:solidFill>
                <a:latin typeface="Arial"/>
              </a:rPr>
              <a:t>Какое ж нужно огненное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0043"/>
                </a:solidFill>
                <a:latin typeface="Arial"/>
              </a:rPr>
              <a:t>Иметь в груди, чтоб людям свет не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0043"/>
                </a:solidFill>
                <a:latin typeface="Arial"/>
              </a:rPr>
              <a:t>Чтоб след его вовек не мог стере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60043"/>
                </a:solidFill>
                <a:latin typeface="Arial"/>
              </a:rPr>
              <a:t>С новым учебным год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60043"/>
                </a:solidFill>
                <a:latin typeface="Arial"/>
              </a:rPr>
              <a:t>дорогие колле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ышение образовательного и профессионального уровня педагогов, совершенствование их деятельности по развитию интеллектуальных и творческих способностей  учащихся, воспитанию  у них гражданственности и патриотиз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риоритеты развити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ное обеспеч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кадр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сбережение участников образователь-ного процес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тиза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интеллектуальных и  творческих способностей одарённых  и мотивированных учащих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шная социализ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дровое обеспечение: пробл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жегодно в систему образования  приходят молодые специали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текущем году в район при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лодых специалистов п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ециальност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бходимо отметить, что   в учреждениях образования   по-прежнему не хватает специалистов 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зике, химии, математике, иностранн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ть необходимость 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подготовке кадр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востребованным специальностям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аче целевых направлений выпускникам сельских учреждений образов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ЕДКАДРЫ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(повышение квалификации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6360" y="2060640"/>
            <a:ext cx="3457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плана повышения квалифи-кации за 2011 год состави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2%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Проведено 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обуча-ющих семинаров (315 человек),  из них на платной основе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be-BY" sz="2000" spc="-1" strike="noStrike">
                <a:solidFill>
                  <a:srgbClr val="000000"/>
                </a:solidFill>
                <a:latin typeface="Arial"/>
              </a:rPr>
              <a:t> (175 чело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йонная методическая се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88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о и работает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4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йонных МО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4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школьных МО, а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ая группа учителей бел. языка и литературы «</a:t>
            </a:r>
            <a:r>
              <a:rPr b="0" lang="be-BY" sz="2000" spc="-1" strike="noStrike">
                <a:solidFill>
                  <a:srgbClr val="000000"/>
                </a:solidFill>
                <a:latin typeface="Times New Roman"/>
              </a:rPr>
              <a:t>Засвоім новы правапі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нсультацион-ных пунктов по разным предмета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школы молодого специалис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порных учреждений образовани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 передового опыта и творчески работающ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1:50Z</dcterms:created>
  <dc:creator>Александр Шилович</dc:creator>
  <dc:description/>
  <dc:language>en-US</dc:language>
  <cp:lastModifiedBy>Учитель</cp:lastModifiedBy>
  <dcterms:modified xsi:type="dcterms:W3CDTF">2012-09-13T09:57:20Z</dcterms:modified>
  <cp:revision>622</cp:revision>
  <dc:subject/>
  <dc:title>Слайд 1</dc:title>
</cp:coreProperties>
</file>