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0.png" ContentType="image/png"/>
  <Override PartName="/ppt/media/image7.jpeg" ContentType="image/jpeg"/>
  <Override PartName="/ppt/media/image12.jpeg" ContentType="image/jpeg"/>
  <Override PartName="/ppt/media/Vincent1.wav" ContentType="audio/x-wav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7926-CCFF-4B23-A988-3974FE19A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4CB1-E042-4176-BDE4-BCAA60FBF2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41F8-FD8B-4DD4-A13C-6F4FCA107A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E3E1-0CE8-4CEA-921C-1297E5EDCC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AE9C-9040-476E-A0A3-846E4DC7C3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520-4BFC-40AA-A9E9-7B9D36F2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AAD2-1F8B-425A-A1F5-FA5DB82F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CFB4-31C7-40D0-9A6C-70419C0A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CB5-16E8-4564-B1A7-D0AAF94D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34BD-0509-4214-9FBA-890A8132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C76-5289-4F5D-BC09-3AC712AD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4D70-38C1-4174-BECF-930A2EB3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BBF4-6019-4A0E-8852-0FBCAB0B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E51-2552-4F89-A6F8-67E75AF8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552-D7AB-4B09-A146-7FDED23C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B19-DE5C-4CC3-9ADB-4971179D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235-1546-4C99-8285-AEDB7E11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D9AE-E824-4FEF-A32C-AA73D628D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Vincent1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圖片 6" descr="0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圖片 17" descr="2.gif"/>
          <p:cNvPicPr/>
          <p:nvPr/>
        </p:nvPicPr>
        <p:blipFill>
          <a:blip r:embed="rId2"/>
          <a:stretch/>
        </p:blipFill>
        <p:spPr>
          <a:xfrm>
            <a:off x="1214280" y="6215040"/>
            <a:ext cx="900360" cy="22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59480" y="8366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0492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Rounded MT Bold"/>
                <a:ea typeface="宋体"/>
              </a:rPr>
              <a:t>The Secrets of Old Age</a:t>
            </a:r>
            <a:r>
              <a:rPr b="1" lang="en-US" sz="4400" spc="-1" strike="noStrike">
                <a:solidFill>
                  <a:srgbClr val="000099"/>
                </a:solidFill>
                <a:latin typeface="Arial Rounded MT Bold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out" orient="vert"/>
    <p:sndAc>
      <p:stSnd>
        <p:snd r:embed="rId3" name="Vincent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圖片 2" descr="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矩形 1"/>
          <p:cNvSpPr/>
          <p:nvPr/>
        </p:nvSpPr>
        <p:spPr>
          <a:xfrm>
            <a:off x="343080" y="1522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Rounded MT Bold"/>
                <a:ea typeface="宋体"/>
              </a:rPr>
              <a:t>Do not be afraid or worried when you are sick. </a:t>
            </a:r>
            <a:r>
              <a:rPr b="1" lang="en-US" sz="2400" spc="-1" strike="noStrike">
                <a:solidFill>
                  <a:srgbClr val="ffff66"/>
                </a:solidFill>
                <a:latin typeface="Arial Rounded MT Bold"/>
                <a:ea typeface="宋体"/>
              </a:rPr>
              <a:t>Settle all the outstanding issues before hand and you will be able to leave without regr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圖片 2" descr="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矩形 1"/>
          <p:cNvSpPr/>
          <p:nvPr/>
        </p:nvSpPr>
        <p:spPr>
          <a:xfrm>
            <a:off x="395280" y="228600"/>
            <a:ext cx="61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Rounded MT Bold"/>
                <a:ea typeface="宋体"/>
              </a:rPr>
              <a:t>Let the doctors handle your bod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Rounded MT Bold"/>
                <a:ea typeface="宋体"/>
              </a:rPr>
              <a:t>Let GOD / NATURE handle your lif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Rounded MT Bold"/>
                <a:ea typeface="宋体"/>
              </a:rPr>
              <a:t>But be in charge of your own moo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l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圖片 2" descr="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矩形 4"/>
          <p:cNvSpPr/>
          <p:nvPr/>
        </p:nvSpPr>
        <p:spPr>
          <a:xfrm>
            <a:off x="419040" y="22860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If worries can cure your sickness, then go ahead and worr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If worries can prolong your life, then go ahead and worr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If worries can exchange for happiness, then go ahead and worr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comb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圖片 2" descr="s_yiewwtip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矩形 1"/>
          <p:cNvSpPr/>
          <p:nvPr/>
        </p:nvSpPr>
        <p:spPr>
          <a:xfrm>
            <a:off x="0" y="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 Rounded MT Bold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ffff66"/>
                </a:solidFill>
                <a:latin typeface="Arial Rounded MT Bold"/>
                <a:ea typeface="宋体"/>
              </a:rPr>
              <a:t>Our kids will make their own fortune.</a:t>
            </a:r>
            <a:r>
              <a:rPr b="1" lang="en-US" sz="2400" spc="-1" strike="noStrike">
                <a:solidFill>
                  <a:srgbClr val="bbe0e3"/>
                </a:solidFill>
                <a:latin typeface="Calligraph421 BT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heel spokes="3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圖片 3" descr="0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4191120"/>
            <a:ext cx="86868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宋体"/>
              </a:rPr>
              <a:t> </a:t>
            </a:r>
            <a:r>
              <a:rPr b="1" lang="en-US" sz="1400" spc="-1" strike="noStrike" u="sng">
                <a:solidFill>
                  <a:srgbClr val="ffff00"/>
                </a:solidFill>
                <a:uFillTx/>
                <a:latin typeface="Arial Unicode MS"/>
                <a:ea typeface="宋体"/>
              </a:rPr>
              <a:t>Look After Four Old Treas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宋体"/>
              </a:rPr>
              <a:t>Your old body – pay more attention to health, you can only rely on yourself in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宋体"/>
              </a:rPr>
              <a:t>Retirement funds – money that you have earned, it is best to keep them yourse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宋体"/>
              </a:rPr>
              <a:t>Your old companion – treasure every moment with your other half, one of you will leave first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  <a:ea typeface="宋体"/>
              </a:rPr>
              <a:t>Your old friends – seize every opportunities to meet up with your friends, such opportunities will become rare as time goes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圖片 3" descr="0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矩形 1"/>
          <p:cNvSpPr/>
          <p:nvPr/>
        </p:nvSpPr>
        <p:spPr>
          <a:xfrm>
            <a:off x="380880" y="4114800"/>
            <a:ext cx="4648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 Rounded MT Bold"/>
                <a:ea typeface="宋体"/>
              </a:rPr>
              <a:t>Things You Must Do Everyd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  <a:ea typeface="宋体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Arial Rounded MT Bold"/>
                <a:ea typeface="宋体"/>
              </a:rPr>
              <a:t>Smile, and l</a:t>
            </a: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a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ligraph421 BT"/>
                <a:ea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newsflash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圖片 2" descr="0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矩形 1"/>
          <p:cNvSpPr/>
          <p:nvPr/>
        </p:nvSpPr>
        <p:spPr>
          <a:xfrm>
            <a:off x="0" y="129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  <a:ea typeface="宋体"/>
              </a:rPr>
              <a:t>Running water does not flow back. So is life, make it hap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mb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i17.tinypic.com/48zuno6.gif"/>
          <p:cNvPicPr/>
          <p:nvPr/>
        </p:nvPicPr>
        <p:blipFill>
          <a:blip r:embed="rId1"/>
          <a:stretch/>
        </p:blipFill>
        <p:spPr>
          <a:xfrm>
            <a:off x="1066680" y="3429000"/>
            <a:ext cx="7464600" cy="1401840"/>
          </a:xfrm>
          <a:prstGeom prst="rect">
            <a:avLst/>
          </a:prstGeom>
          <a:ln w="0">
            <a:noFill/>
          </a:ln>
        </p:spPr>
      </p:pic>
      <p:sp>
        <p:nvSpPr>
          <p:cNvPr id="88" name="文字方塊 8"/>
          <p:cNvSpPr/>
          <p:nvPr/>
        </p:nvSpPr>
        <p:spPr>
          <a:xfrm>
            <a:off x="0" y="17524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33ff"/>
                </a:solidFill>
                <a:latin typeface="Arial Rounded MT Bold"/>
                <a:ea typeface="標楷體"/>
              </a:rPr>
              <a:t>Bless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5000">
    <p:newsflash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圖片 3" descr="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1"/>
          <p:cNvSpPr/>
          <p:nvPr/>
        </p:nvSpPr>
        <p:spPr>
          <a:xfrm>
            <a:off x="380880" y="380880"/>
            <a:ext cx="57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Rounded MT Bold"/>
                <a:ea typeface="宋体"/>
              </a:rPr>
              <a:t>To All Retired Friend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圖片 6" descr="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7"/>
          <p:cNvSpPr/>
          <p:nvPr/>
        </p:nvSpPr>
        <p:spPr>
          <a:xfrm>
            <a:off x="-609480" y="0"/>
            <a:ext cx="63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  <a:ea typeface="宋体"/>
              </a:rPr>
              <a:t>Secrets of Life in 6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  <a:ea typeface="宋体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 Rounded MT Bold"/>
                <a:ea typeface="宋体"/>
              </a:rPr>
              <a:t>Before middle age – Do not f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ffff00"/>
                </a:solidFill>
                <a:latin typeface="Arial Rounded MT Bold"/>
                <a:ea typeface="宋体"/>
              </a:rPr>
              <a:t>After middle age – Do not regr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heel spokes="3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圖片 3" descr="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矩形 1"/>
          <p:cNvSpPr/>
          <p:nvPr/>
        </p:nvSpPr>
        <p:spPr>
          <a:xfrm>
            <a:off x="533520" y="457200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Rounded MT Bold"/>
                <a:ea typeface="宋体"/>
              </a:rPr>
              <a:t>Enjoy Your Life While You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Rounded MT Bold"/>
                <a:ea typeface="宋体"/>
              </a:rPr>
              <a:t>Do not wait till you cannot even walk just to be sorry a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Rounded MT Bold"/>
                <a:ea typeface="宋体"/>
              </a:rPr>
              <a:t>   </a:t>
            </a:r>
            <a:r>
              <a:rPr b="1" lang="en-US" sz="2000" spc="-1" strike="noStrike">
                <a:solidFill>
                  <a:srgbClr val="ffff99"/>
                </a:solidFill>
                <a:latin typeface="Arial Rounded MT Bold"/>
                <a:ea typeface="宋体"/>
              </a:rPr>
              <a:t>to regre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 Rounded MT Bold"/>
                <a:ea typeface="宋体"/>
              </a:rPr>
              <a:t>As long as it is physically possible, visit places you wish to vis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heel spokes="2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92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192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192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192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圖片 5" descr="16_L1TwRBk00qd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矩形 3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Rounded MT Bold"/>
                <a:ea typeface="宋体"/>
              </a:rPr>
              <a:t>When there is an opportunity, get together with old classmates, old colleagues &amp; old friends. The gathering is not just about eating, its just that there is not much time lef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omb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圖片 2" descr="0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1"/>
          <p:cNvSpPr/>
          <p:nvPr/>
        </p:nvSpPr>
        <p:spPr>
          <a:xfrm>
            <a:off x="662040" y="5303880"/>
            <a:ext cx="78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Rounded MT Bold"/>
                <a:ea typeface="宋体"/>
              </a:rPr>
              <a:t>Money kept in the banks may not be really y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Rounded MT Bold"/>
                <a:ea typeface="宋体"/>
              </a:rPr>
              <a:t>When it is time to spend, just spend, treat yourself well as you’re getting ol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newsflash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圖片 2" descr="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矩形 1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a9ad"/>
                </a:solidFill>
                <a:latin typeface="Arial Rounded MT Bold"/>
                <a:ea typeface="宋体"/>
              </a:rPr>
              <a:t>Whatever you feel like eating, just eat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a9ad"/>
                </a:solidFill>
                <a:latin typeface="Arial Rounded MT Bold"/>
                <a:ea typeface="宋体"/>
              </a:rPr>
              <a:t>It is most important to be happ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圖片 7" descr="036.JPG"/>
          <p:cNvPicPr/>
          <p:nvPr/>
        </p:nvPicPr>
        <p:blipFill>
          <a:blip r:embed="rId1"/>
          <a:stretch/>
        </p:blipFill>
        <p:spPr>
          <a:xfrm>
            <a:off x="4716360" y="549360"/>
            <a:ext cx="4140360" cy="3106800"/>
          </a:xfrm>
          <a:prstGeom prst="rect">
            <a:avLst/>
          </a:prstGeom>
          <a:ln w="0">
            <a:noFill/>
          </a:ln>
        </p:spPr>
      </p:pic>
      <p:pic>
        <p:nvPicPr>
          <p:cNvPr id="65" name="圖片 11" descr="2006110214044150682.jpg"/>
          <p:cNvPicPr/>
          <p:nvPr/>
        </p:nvPicPr>
        <p:blipFill>
          <a:blip r:embed="rId2"/>
          <a:stretch/>
        </p:blipFill>
        <p:spPr>
          <a:xfrm>
            <a:off x="395280" y="3789360"/>
            <a:ext cx="3718080" cy="27874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3226320" y="2971800"/>
            <a:ext cx="26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253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226320" y="2971800"/>
            <a:ext cx="26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253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711720" y="3245760"/>
            <a:ext cx="26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2538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0"/>
          <p:cNvSpPr/>
          <p:nvPr/>
        </p:nvSpPr>
        <p:spPr>
          <a:xfrm>
            <a:off x="0" y="0"/>
            <a:ext cx="4572000" cy="32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99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Rounded MT Bold"/>
                <a:ea typeface="宋体"/>
              </a:rPr>
              <a:t>Foods which are good for health – eat often and more but that is not every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999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 Rounded MT Bold"/>
                <a:ea typeface="宋体"/>
              </a:rPr>
              <a:t>2.  Things which are not good for health – eat less once a while but do not abstain from them to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9999"/>
                </a:solidFill>
                <a:latin typeface="BrodyD"/>
                <a:ea typeface="標楷體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圖片 6" descr="035.JPG"/>
          <p:cNvPicPr/>
          <p:nvPr/>
        </p:nvPicPr>
        <p:blipFill>
          <a:blip r:embed="rId3"/>
          <a:stretch/>
        </p:blipFill>
        <p:spPr>
          <a:xfrm>
            <a:off x="4788000" y="3789360"/>
            <a:ext cx="3571920" cy="2857680"/>
          </a:xfrm>
          <a:prstGeom prst="rect">
            <a:avLst/>
          </a:prstGeom>
          <a:ln w="0">
            <a:noFill/>
          </a:ln>
        </p:spPr>
      </p:pic>
    </p:spTree>
  </p:cSld>
  <p:transition advTm="18000">
    <p:cover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圖片 3" descr="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矩形 1"/>
          <p:cNvSpPr/>
          <p:nvPr/>
        </p:nvSpPr>
        <p:spPr>
          <a:xfrm>
            <a:off x="0" y="59421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ffff"/>
                </a:solidFill>
                <a:latin typeface="標楷體"/>
                <a:ea typeface="標楷體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 Rounded MT Bold"/>
                <a:ea typeface="宋体"/>
              </a:rPr>
              <a:t>Treat sickness with optimism. Whether you are poor or rich. Everyone has to go through  birth, aging, sickness and death. There is no exception, that’s lif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heel spokes="1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15:21:16Z</dcterms:created>
  <dc:creator>Liew KC</dc:creator>
  <dc:description/>
  <dc:language>en-US</dc:language>
  <cp:lastModifiedBy>Bob Fritz</cp:lastModifiedBy>
  <dcterms:modified xsi:type="dcterms:W3CDTF">2010-03-31T18:39:58Z</dcterms:modified>
  <cp:revision>22</cp:revision>
  <dc:subject/>
  <dc:title>Slide 1</dc:title>
</cp:coreProperties>
</file>