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6533D2D-161F-4EA1-9B36-6DE38EF54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F0C6DA-43F5-4CB7-94B5-6426E1031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352DF3-146D-4D20-B8FA-DE9A7F463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07B203-DA23-45CC-8F18-ACBC4B393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FBF84-0E65-40F5-A876-AFF4150C7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F5C56-09A6-45F3-85C4-E734A48F9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65598-FB0C-4C6F-96DE-191B11E5B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1757F-6148-4973-9E35-1A070B541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C4BD2-DFF5-4013-B7DA-C360FA803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072A1-F2D3-49B0-82E3-0275FED54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696AC-CA8E-4788-A4C9-0D6099FFB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9933E78-3CA6-43D5-9FBC-9FBF59909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2E95A-A030-44D9-AF1A-0B3EF92A6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D596C-54D8-45B2-93A9-3E04429DE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89F09-D38A-4E3E-9969-21AA60AED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DD5E2-5CE6-48F4-A35F-DEC5F01E1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A423D-D7B1-40CB-8F84-743A32BA5B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FD0A2F-3426-47DE-BA78-40519CE43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C338F3-DF95-468C-BD62-630BBF016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69C29F-5D57-4B63-9E79-5710B2DE5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9015BE-4519-43EE-90C8-0B85B7E9F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354AA2-340B-45A3-B60A-426E7C0CE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8B2C73-6DD8-48DA-862C-EEA79E71C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D8ED9F-6E24-4E17-8449-4B3FB6ECC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7886-B317-4793-99EE-7EE8A434BC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5C92-5A34-406F-83C5-D8FA78FC17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utdallas.edu/~gupta/courses/apl/lambda.pdf"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ea typeface="SimSun"/>
              </a:rPr>
              <a:t>Introduction to Functional Programming</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 1 – The Basic Concepts</a:t>
            </a:r>
            <a:endParaRPr b="0" lang="en-US" sz="3200" spc="-1" strike="noStrike">
              <a:solidFill>
                <a:srgbClr val="ffffff"/>
              </a:solidFill>
              <a:latin typeface="Garamond"/>
            </a:endParaRPr>
          </a:p>
        </p:txBody>
      </p:sp>
      <p:sp>
        <p:nvSpPr>
          <p:cNvPr id="102" name=""/>
          <p:cNvSpPr/>
          <p:nvPr/>
        </p:nvSpPr>
        <p:spPr>
          <a:xfrm>
            <a:off x="6485040" y="5684760"/>
            <a:ext cx="170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Winter You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2012-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urrying</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A -&gt; B -&gt; C -&gt; D =&gt; A -&gt; (B -&gt; (C -&gt; D))</a:t>
            </a:r>
            <a:endParaRPr b="0" lang="en-US" sz="2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Scala Example</a:t>
            </a:r>
            <a:endParaRPr b="0" lang="en-US" sz="28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a: Int)(b: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a + b</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val increment = add(1) _</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2)) // 3</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addN(n: Int) = {</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  </a:t>
            </a:r>
            <a:r>
              <a:rPr b="0" lang="en-US" sz="1600" spc="-1" strike="noStrike">
                <a:solidFill>
                  <a:srgbClr val="ffffff"/>
                </a:solidFill>
                <a:latin typeface="Courier New"/>
                <a:ea typeface="SimSun"/>
              </a:rPr>
              <a:t>m: Int =&gt; add(n)(m)</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def incrementV2 = addN(1)</a:t>
            </a:r>
            <a:endParaRPr b="0" lang="en-US" sz="1600" spc="-1" strike="noStrike">
              <a:solidFill>
                <a:srgbClr val="ffffff"/>
              </a:solidFill>
              <a:latin typeface="Garamond"/>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ea typeface="SimSun"/>
              </a:rPr>
              <a:t>println(incrementV2(2))</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Higher-order Functions (Functors)</a:t>
            </a:r>
            <a:endParaRPr b="1" lang="en-US" sz="40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take other functions as input or output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ypical usage: collection manipul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order functi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igher-higher-higher-…-higher-order-func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ommon Collection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ke, takeWhile, drop, dropWhil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reach, map, flatma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oldLeft, foldRight, redu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il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artition, sliding/interleav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zip</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ursion</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ubstitution to lo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ail Call Optimization (TC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Natural to divide-conquer-merge paradigm and self reference defini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rampoli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Quicksor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quicksort[T](lst: List[T</a:t>
            </a:r>
            <a:r>
              <a:rPr b="0" lang="en-US" sz="1800" spc="-1" strike="noStrike">
                <a:solidFill>
                  <a:srgbClr val="ffffff"/>
                </a:solidFill>
                <a:latin typeface="Courier New"/>
                <a:ea typeface="SimSun"/>
              </a:rPr>
              <a:t>])</a:t>
            </a:r>
            <a:r>
              <a:rPr b="0" lang="en-US" sz="1800" spc="-1" strike="noStrike">
                <a:solidFill>
                  <a:srgbClr val="ffffff"/>
                </a:solidFill>
                <a:latin typeface="Courier New"/>
              </a:rPr>
              <a:t>: List[T] =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st match {</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Nil =&gt; Nil</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ase pivot :: rst =&g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val (smaller, bigger) = rst.partition(_ &lt;= pivo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quicksort(smaller) ::: pivot :: quicksort(bigger)</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 b: In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Stream.cons(a,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fib(</a:t>
            </a:r>
            <a:r>
              <a:rPr b="0" lang="en-US" sz="2000" spc="-1" strike="noStrike">
                <a:solidFill>
                  <a:srgbClr val="ffffff"/>
                </a:solidFill>
                <a:latin typeface="Courier New"/>
                <a:ea typeface="SimSun"/>
              </a:rPr>
              <a:t>0, 1</a:t>
            </a:r>
            <a:r>
              <a:rPr b="0" lang="en-US" sz="2000" spc="-1" strike="noStrike">
                <a:solidFill>
                  <a:srgbClr val="ffffff"/>
                </a:solidFill>
                <a:latin typeface="Courier New"/>
              </a:rPr>
              <a:t>).take(10).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Clojure</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clare funa funb)</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tru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defn </a:t>
            </a:r>
            <a:r>
              <a:rPr b="0" lang="pt-BR" sz="2000" spc="-1" strike="noStrike">
                <a:solidFill>
                  <a:srgbClr val="ffffff"/>
                </a:solidFill>
                <a:latin typeface="Courier New"/>
                <a:ea typeface="SimSun"/>
              </a:rPr>
              <a:t>is-odd</a:t>
            </a:r>
            <a:r>
              <a:rPr b="0" lang="pt-BR" sz="2000" spc="-1" strike="noStrike">
                <a:solidFill>
                  <a:srgbClr val="ffffff"/>
                </a:solidFill>
                <a:latin typeface="Courier New"/>
              </a:rPr>
              <a:t> [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if (= n 0)</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ea typeface="SimSun"/>
              </a:rPr>
              <a:t>fals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Courier New"/>
              </a:rPr>
              <a:t>    </a:t>
            </a:r>
            <a:r>
              <a:rPr b="0" lang="pt-BR" sz="2000" spc="-1" strike="noStrike">
                <a:solidFill>
                  <a:srgbClr val="ffffff"/>
                </a:solidFill>
                <a:latin typeface="Courier New"/>
              </a:rPr>
              <a:t>#(</a:t>
            </a:r>
            <a:r>
              <a:rPr b="0" lang="pt-BR" sz="2000" spc="-1" strike="noStrike">
                <a:solidFill>
                  <a:srgbClr val="ffffff"/>
                </a:solidFill>
                <a:latin typeface="Courier New"/>
                <a:ea typeface="SimSun"/>
              </a:rPr>
              <a:t>is-even</a:t>
            </a:r>
            <a:r>
              <a:rPr b="0" lang="pt-BR" sz="2000" spc="-1" strike="noStrike">
                <a:solidFill>
                  <a:srgbClr val="ffffff"/>
                </a:solidFill>
                <a:latin typeface="Courier New"/>
              </a:rPr>
              <a:t> (dec n))))</a:t>
            </a: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 </a:t>
            </a:r>
            <a:r>
              <a:rPr b="0" lang="en-US" sz="2000" spc="-1" strike="noStrike">
                <a:solidFill>
                  <a:srgbClr val="ffffff"/>
                </a:solidFill>
                <a:latin typeface="Courier New"/>
                <a:ea typeface="SimSun"/>
              </a:rPr>
              <a:t>is-even</a:t>
            </a:r>
            <a:r>
              <a:rPr b="0" lang="en-US" sz="2000" spc="-1" strike="noStrike">
                <a:solidFill>
                  <a:srgbClr val="ffffff"/>
                </a:solidFill>
                <a:latin typeface="Courier New"/>
              </a:rPr>
              <a:t> 100000)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Clojure</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defn trampol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let [ret (f)]</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if (fn?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cur 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re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f &amp; arg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Courier New"/>
              </a:rPr>
              <a:t>     </a:t>
            </a:r>
            <a:r>
              <a:rPr b="0" lang="da-DK" sz="2400" spc="-1" strike="noStrike">
                <a:solidFill>
                  <a:srgbClr val="ffffff"/>
                </a:solidFill>
                <a:latin typeface="Courier New"/>
              </a:rPr>
              <a:t>(trampoline #(apply f ar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Example in Scala</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even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tru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odd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odd2(n: Int): Bounce[Boolean] = {</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f (n == 0) Done(false)</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else Call(() =&gt; even2(n - 1))</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trampoline(even2(9999))</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Trampoline Impl. in Scala</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aled trait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Done[A](result: 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case class Call[A](thunk: () =&gt; Bounce[A]) extends Bounce[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trampoline[A](bounce: Bounce[A]): A = bounce match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Call(thunk) =&gt; trampoline(thunk())</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ase Done(x) =&gt; x</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gend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Defini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Popular FP language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irst-class functions</a:t>
            </a:r>
            <a:endParaRPr b="0" lang="en-US" sz="28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lambda express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Higher-order function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losur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Currying</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mmon collection operation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Immutabilit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Recurs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azy evaluat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zy Evaluation</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unk</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 thunk </a:t>
            </a:r>
            <a:r>
              <a:rPr b="0" lang="en-US" sz="2400" spc="-1" strike="noStrike">
                <a:solidFill>
                  <a:srgbClr val="ffffff"/>
                </a:solidFill>
                <a:latin typeface="Garamond"/>
              </a:rPr>
              <a:t>is a parameterless closure created to prevent the evaluation of an expression until forced at a later time</a:t>
            </a:r>
            <a:endParaRPr b="0" lang="en-US" sz="24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ef delay[U](</a:t>
            </a:r>
            <a:r>
              <a:rPr b="0" lang="en-US" sz="1800" spc="-1" strike="noStrike">
                <a:solidFill>
                  <a:srgbClr val="ffffff"/>
                </a:solidFill>
                <a:latin typeface="Courier New"/>
                <a:ea typeface="SimSun"/>
              </a:rPr>
              <a:t>thunk</a:t>
            </a:r>
            <a:r>
              <a:rPr b="0" lang="en-US" sz="1800" spc="-1" strike="noStrike">
                <a:solidFill>
                  <a:srgbClr val="ffffff"/>
                </a:solidFill>
                <a:latin typeface="Courier New"/>
              </a:rPr>
              <a:t>: =&gt; U) =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gt; </a:t>
            </a:r>
            <a:r>
              <a:rPr b="0" lang="en-US" sz="1800" spc="-1" strike="noStrike">
                <a:solidFill>
                  <a:srgbClr val="ffffff"/>
                </a:solidFill>
                <a:latin typeface="Courier New"/>
                <a:ea typeface="SimSun"/>
              </a:rPr>
              <a:t>thunk</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val hello = delay {</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println("Hello world")</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println("God said, there shall be light.")</a:t>
            </a:r>
            <a:endParaRPr b="0" lang="en-US" sz="1800" spc="-1" strike="noStrike">
              <a:solidFill>
                <a:srgbClr val="ffffff"/>
              </a:solidFill>
              <a:latin typeface="Garamond"/>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ello()</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Natural Numbers</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val N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ef buildNatural(from: Int = 1):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from #:: buildNatural(from + 1)</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buildNatural()</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println(N.take(5).toLis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a:off x="533520" y="4038480"/>
            <a:ext cx="35812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bonacci Sequence Revisited</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ef fib(a: Int</a:t>
            </a:r>
            <a:r>
              <a:rPr b="0" lang="en-US" sz="2000" spc="-1" strike="noStrike">
                <a:solidFill>
                  <a:srgbClr val="ffffff"/>
                </a:solidFill>
                <a:latin typeface="Courier New"/>
                <a:ea typeface="SimSun"/>
              </a:rPr>
              <a:t> = 0</a:t>
            </a:r>
            <a:r>
              <a:rPr b="0" lang="en-US" sz="2000" spc="-1" strike="noStrike">
                <a:solidFill>
                  <a:srgbClr val="ffffff"/>
                </a:solidFill>
                <a:latin typeface="Courier New"/>
              </a:rPr>
              <a:t>, b: Int</a:t>
            </a:r>
            <a:r>
              <a:rPr b="0" lang="en-US" sz="2000" spc="-1" strike="noStrike">
                <a:solidFill>
                  <a:srgbClr val="ffffff"/>
                </a:solidFill>
                <a:latin typeface="Courier New"/>
                <a:ea typeface="SimSun"/>
              </a:rPr>
              <a:t> = 1</a:t>
            </a:r>
            <a:r>
              <a:rPr b="0" lang="en-US" sz="2000" spc="-1" strike="noStrike">
                <a:solidFill>
                  <a:srgbClr val="ffffff"/>
                </a:solidFill>
                <a:latin typeface="Courier New"/>
              </a:rPr>
              <a:t>): Stream[Int] =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 #:: fib(b, a + b)</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a:t>
            </a:r>
            <a:endParaRPr b="0" lang="en-US" sz="2000" spc="-1" strike="noStrike">
              <a:solidFill>
                <a:srgbClr val="ffffff"/>
              </a:solidFill>
              <a:latin typeface="Garamond"/>
            </a:endParaRPr>
          </a:p>
        </p:txBody>
      </p:sp>
      <p:sp>
        <p:nvSpPr>
          <p:cNvPr id="146" name=""/>
          <p:cNvSpPr/>
          <p:nvPr/>
        </p:nvSpPr>
        <p:spPr>
          <a:xfrm>
            <a:off x="8380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Int</a:t>
            </a:r>
            <a:endParaRPr b="0" lang="en-US" sz="1800" spc="-1" strike="noStrike">
              <a:solidFill>
                <a:srgbClr val="ffffff"/>
              </a:solidFill>
              <a:latin typeface="Arial"/>
            </a:endParaRPr>
          </a:p>
        </p:txBody>
      </p:sp>
      <p:sp>
        <p:nvSpPr>
          <p:cNvPr id="147" name=""/>
          <p:cNvSpPr/>
          <p:nvPr/>
        </p:nvSpPr>
        <p:spPr>
          <a:xfrm>
            <a:off x="1981080" y="4572000"/>
            <a:ext cx="1828800" cy="9144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209680" y="4800600"/>
            <a:ext cx="533520" cy="4572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732040" y="48769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lambda</a:t>
            </a:r>
            <a:endParaRPr b="0" lang="en-US" sz="1800" spc="-1" strike="noStrike">
              <a:solidFill>
                <a:srgbClr val="ffffff"/>
              </a:solidFill>
              <a:latin typeface="Arial"/>
            </a:endParaRPr>
          </a:p>
        </p:txBody>
      </p:sp>
      <p:sp>
        <p:nvSpPr>
          <p:cNvPr id="150" name=""/>
          <p:cNvSpPr/>
          <p:nvPr/>
        </p:nvSpPr>
        <p:spPr>
          <a:xfrm>
            <a:off x="521280" y="4008600"/>
            <a:ext cx="114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sp>
        <p:nvSpPr>
          <p:cNvPr id="151" name=""/>
          <p:cNvSpPr/>
          <p:nvPr/>
        </p:nvSpPr>
        <p:spPr>
          <a:xfrm>
            <a:off x="4343400" y="4038480"/>
            <a:ext cx="3352680" cy="1752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Cons Cell</a:t>
            </a:r>
            <a:endParaRPr b="0" lang="en-US" sz="1800" spc="-1" strike="noStrike">
              <a:solidFill>
                <a:srgbClr val="ffffff"/>
              </a:solidFill>
              <a:latin typeface="Arial"/>
            </a:endParaRPr>
          </a:p>
        </p:txBody>
      </p:sp>
      <p:cxnSp>
        <p:nvCxnSpPr>
          <p:cNvPr id="152" name=""/>
          <p:cNvCxnSpPr>
            <a:stCxn id="148" idx="0"/>
            <a:endCxn id="151" idx="0"/>
          </p:cNvCxnSpPr>
          <p:nvPr/>
        </p:nvCxnSpPr>
        <p:spPr>
          <a:xfrm flipH="1" flipV="1" rot="5400000">
            <a:off x="3866760" y="2647080"/>
            <a:ext cx="762840" cy="3544200"/>
          </a:xfrm>
          <a:prstGeom prst="curvedConnector5">
            <a:avLst>
              <a:gd name="adj1" fmla="val 129981"/>
              <a:gd name="adj2" fmla="val 50000"/>
              <a:gd name="adj3" fmla="val 12998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 Contrived Example</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a:t>
            </a:r>
            <a:r>
              <a:rPr b="0" lang="en-US" sz="1600" spc="-1" strike="noStrike">
                <a:solidFill>
                  <a:srgbClr val="ffffff"/>
                </a:solidFill>
                <a:latin typeface="Courier New"/>
                <a:ea typeface="SimSun"/>
              </a:rPr>
              <a:t>nat</a:t>
            </a:r>
            <a:r>
              <a:rPr b="0" lang="en-US" sz="1600" spc="-1" strike="noStrike">
                <a:solidFill>
                  <a:srgbClr val="ffffff"/>
                </a:solidFill>
                <a:latin typeface="Courier New"/>
              </a:rPr>
              <a: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Int = 1):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om #::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from +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ea typeface="SimSun"/>
              </a:rPr>
              <a:t>gen</a:t>
            </a:r>
            <a:r>
              <a:rPr b="0" lang="en-US" sz="1600" spc="-1" strike="noStrike">
                <a:solidFill>
                  <a:srgbClr val="ffffff"/>
                </a:solidFill>
                <a:latin typeface="Courier New"/>
              </a:rPr>
              <a:t>Natural()</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 fib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def genFib(a: Int, b: Int): Stream[Int] =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genFib(b, 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genFib(0, 1)</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intln(</a:t>
            </a:r>
            <a:r>
              <a:rPr b="0" lang="en-US" sz="1600" spc="-1" strike="noStrike">
                <a:solidFill>
                  <a:srgbClr val="ffffff"/>
                </a:solidFill>
                <a:latin typeface="Courier New"/>
                <a:ea typeface="SimSun"/>
              </a:rPr>
              <a:t>nat</a:t>
            </a:r>
            <a:r>
              <a:rPr b="0" lang="en-US" sz="1600" spc="-1" strike="noStrike">
                <a:solidFill>
                  <a:srgbClr val="ffffff"/>
                </a:solidFill>
                <a:latin typeface="Courier New"/>
              </a:rPr>
              <a:t>.zip(fib).map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case (a, b) =&g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 + b</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ter(_ % 2 == 0).take(5).toLis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Immutability</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ferential Transparency</a:t>
            </a:r>
            <a:endParaRPr b="0" lang="en-US" sz="32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expression is said to be referentially transparent if it can be replaced with its value without changing the behavior of a program</a:t>
            </a:r>
            <a:endParaRPr b="0" lang="en-US" sz="28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an you tell the difference between read only variables and immutable object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 if a language doesn’t allow you to make assignm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ure and Lazy</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skel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ll expressions are laz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assignments are allowe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No side effects are allowed</a:t>
            </a:r>
            <a:endParaRPr b="0" lang="en-US" sz="2800" spc="-1" strike="noStrike">
              <a:solidFill>
                <a:srgbClr val="ffffff"/>
              </a:solidFill>
              <a:latin typeface="Garamond"/>
            </a:endParaRPr>
          </a:p>
          <a:p>
            <a:pPr marL="343080" indent="-343080">
              <a:spcBef>
                <a:spcPts val="799"/>
              </a:spcBef>
              <a:buClr>
                <a:srgbClr val="ffcc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ynamic instruction reorder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To achieve side effects: IO Monad, Writer Mona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Advanced Topics</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Monad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ist/monad comprehen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ntinuation/Continuation Passing Style (C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ctor mode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routin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Reactive mode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What’s in FP for me?</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acticing mind gymnastics, preventing Alzheimer’s dementia</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Basic ideas can improve implementation code</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Advanced ideas can effect design decis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edicting trend of language evolvement</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Having more tools when confronting the challenge of parallelism and non-linear computations</a:t>
            </a:r>
            <a:endParaRPr b="0" lang="en-US" sz="3200" spc="-1" strike="noStrike">
              <a:solidFill>
                <a:srgbClr val="ffffff"/>
              </a:solidFill>
              <a:latin typeface="Garamond"/>
            </a:endParaRPr>
          </a:p>
          <a:p>
            <a:pPr marL="308520" indent="-3085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nriching your pattern reposito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Choosing Your Favorite Language</a:t>
            </a:r>
            <a:endParaRPr b="1" lang="en-US" sz="4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Low barri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omprehensive libraries &amp; active commun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Extensible syntax</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ong typ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Or maybe just 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Recommended Reading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Structure and Interpretation of Computer Pro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cepts, Techniques and Models of Computer Programming</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Programming in Scala, 2nd Editi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nadic Parser Combinator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mplementing First-Class Polymorphic Delimited Continuations by a Type-Directed Selective CPS-Transfo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Definition</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computer science, functional programming is a programming paradigm that treats </a:t>
            </a:r>
            <a:r>
              <a:rPr b="0" lang="en-US" sz="2400" spc="-1" strike="noStrike">
                <a:solidFill>
                  <a:srgbClr val="ffffff"/>
                </a:solidFill>
                <a:latin typeface="Garamond"/>
                <a:ea typeface="SimSun"/>
              </a:rPr>
              <a:t>c</a:t>
            </a:r>
            <a:r>
              <a:rPr b="0" lang="en-US" sz="2400" spc="-1" strike="noStrike">
                <a:solidFill>
                  <a:srgbClr val="ffffff"/>
                </a:solidFill>
                <a:latin typeface="Garamond"/>
              </a:rPr>
              <a:t>omputation as the evaluation of mathematical functions and avoids state and mutable data</a:t>
            </a:r>
            <a:r>
              <a:rPr b="0" lang="en-US" sz="2400" spc="-1" strike="noStrike">
                <a:solidFill>
                  <a:srgbClr val="ffffff"/>
                </a:solidFill>
                <a:latin typeface="Garamond"/>
                <a:ea typeface="SimSun"/>
              </a:rPr>
              <a:t>. (Wikiped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functional programming, programs are executed by evaluating expressions, in contrast with imperative programming where programs are composed of statements which change global state when executed. Functional programming typically avoids using mutable state.</a:t>
            </a:r>
            <a:r>
              <a:rPr b="0" lang="en-US" sz="2400" spc="-1" strike="noStrike">
                <a:solidFill>
                  <a:srgbClr val="ffffff"/>
                </a:solidFill>
                <a:latin typeface="Garamond"/>
                <a:ea typeface="SimSun"/>
              </a:rPr>
              <a:t> (Haskell Wiki)</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adly speaking, functional programming is a style of programming in which the primary method of computation is the application of functions to arguments.</a:t>
            </a:r>
            <a:r>
              <a:rPr b="0" lang="en-US" sz="2400" spc="-1" strike="noStrike">
                <a:solidFill>
                  <a:srgbClr val="ffffff"/>
                </a:solidFill>
                <a:latin typeface="Garamond"/>
                <a:ea typeface="SimSun"/>
              </a:rPr>
              <a:t> (University of Nottingham)</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ea typeface="SimSun"/>
              </a:rPr>
              <a:t>Q/A</a:t>
            </a:r>
            <a:endParaRPr b="1" lang="en-US" sz="6000" spc="-1" strike="noStrike">
              <a:solidFill>
                <a:srgbClr val="e5e5ff"/>
              </a:solidFill>
              <a:latin typeface="Garamond"/>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txBox="1"/>
          <p:nvPr/>
        </p:nvSpPr>
        <p:spPr>
          <a:xfrm>
            <a:off x="3162240" y="3106800"/>
            <a:ext cx="2819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Popular FP Language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Pure Functional:</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LISP</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Scheme, Common LISP, Clojure</a:t>
            </a:r>
            <a:endParaRPr b="0" lang="en-US" sz="18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Haskell</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Erlang</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O’Caml (ML)</a:t>
            </a:r>
            <a:endParaRPr b="0" lang="en-US" sz="2000" spc="-1" strike="noStrike">
              <a:solidFill>
                <a:srgbClr val="ffffff"/>
              </a:solidFill>
              <a:latin typeface="Garamond"/>
            </a:endParaRPr>
          </a:p>
          <a:p>
            <a:pPr lvl="2" marL="1143000" indent="-228600">
              <a:lnSpc>
                <a:spcPct val="8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SimSun"/>
              </a:rPr>
              <a:t>F#</a:t>
            </a:r>
            <a:endParaRPr b="0" lang="en-US" sz="1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OO-FP</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Ruby</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Scala</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C#</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t>
            </a: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ea typeface="SimSun"/>
              </a:rPr>
              <a:t>JavaScript</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SimSun"/>
              </a:rPr>
              <a:t>All have a garbage collecto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First-class Func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Defini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stored as data structures do</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passed to other function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returned from other function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What’s the de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We can model comput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Expression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Theory originated from Lambda Calculus. </a:t>
            </a:r>
            <a:r>
              <a:rPr b="0" lang="en-US" sz="2800" spc="-1" strike="noStrike" u="sng">
                <a:solidFill>
                  <a:srgbClr val="ffcc00"/>
                </a:solidFill>
                <a:uFillTx/>
                <a:latin typeface="Garamond"/>
                <a:ea typeface="SimSun"/>
                <a:hlinkClick r:id="rId1"/>
              </a:rPr>
              <a:t>http://www.utdallas.edu/~gupta/courses/apl/lambda.pdf</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Anonymous functions that can be assigned to variabl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applied</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ree and bound variables (closure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Lexical and runtime scop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Functions with multiple arguments (curr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an be composed/nested (higher-order func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Lambda in C#</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etupRibbonItem(homeRibbionGroup,</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_ViewNew_ViewIssu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homeRibbionResourceManag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16,</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cons.ViewIssuer_3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ew List&lt;PermissionConstraints&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nul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p =&g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CoreRibbonHelper.OpenIssuerTransitionScree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ea typeface="SimSun"/>
              </a:rPr>
              <a:t>Closur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Functions that have free variables bound at some outer scope (lexical closur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ea typeface="SimSun"/>
              </a:rPr>
              <a:t>Characteristic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losures establish a new variable scop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SimSun"/>
              </a:rPr>
              <a:t>Code within a closure can access the symbols defined outsi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SimSun"/>
              </a:rPr>
              <a:t>JavaScript Pattern Using Closur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function(window)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var jQuery = (function()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    </a:t>
            </a:r>
            <a:r>
              <a:rPr b="0" lang="en-US" sz="2000" spc="-1" strike="noStrike">
                <a:solidFill>
                  <a:srgbClr val="ffffff"/>
                </a:solidFill>
                <a:latin typeface="Courier New"/>
                <a:ea typeface="SimSu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SimSun"/>
              </a:rPr>
              <a:t>})(window);</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02:18:47Z</dcterms:created>
  <dc:creator>Yang, dong</dc:creator>
  <dc:description/>
  <dc:language>en-US</dc:language>
  <cp:lastModifiedBy>Yang, dong</cp:lastModifiedBy>
  <dcterms:modified xsi:type="dcterms:W3CDTF">2012-06-13T02:25:39Z</dcterms:modified>
  <cp:revision>60</cp:revision>
  <dc:subject/>
  <dc:title>Introduction to Functional Programming</dc:title>
</cp:coreProperties>
</file>