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8A6-E0C5-4209-A85F-EDC5C70F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6C6-38EC-44AB-ACB3-9676B80B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92E-C20B-48A9-9412-917758BF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BBF-907B-4BC9-B70B-60928FF4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F31-8D8D-4ABE-B8CF-AA739BC9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B8F-E35B-4878-A1F3-BA1B0264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8CE-D68A-45F5-AED1-8BC7C317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531A-1F01-4C7D-80F9-30A6CC06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C6E-16A4-44E7-8C76-B1F22AC2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1FB-37DB-444A-9CF1-84A3882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C37-5F92-43E0-8663-4561B2A3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F25-91C4-43ED-A215-400949B3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BBF54-6293-433B-8F05-181FCA14F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0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ed in Mac PowerPoint 2011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g: LibreOffice inverts the grad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581200" y="2238480"/>
            <a:ext cx="3975120" cy="3295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c4bd97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794040" y="176040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ue sky at 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736440" y="56530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og at bott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23:03:09Z</dcterms:created>
  <dc:creator>Dave Yost</dc:creator>
  <dc:description/>
  <dc:language>en-US</dc:language>
  <cp:lastModifiedBy>Dave Yost</cp:lastModifiedBy>
  <dcterms:modified xsi:type="dcterms:W3CDTF">2012-08-13T23:10:06Z</dcterms:modified>
  <cp:revision>2</cp:revision>
  <dc:subject/>
  <dc:title>Created in Mac PowerPoint 2011 Bug: LibreOffice inverts the gradient</dc:title>
</cp:coreProperties>
</file>