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E6A-81C3-446F-AFA8-F0B96D5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9A3-A361-46C7-A5F0-A4D4B01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3D6-D6AD-42BC-B738-CD760F0B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167-6124-4124-8532-ABEEBD2F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55B-7251-47BB-8D71-DB50ADAF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A1C-DBE4-4D08-954E-054C1169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AFF-71DE-4DDA-B3B5-7B22EED0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73E-2224-47F9-AF29-95EDE03F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693-5DEC-40D7-9AE2-F57A8AC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BB1-30B1-4186-8116-D3D6945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296-D037-4558-9C8A-7C198C1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3E4-B078-4DE8-8F9F-71A0F02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2ABFD-2B4C-45D3-AB6A-295928667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d in Mac PowerPoint 2011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g: LibreOffice inverts the grad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581200" y="2238480"/>
            <a:ext cx="3975120" cy="3295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c4bd97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94040" y="17604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ue sky at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736440" y="5653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og at bot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23:03:09Z</dcterms:created>
  <dc:creator>Dave Yost</dc:creator>
  <dc:description/>
  <dc:language>en-US</dc:language>
  <cp:lastModifiedBy>Dave Yost</cp:lastModifiedBy>
  <dcterms:modified xsi:type="dcterms:W3CDTF">2012-08-13T23:10:06Z</dcterms:modified>
  <cp:revision>2</cp:revision>
  <dc:subject/>
  <dc:title>Created in Mac PowerPoint 2011 Bug: LibreOffice inverts the gradient</dc:title>
</cp:coreProperties>
</file>