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B74-C4AB-471F-9B24-C7EB4E93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4C18-F680-49EE-9AD1-C02CF595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7B0D-5138-4106-8F03-783C62AB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D65-A058-4F2C-A97B-C283C559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CACC-5EBA-4214-AA51-7330E84D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6B74-5E56-44BD-94FB-3C2B00E7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779E-FE6B-4DD3-97CB-1977974A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56E7-4B1F-4B0F-8932-42814352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B6B2-E06E-44BD-997F-55002A45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F438-F6CA-4171-8FF7-65AD53E7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82F9-034C-49D8-96E4-1571F143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0CE0-7A4B-4A25-8F5F-A2421F65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B0BA-71D9-4B03-9450-98AA20BFD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400"/>
                <a:gridCol w="20574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4:04:57Z</dcterms:created>
  <dc:creator>Theo Muys</dc:creator>
  <dc:description/>
  <dc:language>en-US</dc:language>
  <cp:lastModifiedBy>Theo Muys</cp:lastModifiedBy>
  <dcterms:modified xsi:type="dcterms:W3CDTF">2012-04-04T14:05:00Z</dcterms:modified>
  <cp:revision>1</cp:revision>
  <dc:subject/>
  <dc:title>Test</dc:title>
</cp:coreProperties>
</file>