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EAA-5490-4462-B365-66C5CF25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C19-09E2-4C08-9928-F2609335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7CD-5F7E-46FF-AD3B-9015081E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1ABC-550B-41C7-A6C2-77868AA1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0893-57B5-4AD1-95CF-0CF46C81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127-8CF0-4923-9ECA-CB242B4E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3B8-8365-4461-8903-E3C402C2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7BC-0D8B-4031-B8EE-2796A42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564-4175-4ACE-AE15-98E2762B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014-A547-435B-AB00-F952EC64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EB6-8737-45FA-BA8B-476B677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294-1590-4F5A-89EE-C0A96DA9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38A-9E11-4B2A-B0BD-4A7E98F52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400"/>
                <a:gridCol w="2057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4:57Z</dcterms:created>
  <dc:creator>Theo Muys</dc:creator>
  <dc:description/>
  <dc:language>en-US</dc:language>
  <cp:lastModifiedBy>Theo Muys</cp:lastModifiedBy>
  <dcterms:modified xsi:type="dcterms:W3CDTF">2012-04-04T14:05:00Z</dcterms:modified>
  <cp:revision>1</cp:revision>
  <dc:subject/>
  <dc:title>Test</dc:title>
</cp:coreProperties>
</file>