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B69-4A87-4AA3-A5E1-CBAAAC1D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AC1-E8E3-4231-B27F-EB88C3BF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806-6415-4446-B7C8-3FD763AB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EA4-F953-40F0-8B62-602E9D65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881-437C-4F6C-9E0E-CA02913D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3A5-AFFB-4964-8DC6-1CF8E888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293-ABEE-42A5-AC8B-BCA72954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F77-7BCF-480A-87BA-8E43A06E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F02-70F3-4DAC-A7D1-5DA52E61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F40-583E-4452-A972-D5A37D1F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47A-7071-4D5A-9E9F-9DF627B1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725-99BD-48CD-9463-73AA8818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41FC-C127-4885-AF2E-368015AC3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5835" t="52668" r="22085" b="21335"/>
          <a:stretch/>
        </p:blipFill>
        <p:spPr>
          <a:xfrm>
            <a:off x="2895480" y="2819520"/>
            <a:ext cx="4419720" cy="223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2" name="Group 69"/>
          <p:cNvGrpSpPr/>
          <p:nvPr/>
        </p:nvGrpSpPr>
        <p:grpSpPr>
          <a:xfrm>
            <a:off x="885960" y="733680"/>
            <a:ext cx="4340520" cy="2304720"/>
            <a:chOff x="885960" y="733680"/>
            <a:chExt cx="4340520" cy="2304720"/>
          </a:xfrm>
        </p:grpSpPr>
        <p:sp>
          <p:nvSpPr>
            <p:cNvPr id="43" name="Right Arrow 70"/>
            <p:cNvSpPr/>
            <p:nvPr/>
          </p:nvSpPr>
          <p:spPr>
            <a:xfrm rot="20112000">
              <a:off x="762120" y="1676160"/>
              <a:ext cx="4587840" cy="419040"/>
            </a:xfrm>
            <a:prstGeom prst="rightArrow">
              <a:avLst>
                <a:gd name="adj1" fmla="val 50000"/>
                <a:gd name="adj2" fmla="val 50180"/>
              </a:avLst>
            </a:prstGeom>
            <a:solidFill>
              <a:srgbClr val="bbe0e3"/>
            </a:solidFill>
            <a:ln w="1260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75"/>
            <p:cNvSpPr/>
            <p:nvPr/>
          </p:nvSpPr>
          <p:spPr>
            <a:xfrm rot="20046000">
              <a:off x="1512360" y="1731600"/>
              <a:ext cx="300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2672280" y="5029200"/>
            <a:ext cx="48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bitmap showing what you should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1:59:52Z</dcterms:created>
  <dc:creator>Sepehr Kiani</dc:creator>
  <dc:description/>
  <dc:language>en-US</dc:language>
  <cp:lastModifiedBy>Sepehr Kiani</cp:lastModifiedBy>
  <dcterms:modified xsi:type="dcterms:W3CDTF">2012-03-07T03:43:46Z</dcterms:modified>
  <cp:revision>4</cp:revision>
  <dc:subject/>
  <dc:title>Slide 1</dc:title>
</cp:coreProperties>
</file>