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02C-CB85-4428-92C1-85E1F6DC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F5B-77A8-4766-B635-9C464F8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5138-F097-4DBB-ACB7-96EA7393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6CA-045B-420B-9192-6AA46FC7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294-C016-4F90-90E7-E122D250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B8F-26D7-41DA-BD44-41944123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0AC-891D-4098-BE5E-E593296D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DB8-8F92-4940-BDD7-191169E3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EDF-516C-49DD-A426-E7D91E52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5DC-7F0D-4AE0-A1C1-595622E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336-721C-4700-B738-6E06DFB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BC3-2D76-4ABA-B251-494906D2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D76B-D5EF-44B8-A833-02005AC63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5835" t="52668" r="22085" b="21335"/>
          <a:stretch/>
        </p:blipFill>
        <p:spPr>
          <a:xfrm>
            <a:off x="2895480" y="2819520"/>
            <a:ext cx="4419720" cy="223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2" name="Group 69"/>
          <p:cNvGrpSpPr/>
          <p:nvPr/>
        </p:nvGrpSpPr>
        <p:grpSpPr>
          <a:xfrm>
            <a:off x="885960" y="733680"/>
            <a:ext cx="4340520" cy="2304720"/>
            <a:chOff x="885960" y="733680"/>
            <a:chExt cx="4340520" cy="2304720"/>
          </a:xfrm>
        </p:grpSpPr>
        <p:sp>
          <p:nvSpPr>
            <p:cNvPr id="43" name="Right Arrow 70"/>
            <p:cNvSpPr/>
            <p:nvPr/>
          </p:nvSpPr>
          <p:spPr>
            <a:xfrm rot="20112000">
              <a:off x="762120" y="1676160"/>
              <a:ext cx="4587840" cy="419040"/>
            </a:xfrm>
            <a:prstGeom prst="rightArrow">
              <a:avLst>
                <a:gd name="adj1" fmla="val 50000"/>
                <a:gd name="adj2" fmla="val 50180"/>
              </a:avLst>
            </a:prstGeom>
            <a:solidFill>
              <a:srgbClr val="bbe0e3"/>
            </a:solidFill>
            <a:ln w="1260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75"/>
            <p:cNvSpPr/>
            <p:nvPr/>
          </p:nvSpPr>
          <p:spPr>
            <a:xfrm rot="20046000">
              <a:off x="1512360" y="1731600"/>
              <a:ext cx="300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2672280" y="5029200"/>
            <a:ext cx="48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bitmap showing what you should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1:59:52Z</dcterms:created>
  <dc:creator>Sepehr Kiani</dc:creator>
  <dc:description/>
  <dc:language>en-US</dc:language>
  <cp:lastModifiedBy>Sepehr Kiani</cp:lastModifiedBy>
  <dcterms:modified xsi:type="dcterms:W3CDTF">2012-03-07T03:43:46Z</dcterms:modified>
  <cp:revision>4</cp:revision>
  <dc:subject/>
  <dc:title>Slide 1</dc:title>
</cp:coreProperties>
</file>