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dt" idx="17"/>
          </p:nvPr>
        </p:nvSpPr>
        <p:spPr>
          <a:xfrm>
            <a:off x="414324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257480" y="720360"/>
            <a:ext cx="4798800" cy="359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8"/>
          </p:nvPr>
        </p:nvSpPr>
        <p:spPr>
          <a:xfrm>
            <a:off x="414324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2596-4477-42F8-B37E-D797AC66B28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3C4F76-DC7C-454D-B264-103AC8ED668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79DD-9B6F-48EB-AED8-9B084EF3DE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C1D5-EF14-4462-A785-4307D47D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640F-6A06-4E4F-AA06-72C9DF9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32FB-AA23-4538-81CF-ECA7AF37A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306CB-0512-4ED3-A752-D1996A4B2D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F694-FB56-4481-83CB-A70C06EE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07565-5699-46E9-8BA2-03D7AD07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05A33-BD39-451D-9623-7C1AEB83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2FC17-C229-4735-90B3-20FC7052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9E4AD-F072-4BB9-B6E3-7523D9D6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3D327-8A5D-4F80-A226-D78D5BE0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E895-4610-4814-B9AE-FFA0B4D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875E4-9D55-4CCF-ABCD-2BDEBE08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E5989-B95F-4DC5-90F7-A7F4BE73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E8E1-011F-4A25-96AD-095A8B2D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2C5DD-D1DB-47CC-84E4-FAC7F3DA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50B63-A662-49AA-A8B7-37B5CF5CF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68D1-B3E8-49F4-A603-9DA780AD6C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6153-26AB-4A20-8F4E-E194DC2A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4782-FC58-4C2A-9B86-C1171DC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DA6B-1A7E-42BF-9A3C-E412D19C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AA09-A7D8-46D9-800F-871A5AB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729AB-34EF-4076-8A82-6931385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4F41-A6B8-47D4-80DE-B534978B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D1E3-333F-4625-A9B8-DC5FBCE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33F3-1BF7-4777-AF5B-D37821AE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8E96-E4E7-462E-A55D-267527A5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75A7-451A-40CB-8C2B-733CB86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7D79-6010-40EC-9403-C17838A1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5470-95C1-461D-99BD-1CC4791E57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CF5AD-FACE-4962-BEBE-1DD2DD993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2A48C-D8E2-4450-8ADE-6142F520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FC58D-A44F-4F1A-8D65-0528D809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3DA85-76F3-48DA-BE6A-67D0C792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0CA9F-EA76-4BBC-8320-3AF5197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A7DE9-8A0F-42E3-A69A-7F11CBB3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E1E95-C53A-44DE-9B9C-34BA31A8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AB322-7497-40C7-982D-A16218A8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371CE-F9DB-460C-96E7-2BF3C8A9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BF87F-37AA-479B-BC27-8B104FC6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363D3-F6C6-4CCC-94C0-52B590EC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AAD25-F01B-447A-A235-87392704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67020-5AA7-47B1-AAE2-6FFB59B4B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EE33F-E1C1-4547-8AA4-59E3659122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8C97-2179-4F8C-B40D-20185C53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2AA0E6-3C64-4BB3-BD41-CABACDB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AB681D-E501-4751-8929-BA0EBAB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3E503-E254-4178-8DAA-8A6CB718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00FED2-5050-4076-8193-7758EAB7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892B59-3680-4CD4-8FFA-7D75C619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8B88C7-927C-4F9E-BA59-9CF4EE00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955478-A1C4-4D48-989A-C946C382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DDC51-631A-463A-B40A-F5C26B3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EAECB-C77C-413C-BDAB-FE5434FF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D2196-C026-4AEC-A719-E286547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0C48-BFF4-4A91-91DE-AE8417D7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DBE46F-85E7-4393-8A72-CF6279D81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F7A96-1C96-45E1-AB6B-966868880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B02D-D348-48DB-B760-5C76905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ABAE-54A3-4C2B-929B-9DBF085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B2E3-07AB-41A8-A4BF-74C9046A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095F-95F3-4C78-8B87-B961B4BB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97BB-A574-4724-BFAA-E41C0231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0DD4-07DF-4C93-AACE-09B48FD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62457-ED70-4028-BDAE-8D0CAE0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A099-8D85-4B7E-9161-DFFDEB9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5972-6BFA-45E3-B47F-9674BF38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7260-C80C-4C0A-8DF1-DAD39E6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BF7F-48A2-49A9-A06E-66163760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16720-7834-4B91-B1B3-6D8D91DD9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2B640-3E5E-4641-901D-C1B468907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3726B-0098-4484-875A-095679F6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85120-B379-4CAB-8DA4-34FB643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89077-ED12-4222-954E-060AE3FD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9920A-C53C-4990-8A99-54BE9F5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52A2C-3435-4658-BB86-A80D18DB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7AB6F-88AC-45A7-9700-79C63EF7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1202-2235-44F3-8FB4-609F2FE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F02534-82CC-4E62-94D6-91678B1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53166-CA07-4FEA-A287-D37C523A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9A491-5F48-4A79-9D39-D22F2EF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09CDF-308E-4631-BA12-C66F7DEC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6AB60-1592-4D97-8D0D-8ED4483C0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1EB507-A33A-4D77-88CF-5845698A8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587A6-DAF2-48D7-A6D3-CEF17AA2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DA78D9-D012-4DE1-9453-7AA9EABA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437D8-AE38-4AC5-9D2A-EC23557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AFA00F-D3A6-475B-A0C9-E32F3385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A236-E452-4D95-AE7A-8909712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44280"/>
            <a:ext cx="8228160" cy="67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4EE3F-866B-419C-A3CD-9CC9839A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A3CF7F-AA99-4A71-AF8E-52A6307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69121D-CF09-4867-A1F7-8845967F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06DE8-A763-4EB4-AC3E-2F6931F3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190400"/>
            <a:ext cx="822816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7807F5-8D53-40C0-BBCF-493648C7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7748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520" y="4190400"/>
            <a:ext cx="401508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33861-3469-43B1-89A0-BC39638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28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1360" y="17748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28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1360" y="4190400"/>
            <a:ext cx="2649240" cy="22057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C17BE-31ED-484A-AA50-B4D128CC22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28880"/>
            <a:ext cx="2131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"/>
          <p:cNvSpPr/>
          <p:nvPr/>
        </p:nvSpPr>
        <p:spPr>
          <a:xfrm>
            <a:off x="2639880" y="6429240"/>
            <a:ext cx="550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203680" y="6428880"/>
            <a:ext cx="731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34918B-916E-4FFC-B823-BF562A36DAEC}" type="slidenum">
              <a:rPr b="0" lang="en-US" sz="18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98DD2E2-7017-454C-AFB9-4C3814F593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61D1727-D59A-4F60-B775-FFC6F6030C5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FA81129A-3E59-48DE-8B7C-068F4172DD0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165240" y="1141200"/>
            <a:ext cx="252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"/>
          <p:cNvSpPr/>
          <p:nvPr/>
        </p:nvSpPr>
        <p:spPr>
          <a:xfrm>
            <a:off x="3035160" y="1141560"/>
            <a:ext cx="5194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338680" y="1141200"/>
            <a:ext cx="731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67FEE2F-2D0D-4BD9-A344-CB989F471D1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81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8160" cy="46245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43080"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457200" y="6477120"/>
            <a:ext cx="21319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"/>
          <p:cNvSpPr/>
          <p:nvPr/>
        </p:nvSpPr>
        <p:spPr>
          <a:xfrm>
            <a:off x="263988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203680" y="6477120"/>
            <a:ext cx="731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9BF5B4E-D056-41F9-8D7F-D4790BAD734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adada"/>
              </a:gs>
              <a:gs pos="100000">
                <a:srgbClr val="ffffff"/>
              </a:gs>
            </a:gsLst>
            <a:lin ang="5400000"/>
          </a:gradFill>
          <a:ln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14360" y="426960"/>
            <a:ext cx="8313840" cy="4351320"/>
            <a:chOff x="414360" y="426960"/>
            <a:chExt cx="8313840" cy="4351320"/>
          </a:xfrm>
        </p:grpSpPr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45680" y="461520"/>
              <a:ext cx="8250480" cy="42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844520"/>
            <a:ext cx="8182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3"/>
          </p:nvPr>
        </p:nvSpPr>
        <p:spPr>
          <a:xfrm>
            <a:off x="3776400" y="611028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/>
          <p:nvPr/>
        </p:nvSpPr>
        <p:spPr>
          <a:xfrm>
            <a:off x="6062760" y="611028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8348400" y="611028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8316F-821A-4202-81AD-E4F1A1243D3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dadada"/>
              </a:gs>
              <a:gs pos="100000">
                <a:srgbClr val="ffffff"/>
              </a:gs>
            </a:gsLst>
            <a:lin ang="5400000"/>
          </a:gradFill>
          <a:ln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844520"/>
            <a:ext cx="8182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5"/>
          </p:nvPr>
        </p:nvSpPr>
        <p:spPr>
          <a:xfrm>
            <a:off x="3776400" y="611028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"/>
          <p:cNvSpPr/>
          <p:nvPr/>
        </p:nvSpPr>
        <p:spPr>
          <a:xfrm>
            <a:off x="6062760" y="6110280"/>
            <a:ext cx="228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6"/>
          </p:nvPr>
        </p:nvSpPr>
        <p:spPr>
          <a:xfrm>
            <a:off x="8348400" y="611028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4AB07-D90D-4258-834C-4371BF21D36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78000" y="1652760"/>
            <a:ext cx="4478040" cy="4849560"/>
            <a:chOff x="378000" y="1652760"/>
            <a:chExt cx="4478040" cy="484956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378000" y="1652760"/>
              <a:ext cx="4478040" cy="48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6840" y="1752120"/>
              <a:ext cx="4189320" cy="46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	</a:t>
              </a: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The United Kingdom of Great Britain and Northern Ireland, also known as Great Britain, is located off the northwestern coast of continental Europe.</a:t>
              </a: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	</a:t>
              </a:r>
              <a:r>
                <a:rPr b="0" lang="en-US" sz="2500" spc="-1" strike="noStrike">
                  <a:solidFill>
                    <a:srgbClr val="000000"/>
                  </a:solidFill>
                  <a:latin typeface="Goudy Old Style"/>
                </a:rPr>
                <a:t>The United Kingdom consists of four countries: England, Northern Ireland, Scotland and Wales. It is governed by a parliamentary system with its seat of government in London, the capitol.</a:t>
              </a: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  <a:p>
              <a:pPr marL="438120" indent="-317520">
                <a:lnSpc>
                  <a:spcPct val="80000"/>
                </a:lnSpc>
                <a:tabLst>
                  <a:tab algn="l" pos="0"/>
                  <a:tab algn="l" pos="438120"/>
                  <a:tab algn="l" pos="912960"/>
                  <a:tab algn="l" pos="1827360"/>
                  <a:tab algn="l" pos="2741760"/>
                  <a:tab algn="l" pos="3656160"/>
                  <a:tab algn="l" pos="4570560"/>
                  <a:tab algn="l" pos="5484960"/>
                  <a:tab algn="l" pos="6399360"/>
                  <a:tab algn="l" pos="7313760"/>
                  <a:tab algn="l" pos="8228160"/>
                  <a:tab algn="l" pos="9142560"/>
                  <a:tab algn="l" pos="10056960"/>
                  <a:tab algn="l" pos="10058400"/>
                  <a:tab algn="l" pos="105156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4413240" y="6053040"/>
            <a:ext cx="4432320" cy="7444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3200400" cy="44956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228600"/>
            <a:ext cx="8229600" cy="1312920"/>
          </a:xfrm>
          <a:prstGeom prst="rect">
            <a:avLst/>
          </a:prstGeom>
          <a:solidFill>
            <a:srgbClr val="d4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Current Situation of United Kingdom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7:55:48Z</dcterms:created>
  <dc:creator>Doaa</dc:creator>
  <dc:description/>
  <dc:language>en-US</dc:language>
  <cp:lastModifiedBy>moniker</cp:lastModifiedBy>
  <dcterms:modified xsi:type="dcterms:W3CDTF">2012-01-03T21:17:00Z</dcterms:modified>
  <cp:revision>1137</cp:revision>
  <dc:subject/>
  <dc:title>God Save the Queen</dc:title>
</cp:coreProperties>
</file>