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dt" idx="17"/>
          </p:nvPr>
        </p:nvSpPr>
        <p:spPr>
          <a:xfrm>
            <a:off x="414324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18"/>
          </p:nvPr>
        </p:nvSpPr>
        <p:spPr>
          <a:xfrm>
            <a:off x="414324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C0770-4D82-4290-A548-38BAEA2DD3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EF47E-28B7-4019-986E-481C922D98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73A3-6437-41A8-8A3F-4B9D92CF7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85BE-6CEF-4F26-B6D1-EA02B020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E3F0-4748-49B4-9E69-F2723B5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DE31-B88F-4257-8205-081D7B4E3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5D062-CF1C-4DB5-8F6B-AB7DDA73FD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F2570-51CB-4B96-A976-DCF497F6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729F6-AA12-4432-BCEE-88D485A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D93C-0BF9-4D05-80A9-FE933923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7D4D2-C75F-4740-879D-25FEC63E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982FB-6BA3-4464-BD1D-A3952D65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F7779-92C9-4890-9D90-0CA17BB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56F3-A494-4C03-B585-455CE382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D8219-25AC-4365-88A5-5B193C4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129AF-2565-4E87-8192-91C81245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B699D-1568-4F01-ABB2-A974A62C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ED6D-E9BE-4A71-A9F7-F3A0C1B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31397-3F22-4293-8FC2-6F88DB852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E56-5BD3-4ACC-8412-E6924F42C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1839-2D4D-468C-9941-62878CF3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1D8C-2684-44EE-9A69-A0AB59CB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8DAA-3C57-4C14-AB3F-614E1F98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FA8-3142-4AF9-AD71-695269F1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B5AED-8414-4729-A091-DB57547C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206-89B6-44CD-BAF5-A1CF8E6A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1844-1BB6-4BE9-AD86-28C70D60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587F-ECA9-4312-8FDD-4003128C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2C7D-4B71-4D03-902D-5702F55A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7D60-4243-4A72-833F-FC364CFF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797F-AD2B-4331-875D-C5DB511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AF41-2AF2-41DE-9981-ED41F6EAD6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900DB-D8BF-4DE9-A3FD-E61205F97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F8871-E08A-44F7-B474-4C516CFA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6DE87-7C6F-43C1-90EC-76844A16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3081-450F-47CE-AC68-EC0B4FF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7C695-731F-4DCB-A008-7B7DA25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BCF0F-2E6E-41B7-99FD-F5CB290D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CA48A-7086-476F-8365-BB6B6796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1BACD-2430-4C3B-B0C7-ADEF7E73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991C8-9254-403D-9F50-EDCF43B1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1ADC6-FCA2-4A0E-A8D4-13195524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BB2D4-164F-404D-A55B-5CB975C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03951-49F6-473C-9E83-88F993A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D4712-8525-4D16-9BAC-33FDAC629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64F33-2ED6-486C-B646-606076EF5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5D97-E606-47D9-A7E1-ABD3046B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27505-A25E-4D6B-BE7E-DF4AE553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67132-8A14-48A4-9AD7-076BB201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D00EC-7014-4AF2-B9F4-807572B2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D481A-0ACB-4551-9365-91CF74AD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3A1E0-B43C-4988-ACF1-23B3516E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F35CA-0AED-4246-B5C5-F79D95B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7128F-EC09-4138-BEDA-3087215D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316FB-9880-4F0F-8818-A1A0EFF6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60259-41A2-498B-B44C-308F9E3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FEFE8-183E-4C91-8B3F-396D546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C89E-CDCE-4E77-BF12-1BAC305E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DEE43-DAED-4B4C-B8DC-18CB97CB1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C68E-4D83-4720-9386-556226E19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D954-ED90-4ADD-9549-F6E1C12C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A0FE-E0D6-45A6-B5EE-8066881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348F-36BB-443C-9C54-9DC1427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0D6B-754F-4F67-BD65-93BDB8E6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B4B2-3C91-48C3-9442-A6AAEEF6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954F-3A77-4EF2-80A1-548C049A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4BF5-38AC-40EF-95C1-9D117933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8EFE-2537-4643-BF2E-FB2B150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202F-0E09-49CD-A619-70631A42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C7A7-FBA1-4058-B2DE-3E0E06E2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F801-D4E2-4DD3-8332-718F846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2290-F8DA-40AC-ADC3-332C4E6BF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EA3A1-1293-492C-96A0-21E62CF55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18D64-2BC7-43FE-93FE-936F6AC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8CA8A-2683-4DED-9A17-BD580A0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CFF9D-B7BE-426A-BB6C-12738157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771AA-7895-4495-82BF-6AAEABB7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2715B-8E68-4886-96F7-C0D3083D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B70C0-EAA7-4E71-936F-25D647F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6D46-D97E-4195-95CF-C01AD6C8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3FC6D-6179-4CD1-8063-69822AE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C59EA-0E9D-4600-8D2C-8E2D949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9E190-626E-4B63-89C9-BAAF186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111EA-EC2E-4D2C-A685-1DD08DB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B4C62-BC2D-474F-B9D2-003FFE8C4E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0BDE0-5D20-448F-BBD3-2CF3D4330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75034-6553-4E76-89B3-B34E68C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196A29-F86C-4836-BD5A-D0BE7E8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F231B9-5874-47BC-8578-84A19F2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03B51-92E1-4F66-8A8F-C4EF6C6A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4D18-926B-44C8-9C98-E84ADAE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2C1928-DDB6-46D6-A376-6FCC4155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128968-AA3F-48A2-9C1B-292EB8B3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4AEC16-AFE1-4218-B141-FF894512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EE3F33-318E-45C2-AE88-546E7A87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A777A-B67C-43B8-9752-667AB21B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24219C-98F4-4DB5-BC66-34D7C26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5B449-444E-4E60-8BB5-020CFC868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8880"/>
            <a:ext cx="2131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"/>
          <p:cNvSpPr/>
          <p:nvPr/>
        </p:nvSpPr>
        <p:spPr>
          <a:xfrm>
            <a:off x="2639880" y="6429240"/>
            <a:ext cx="550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03680" y="6428880"/>
            <a:ext cx="731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45EB3-5973-4730-9DD0-F5E2A199E61A}" type="slidenum">
              <a:rPr b="0" lang="en-US" sz="18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7C1A94A-6017-43D1-8862-85511E2F91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0769BBF-1FEA-455E-A490-85A27FC57C1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5693B93-3A94-4229-8F1B-29445AD190F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165240" y="1141200"/>
            <a:ext cx="252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"/>
          <p:cNvSpPr/>
          <p:nvPr/>
        </p:nvSpPr>
        <p:spPr>
          <a:xfrm>
            <a:off x="3035160" y="1141560"/>
            <a:ext cx="5194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8338680" y="1141200"/>
            <a:ext cx="73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6AA2D89-D275-40A0-9C4D-F3C28B012A1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"/>
          <p:cNvSpPr/>
          <p:nvPr/>
        </p:nvSpPr>
        <p:spPr>
          <a:xfrm>
            <a:off x="263988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E46320E-A869-4217-9DB4-4ECCF935917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adada"/>
              </a:gs>
              <a:gs pos="100000">
                <a:srgbClr val="ffffff"/>
              </a:gs>
            </a:gsLst>
            <a:lin ang="5400000"/>
          </a:gradFill>
          <a:ln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14360" y="426960"/>
            <a:ext cx="8313840" cy="4351320"/>
            <a:chOff x="414360" y="426960"/>
            <a:chExt cx="8313840" cy="435132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45680" y="461520"/>
              <a:ext cx="8250480" cy="42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844520"/>
            <a:ext cx="8182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3"/>
          </p:nvPr>
        </p:nvSpPr>
        <p:spPr>
          <a:xfrm>
            <a:off x="3776400" y="611028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/>
          <p:nvPr/>
        </p:nvSpPr>
        <p:spPr>
          <a:xfrm>
            <a:off x="6062760" y="611028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8348400" y="611028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A433F-58E2-48E0-81C7-E0C0963FFAD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adada"/>
              </a:gs>
              <a:gs pos="100000">
                <a:srgbClr val="ffffff"/>
              </a:gs>
            </a:gsLst>
            <a:lin ang="5400000"/>
          </a:gradFill>
          <a:ln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844520"/>
            <a:ext cx="8182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5"/>
          </p:nvPr>
        </p:nvSpPr>
        <p:spPr>
          <a:xfrm>
            <a:off x="3776400" y="611028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"/>
          <p:cNvSpPr/>
          <p:nvPr/>
        </p:nvSpPr>
        <p:spPr>
          <a:xfrm>
            <a:off x="6062760" y="611028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6"/>
          </p:nvPr>
        </p:nvSpPr>
        <p:spPr>
          <a:xfrm>
            <a:off x="8348400" y="611028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6473D-F44A-4487-AE2C-145BD79431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78000" y="1652760"/>
            <a:ext cx="4478040" cy="4849560"/>
            <a:chOff x="378000" y="1652760"/>
            <a:chExt cx="4478040" cy="484956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378000" y="1652760"/>
              <a:ext cx="4478040" cy="48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6840" y="1752120"/>
              <a:ext cx="4189320" cy="46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7520">
                <a:lnSpc>
                  <a:spcPct val="80000"/>
                </a:lnSpc>
                <a:tabLst>
                  <a:tab algn="l" pos="0"/>
                  <a:tab algn="l" pos="438120"/>
                  <a:tab algn="l" pos="912960"/>
                  <a:tab algn="l" pos="1827360"/>
                  <a:tab algn="l" pos="2741760"/>
                  <a:tab algn="l" pos="3656160"/>
                  <a:tab algn="l" pos="4570560"/>
                  <a:tab algn="l" pos="5484960"/>
                  <a:tab algn="l" pos="6399360"/>
                  <a:tab algn="l" pos="7313760"/>
                  <a:tab algn="l" pos="8228160"/>
                  <a:tab algn="l" pos="9142560"/>
                  <a:tab algn="l" pos="10056960"/>
                  <a:tab algn="l" pos="10058400"/>
                  <a:tab algn="l" pos="105156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	</a:t>
              </a: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The United Kingdom of Great Britain and Northern Ireland, also known as Great Britain, is located off the northwestern coast of continental Europe.</a:t>
              </a:r>
              <a:endParaRPr b="0" lang="en-US" sz="2500" spc="-1" strike="noStrike">
                <a:solidFill>
                  <a:srgbClr val="000000"/>
                </a:solidFill>
                <a:latin typeface="Corbel"/>
              </a:endParaRPr>
            </a:p>
            <a:p>
              <a:pPr marL="438120" indent="-317520">
                <a:lnSpc>
                  <a:spcPct val="80000"/>
                </a:lnSpc>
                <a:tabLst>
                  <a:tab algn="l" pos="0"/>
                  <a:tab algn="l" pos="438120"/>
                  <a:tab algn="l" pos="912960"/>
                  <a:tab algn="l" pos="1827360"/>
                  <a:tab algn="l" pos="2741760"/>
                  <a:tab algn="l" pos="3656160"/>
                  <a:tab algn="l" pos="4570560"/>
                  <a:tab algn="l" pos="5484960"/>
                  <a:tab algn="l" pos="6399360"/>
                  <a:tab algn="l" pos="7313760"/>
                  <a:tab algn="l" pos="8228160"/>
                  <a:tab algn="l" pos="9142560"/>
                  <a:tab algn="l" pos="10056960"/>
                  <a:tab algn="l" pos="10058400"/>
                  <a:tab algn="l" pos="105156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	</a:t>
              </a: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The United Kingdom consists of four countries: England, Northern Ireland, Scotland and Wales. It is governed by a parliamentary system with its seat of government in London, the capitol.</a:t>
              </a:r>
              <a:endParaRPr b="0" lang="en-US" sz="2500" spc="-1" strike="noStrike">
                <a:solidFill>
                  <a:srgbClr val="000000"/>
                </a:solidFill>
                <a:latin typeface="Corbel"/>
              </a:endParaRPr>
            </a:p>
            <a:p>
              <a:pPr marL="438120" indent="-317520">
                <a:lnSpc>
                  <a:spcPct val="80000"/>
                </a:lnSpc>
                <a:tabLst>
                  <a:tab algn="l" pos="0"/>
                  <a:tab algn="l" pos="438120"/>
                  <a:tab algn="l" pos="912960"/>
                  <a:tab algn="l" pos="1827360"/>
                  <a:tab algn="l" pos="2741760"/>
                  <a:tab algn="l" pos="3656160"/>
                  <a:tab algn="l" pos="4570560"/>
                  <a:tab algn="l" pos="5484960"/>
                  <a:tab algn="l" pos="6399360"/>
                  <a:tab algn="l" pos="7313760"/>
                  <a:tab algn="l" pos="8228160"/>
                  <a:tab algn="l" pos="9142560"/>
                  <a:tab algn="l" pos="10056960"/>
                  <a:tab algn="l" pos="10058400"/>
                  <a:tab algn="l" pos="105156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413240" y="6053040"/>
            <a:ext cx="4432320" cy="744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00400" cy="44956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228600"/>
            <a:ext cx="8229600" cy="1312920"/>
          </a:xfrm>
          <a:prstGeom prst="rect">
            <a:avLst/>
          </a:prstGeom>
          <a:solidFill>
            <a:srgbClr val="d4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rbel"/>
              </a:rPr>
              <a:t>Current Situation of United Kingdo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7:55:48Z</dcterms:created>
  <dc:creator>Doaa</dc:creator>
  <dc:description/>
  <dc:language>en-US</dc:language>
  <cp:lastModifiedBy>moniker</cp:lastModifiedBy>
  <dcterms:modified xsi:type="dcterms:W3CDTF">2012-01-03T21:17:00Z</dcterms:modified>
  <cp:revision>1137</cp:revision>
  <dc:subject/>
  <dc:title>God Save the Queen</dc:title>
</cp:coreProperties>
</file>