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3465-21A2-43FB-AF4C-7ACAA1B07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D236-C99D-4003-828B-E05C4A93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C9BB-4034-40B0-AEC3-F6FACF7DC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7F64-4536-4D9A-9DE8-35387AC04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B7E6-41C8-4B98-AD5E-03B0B737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36CD-5F06-43BE-91B0-64F9B29B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43D2-EFE4-4F5B-8B97-5D62D716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1A57-73DB-4775-8671-708C2784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F99C-B205-4B59-AF77-042C943C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DDE3-3ECB-490D-AF48-CDFF725F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CB88-6D64-481F-B2D4-10237BFB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D238-7196-4440-8A2A-4C3181C5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C93C0E-72C8-4FF6-8470-98E5E46A55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is whi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This is in bl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9T00:10:45Z</dcterms:created>
  <dc:creator>n n</dc:creator>
  <dc:description/>
  <dc:language>en-US</dc:language>
  <cp:lastModifiedBy>n n</cp:lastModifiedBy>
  <dcterms:modified xsi:type="dcterms:W3CDTF">2011-10-29T00:16:00Z</dcterms:modified>
  <cp:revision>1</cp:revision>
  <dc:subject/>
  <dc:title>PowerPoint Presentation</dc:title>
</cp:coreProperties>
</file>