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177-4E42-4506-BAF6-9FDAAD29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E9B-82E3-4720-9EA5-E87F5727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914-3449-4BDB-AD45-8325EBA8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F074-E452-4628-996B-FC4A349F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8AB-7F94-4A9F-8FE9-61F03D9D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6A4-397E-4F23-B89B-C69141A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4AF-27C3-4F6F-AD7D-2B8FD20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CB5-2DD9-4879-A167-56384DD3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2AF-3454-4FC5-952A-3BA77286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DE5-6272-41E2-8663-4B649771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4AC-E49E-4A83-82D1-0E192071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A36-2175-4900-A1DE-7F80EDB5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2C1F8-A67C-4026-A243-C668E8E80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whi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is is in bl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0:10:45Z</dcterms:created>
  <dc:creator>n n</dc:creator>
  <dc:description/>
  <dc:language>en-US</dc:language>
  <cp:lastModifiedBy>n n</cp:lastModifiedBy>
  <dcterms:modified xsi:type="dcterms:W3CDTF">2011-10-29T00:16:00Z</dcterms:modified>
  <cp:revision>1</cp:revision>
  <dc:subject/>
  <dc:title>PowerPoint Presentation</dc:title>
</cp:coreProperties>
</file>