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511762-47CF-47A8-8459-3F6C6E86E0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90B69-799E-4B66-A3FA-E6E22B56D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EA7B6B-DBDE-4343-A3EB-ECDA3769E6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DCA637-14DC-4F8B-A2E4-E016A9D5B5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C2F27-C4A9-4DC5-9A82-589C4025E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03DA4-EC4C-42EF-B6E4-12754B1FA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285A3-CF9F-4073-826A-EB1AA4044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E52BE-AFC2-436B-AE49-8A6FF3A14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1F53C-4399-4CA9-856F-CBC1E6166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90B97-9C25-46C8-BD20-4F3309F7B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C1489-4FD6-46C5-B8FC-51CAEF8D7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302BB-5842-4CF1-925F-7DE98D0F71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503BE-154D-4F2F-8737-F69981BDE7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This diapo have a problem on LibO</a:t>
            </a:r>
            <a:endParaRPr b="0" lang="en-US" sz="4000" spc="-1" strike="noStrike">
              <a:solidFill>
                <a:srgbClr val="000000"/>
              </a:solidFill>
              <a:latin typeface="Arial"/>
            </a:endParaRPr>
          </a:p>
        </p:txBody>
      </p:sp>
      <p:sp>
        <p:nvSpPr>
          <p:cNvPr id="42" name="PlaceHolder 2"/>
          <p:cNvSpPr>
            <a:spLocks noGrp="1"/>
          </p:cNvSpPr>
          <p:nvPr>
            <p:ph/>
          </p:nvPr>
        </p:nvSpPr>
        <p:spPr>
          <a:xfrm>
            <a:off x="456840" y="1599840"/>
            <a:ext cx="8147160" cy="1181160"/>
          </a:xfrm>
          <a:prstGeom prst="rect">
            <a:avLst/>
          </a:prstGeom>
          <a:noFill/>
          <a:ln w="0">
            <a:noFill/>
          </a:ln>
        </p:spPr>
        <p:txBody>
          <a:bodyPr lIns="90000" rIns="90000" tIns="46800" bIns="46800" anchor="t">
            <a:normAutofit fontScale="54000"/>
          </a:bodyPr>
          <a:p>
            <a:pPr marL="185040" indent="-185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Bla bla Bla bla Bla bla Bla bla Bla bla Bla bla Bla bla Bla bla Bla bla Bla bla Bla bla Bla bla Bla bla Bla bla Bla bla Bla bla Bla bla Bla bla Bla bla Bla bla Bla bla Bla bla Bla bla Bla bla Bla bla Bla bla Bla bla Bla bla Bla bla Bla bla Bla bla Bla bla Bla bla Bla bla Bla bla Bla bla Bla bla Bla bla Bla bla Bla bla Bla bla Bla bl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This diapo is correct on LibO</a:t>
            </a:r>
            <a:endParaRPr b="0" lang="en-US" sz="4400" spc="-1" strike="noStrike">
              <a:solidFill>
                <a:srgbClr val="000000"/>
              </a:solidFill>
              <a:latin typeface="Arial"/>
            </a:endParaRPr>
          </a:p>
        </p:txBody>
      </p:sp>
      <p:sp>
        <p:nvSpPr>
          <p:cNvPr id="44" name="PlaceHolder 2"/>
          <p:cNvSpPr>
            <a:spLocks noGrp="1"/>
          </p:cNvSpPr>
          <p:nvPr>
            <p:ph/>
          </p:nvPr>
        </p:nvSpPr>
        <p:spPr>
          <a:xfrm>
            <a:off x="457200" y="1599840"/>
            <a:ext cx="8229600" cy="118116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Bla bla Bla bla Bla bla Bla bla Bla bla Bla bla Bla bla Bla bla Bla bla Bla bla Bla bla Bla bla Bla bla Bla bla Bla bla Bla bla Bla bla Bla bla Bla bla Bla bla Bla bla Bla bla Bla bla Bla bla Bla bla Bla bla Bla bla Bla bla Bla bla Bla bla Bla bla Bla bla Bla bla Bla bla Bla bla Bla bla Bla bla Bla bla Bla bla Bla bla Bla bla Bla bla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7T06:50:57Z</dcterms:created>
  <dc:creator>m2ice-26</dc:creator>
  <dc:description/>
  <dc:language>en-US</dc:language>
  <cp:lastModifiedBy>m2ice-26</cp:lastModifiedBy>
  <dcterms:modified xsi:type="dcterms:W3CDTF">2011-09-27T06:51:09Z</dcterms:modified>
  <cp:revision>1</cp:revision>
  <dc:subject/>
  <dc:title>This diapo have a problem on LibO</dc:title>
</cp:coreProperties>
</file>