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3A124-0D90-4F89-870E-05B79F502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18472-AD2E-40BA-95FB-53032B437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385B1-32EF-409D-9D4B-059F6A743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BEB01-772C-455A-93E1-6062D2407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AB264-5B08-4EB3-8EC6-BECF2F3C0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94650-8C7E-4A39-B8DA-1B869CC6E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F48DA-894D-4673-80D6-EFCCC9BDA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F0825-5A09-4855-8B61-C195814C7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97F1B-9612-4C51-BA6E-B8245E90F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B5257-F246-49CB-AE2E-5D4DDA81A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321C0-CB78-44E9-9FDC-62982E59C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96EF1-CCAA-4358-92BF-E78FE411A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002D-F605-4A7C-AF14-4B21659A24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his diapo have a problem on LibO</a:t>
            </a:r>
            <a:endParaRPr b="0" lang="en-US" sz="4000" spc="-1" strike="noStrike">
              <a:solidFill>
                <a:srgbClr val="000000"/>
              </a:solidFill>
              <a:latin typeface="Arial"/>
            </a:endParaRPr>
          </a:p>
        </p:txBody>
      </p:sp>
      <p:sp>
        <p:nvSpPr>
          <p:cNvPr id="42" name="PlaceHolder 2"/>
          <p:cNvSpPr>
            <a:spLocks noGrp="1"/>
          </p:cNvSpPr>
          <p:nvPr>
            <p:ph/>
          </p:nvPr>
        </p:nvSpPr>
        <p:spPr>
          <a:xfrm>
            <a:off x="456840" y="1599840"/>
            <a:ext cx="8147160" cy="1181160"/>
          </a:xfrm>
          <a:prstGeom prst="rect">
            <a:avLst/>
          </a:prstGeom>
          <a:noFill/>
          <a:ln w="0">
            <a:noFill/>
          </a:ln>
        </p:spPr>
        <p:txBody>
          <a:bodyPr lIns="90000" rIns="90000" tIns="46800" bIns="46800" anchor="t">
            <a:normAutofit fontScale="54000"/>
          </a:bodyPr>
          <a:p>
            <a:pPr marL="1850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his diapo is correct on LibO</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7T06:50:57Z</dcterms:created>
  <dc:creator>m2ice-26</dc:creator>
  <dc:description/>
  <dc:language>en-US</dc:language>
  <cp:lastModifiedBy>m2ice-26</cp:lastModifiedBy>
  <dcterms:modified xsi:type="dcterms:W3CDTF">2011-09-27T06:51:09Z</dcterms:modified>
  <cp:revision>1</cp:revision>
  <dc:subject/>
  <dc:title>This diapo have a problem on LibO</dc:title>
</cp:coreProperties>
</file>