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83C-B571-4DAF-8931-0EBE75FF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560-B256-4E4D-9271-7093354C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592-9D4C-4187-8982-215571D0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B08-BEEB-43D5-BC2E-EA0ED1B6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671-9DBB-4668-9CF7-FC043029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D0E-D18A-4E97-8E82-36C9239A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6D3-FAB1-4DF1-BDA9-0E3B53F7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021-703E-4250-B532-95C2DA94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997-62AD-441A-BC30-F246ABB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4F1-61DF-4851-8A61-E4F73D1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EAB-04A0-44C2-9C06-0BC7285F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FE9-12DD-4BA8-8C65-D9013478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F826-AAF0-44F7-BC19-6557BF6E01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Placeholder 4"/>
          <p:cNvSpPr/>
          <p:nvPr/>
        </p:nvSpPr>
        <p:spPr>
          <a:xfrm>
            <a:off x="785880" y="1643040"/>
            <a:ext cx="5786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noAutofit/>
          </a:bodyPr>
          <a:p>
            <a:pPr>
              <a:lnSpc>
                <a:spcPct val="105000"/>
              </a:lnSpc>
              <a:spcAft>
                <a:spcPts val="751"/>
              </a:spcAft>
              <a:tabLst>
                <a:tab algn="l" pos="0"/>
                <a:tab algn="l" pos="185724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rticipation in current operator’s provision of rewards to encourage </a:t>
            </a:r>
            <a:r>
              <a:rPr b="1" i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creased spend</a:t>
            </a:r>
            <a:r>
              <a:rPr b="1" i="1" lang="en-GB" sz="1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rcRect l="25" t="0" r="25" b="0"/>
          <a:stretch/>
        </p:blipFill>
        <p:spPr>
          <a:xfrm>
            <a:off x="736560" y="2235240"/>
            <a:ext cx="5956200" cy="2908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9"/>
          <p:cNvSpPr/>
          <p:nvPr/>
        </p:nvSpPr>
        <p:spPr>
          <a:xfrm>
            <a:off x="0" y="214200"/>
            <a:ext cx="750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There is a clear opportunity for reward programmes to gain greater traction and impact subscriber behaviour as most mobile subscribers are not yet part of an operator led rewar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571840" y="135720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hich types of mobile loyalty schemes are most appealing to subscribers</a:t>
            </a:r>
            <a:r>
              <a:rPr b="1" lang="en-GB" sz="1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(rank from 1 to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hart 2" descr=""/>
          <p:cNvPicPr/>
          <p:nvPr/>
        </p:nvPicPr>
        <p:blipFill>
          <a:blip r:embed="rId1"/>
          <a:stretch/>
        </p:blipFill>
        <p:spPr>
          <a:xfrm>
            <a:off x="2584440" y="1736640"/>
            <a:ext cx="4187880" cy="4492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0" y="2142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Don’t assume that the same incentives and scheme structures will work equally well across all markets and subscriber segment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0" y="21420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ection: Reward schemes, when done right, have the desired impact on subscriber behaviour – reducing churn in developed markets, increasing spend in emerging 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Placeholder 8"/>
          <p:cNvSpPr/>
          <p:nvPr/>
        </p:nvSpPr>
        <p:spPr>
          <a:xfrm>
            <a:off x="1920960" y="1274760"/>
            <a:ext cx="4248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b">
            <a:noAutofit/>
          </a:bodyPr>
          <a:p>
            <a:pPr algn="ctr">
              <a:lnSpc>
                <a:spcPct val="105000"/>
              </a:lnSpc>
              <a:spcAft>
                <a:spcPts val="751"/>
              </a:spcAft>
              <a:tabLst>
                <a:tab algn="l" pos="0"/>
                <a:tab algn="l" pos="185724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umber of SIM cards used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rcRect l="0" t="329" r="0" b="329"/>
          <a:stretch/>
        </p:blipFill>
        <p:spPr>
          <a:xfrm>
            <a:off x="1928880" y="1714680"/>
            <a:ext cx="42307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2:26:17Z</dcterms:created>
  <dc:creator>hye-joo.kim</dc:creator>
  <dc:description/>
  <dc:language>en-US</dc:language>
  <cp:lastModifiedBy>Italo Vignoli</cp:lastModifiedBy>
  <dcterms:modified xsi:type="dcterms:W3CDTF">2011-06-21T14:41:10Z</dcterms:modified>
  <cp:revision>1</cp:revision>
  <dc:subject/>
  <dc:title>Slide 1</dc:title>
</cp:coreProperties>
</file>