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665-9827-479D-BDD6-2104C987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B2C-62B9-4035-B71F-3D4A509E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4A2-4292-41C4-8929-F0B0D83F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307-C470-4569-8F91-6C4A6E5A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538-8FC9-4119-B024-1669793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63C-818B-405E-9DA6-AB1C167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618-626B-4A11-A766-600A2B8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486-87B0-4DD2-A364-66C15098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DD1-C3EA-41E1-BAB7-8DF22392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A60-F13D-497A-9D2D-64F07780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E2C-3554-4090-891D-BC1F8CB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D34-9C83-4017-AC0F-188E2E8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F49-3697-4F57-AD10-204B12083E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Placeholder 4"/>
          <p:cNvSpPr/>
          <p:nvPr/>
        </p:nvSpPr>
        <p:spPr>
          <a:xfrm>
            <a:off x="785880" y="1643040"/>
            <a:ext cx="5786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ticipation in current operator’s provision of rewards to encourage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creased spend</a:t>
            </a:r>
            <a:r>
              <a:rPr b="1" i="1" lang="en-GB" sz="1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5" t="0" r="25" b="0"/>
          <a:stretch/>
        </p:blipFill>
        <p:spPr>
          <a:xfrm>
            <a:off x="736560" y="2235240"/>
            <a:ext cx="5956200" cy="2908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0" y="214200"/>
            <a:ext cx="75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There is a clear opportunity for reward programmes to gain greater traction and impact subscriber behaviour as most mobile subscribers are not yet part of an operator led rewar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71840" y="13572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hich types of mobile loyalty schemes are most appealing to subscribers</a:t>
            </a:r>
            <a:r>
              <a:rPr b="1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(rank from 1 to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hart 2" descr=""/>
          <p:cNvPicPr/>
          <p:nvPr/>
        </p:nvPicPr>
        <p:blipFill>
          <a:blip r:embed="rId1"/>
          <a:stretch/>
        </p:blipFill>
        <p:spPr>
          <a:xfrm>
            <a:off x="2584440" y="1736640"/>
            <a:ext cx="4187880" cy="4492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2142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Don’t assume that the same incentives and scheme structures will work equally well across all markets and subscriber segme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21420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Reward schemes, when done right, have the desired impact on subscriber behaviour – reducing churn in developed markets, increasing spend in emerging 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Placeholder 8"/>
          <p:cNvSpPr/>
          <p:nvPr/>
        </p:nvSpPr>
        <p:spPr>
          <a:xfrm>
            <a:off x="1920960" y="1274760"/>
            <a:ext cx="424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b">
            <a:noAutofit/>
          </a:bodyPr>
          <a:p>
            <a:pPr algn="ctr"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umber of SIM cards used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rcRect l="0" t="329" r="0" b="329"/>
          <a:stretch/>
        </p:blipFill>
        <p:spPr>
          <a:xfrm>
            <a:off x="1928880" y="1714680"/>
            <a:ext cx="423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2:26:17Z</dcterms:created>
  <dc:creator>hye-joo.kim</dc:creator>
  <dc:description/>
  <dc:language>en-US</dc:language>
  <cp:lastModifiedBy>Italo Vignoli</cp:lastModifiedBy>
  <dcterms:modified xsi:type="dcterms:W3CDTF">2011-06-21T14:41:10Z</dcterms:modified>
  <cp:revision>1</cp:revision>
  <dc:subject/>
  <dc:title>Slide 1</dc:title>
</cp:coreProperties>
</file>