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E4D-07AD-4699-BA50-4881292C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E53-DAA0-4DCC-ACBC-ACAE7D83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32B-4300-4BEB-8ACD-0724C4E0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0D8-CBAD-4B77-B4E2-7A8EBE4D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C27-B8A5-4495-BD9A-1A473B64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FF5-1771-4B46-B288-81B74113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7D5-67EE-4346-AD73-A4CB89D4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15B-F9BF-4E36-A66A-0F70A9A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41C-E1C5-4FBC-A874-06286087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C1D-F319-49FA-8684-F473010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6BE-423D-4880-B077-409FDAB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BC3-DA46-4A7D-995B-9C5E71F7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D8EC-8880-4C6E-9FC2-713D3EDE7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9" descr="colombe"/>
          <p:cNvPicPr/>
          <p:nvPr/>
        </p:nvPicPr>
        <p:blipFill>
          <a:blip r:embed="rId1"/>
          <a:stretch/>
        </p:blipFill>
        <p:spPr>
          <a:xfrm flipH="1" rot="21233400">
            <a:off x="6179760" y="3246480"/>
            <a:ext cx="20350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55:14Z</dcterms:created>
  <dc:creator>Ученик</dc:creator>
  <dc:description/>
  <dc:language>en-US</dc:language>
  <cp:lastModifiedBy>Ученик</cp:lastModifiedBy>
  <dcterms:modified xsi:type="dcterms:W3CDTF">2011-05-17T11:30:29Z</dcterms:modified>
  <cp:revision>4</cp:revision>
  <dc:subject/>
  <dc:title>Слайд 1</dc:title>
</cp:coreProperties>
</file>