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1FA-4800-4441-96A4-8229F230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20B-A0C2-466A-BB44-A7D2F8FF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3E4-5F13-4C1C-921D-73103B9F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265-538F-4AE1-9DB5-395347DD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8ED-E121-4C1C-80AA-2DD1963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E10-409A-4E35-94A4-450D9EE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7C7-A1EC-43C6-8542-8E31552D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135-BD88-41FE-AADF-D484ED2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2EA-A158-45A5-8E33-CE4654B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4654-9221-4A5A-8A22-85806DEF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C02-FED1-48C7-AF02-591A3C02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A1B-5A56-46B2-A7D8-9C9CDC5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7C8-1C5F-4FA2-AC96-0E8FA826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9" descr="colombe"/>
          <p:cNvPicPr/>
          <p:nvPr/>
        </p:nvPicPr>
        <p:blipFill>
          <a:blip r:embed="rId1"/>
          <a:stretch/>
        </p:blipFill>
        <p:spPr>
          <a:xfrm flipH="1" rot="21233400">
            <a:off x="6179760" y="3246480"/>
            <a:ext cx="20350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9:55:14Z</dcterms:created>
  <dc:creator>Ученик</dc:creator>
  <dc:description/>
  <dc:language>en-US</dc:language>
  <cp:lastModifiedBy>Ученик</cp:lastModifiedBy>
  <dcterms:modified xsi:type="dcterms:W3CDTF">2011-05-17T11:30:29Z</dcterms:modified>
  <cp:revision>4</cp:revision>
  <dc:subject/>
  <dc:title>Слайд 1</dc:title>
</cp:coreProperties>
</file>