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1238256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600" y="5330520"/>
            <a:ext cx="1238256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600" y="53305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54600" y="53305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96400" y="14209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683200" y="14209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600" y="53305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96400" y="53305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683200" y="53305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9600" y="1420920"/>
            <a:ext cx="12382560" cy="74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1238256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1240" y="-73440"/>
            <a:ext cx="1151280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9600" y="53305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600" y="1420920"/>
            <a:ext cx="12382560" cy="74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54600" y="53305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9600" y="5330520"/>
            <a:ext cx="1238256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1238256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9600" y="5330520"/>
            <a:ext cx="1238256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9600" y="53305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54600" y="53305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6400" y="14209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683200" y="14209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9600" y="53305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496400" y="53305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683200" y="5330520"/>
            <a:ext cx="39870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1238256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-73440"/>
            <a:ext cx="1151280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600" y="53305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54600" y="53305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54600" y="1420920"/>
            <a:ext cx="604260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600" y="5330520"/>
            <a:ext cx="12382560" cy="3570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-73440"/>
            <a:ext cx="115128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600" y="1420920"/>
            <a:ext cx="12382560" cy="748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8358120"/>
            <a:ext cx="13004640" cy="140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8358120"/>
            <a:ext cx="13004640" cy="1395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41600" y="3830760"/>
            <a:ext cx="8659800" cy="208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9675720" y="574560"/>
            <a:ext cx="2824200" cy="298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50880" y="2282760"/>
            <a:ext cx="1170000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444320" y="9407520"/>
            <a:ext cx="256032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Modified 7.3.2011 /EH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1600" y="3830400"/>
            <a:ext cx="8662680" cy="2090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41240" y="8476920"/>
            <a:ext cx="8640720" cy="6951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Autofit/>
          </a:bodyPr>
          <a:p>
            <a:pPr indent="0" algn="ctr">
              <a:lnSpc>
                <a:spcPct val="101000"/>
              </a:lnSpc>
              <a:spcAft>
                <a:spcPts val="15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2500" spc="-1" strike="noStrike">
                <a:solidFill>
                  <a:srgbClr val="363c90"/>
                </a:solidFill>
                <a:latin typeface="Arial"/>
                <a:ea typeface="Arial"/>
              </a:rPr>
              <a:t>subtitle</a:t>
            </a:r>
            <a:endParaRPr b="0" i="1" lang="en-US" sz="25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11515680" cy="142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i="1" lang="fi-FI" sz="4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420920"/>
            <a:ext cx="12385800" cy="748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78000" indent="-378000">
              <a:spcBef>
                <a:spcPts val="99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ext text tex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9"/>
              </a:spcBef>
              <a:spcAft>
                <a:spcPts val="176"/>
              </a:spcAft>
              <a:buNone/>
              <a:tabLst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6:41:06Z</dcterms:created>
  <dc:creator>hiltuer</dc:creator>
  <dc:description/>
  <dc:language>en-US</dc:language>
  <cp:lastModifiedBy>hiltuer</cp:lastModifiedBy>
  <dcterms:modified xsi:type="dcterms:W3CDTF">2011-05-02T06:43:36Z</dcterms:modified>
  <cp:revision>3</cp:revision>
  <dc:subject/>
  <dc:title>Slide 1</dc:title>
</cp:coreProperties>
</file>