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6DB39-B117-4363-89A9-81855EDD7F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C7A71-4F74-4A1B-829A-E29EE40F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4B5D9-F7A1-4AD7-8E7E-772E5BB1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EFCB5-6587-434B-A39F-029C0878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09309-6CF7-4745-9072-0AAC0CAD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718920" y="0"/>
            <a:ext cx="791820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11060-81AF-4064-A4E7-AB4C049DB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75A09-B744-475A-83B6-9523D6BD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C16CB-E5F2-4C94-BF2D-A79D4A59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8455B-159C-4C73-B4DB-19C447F2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B3AFC-74B9-40AF-90BE-DC1CD4BE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0610D-221C-4537-A99E-99E39C0D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173FA-1967-4B07-848A-0D265CB277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6C79-9B7A-4176-9D59-1F767677A2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B41E-E7F1-41B7-A33A-A1405DE3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2ED4-336A-45A4-8CDA-91838677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AA70-4ADF-410A-B8D2-CF69BF21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84BF-B879-4CA4-A19E-99AE7E0E6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18920" y="0"/>
            <a:ext cx="791820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9F18-3D9C-42A3-9C18-2AE24C1F3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8A44-4563-467A-A09B-DB392C57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40A2-8F59-427A-97D5-A82BC832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9E47-28E7-4433-9732-275DE911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0867-EBE0-461F-9353-F569C293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B807-37FB-443C-A637-F9839A87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DFF7-49A8-4F2E-AE48-8DF94FEA14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D19D-5BEC-430C-8434-F5B8D2A278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0123-29B0-4E60-92FD-59C91B5D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B335-F676-497A-BC1F-2E175724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AF78-F6E9-4DB4-916F-A04F357C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993C-6767-4BFA-8F06-A27C4E7DB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718920" y="0"/>
            <a:ext cx="791820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D236-36D0-4ADA-8661-780705A0F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3E49-65BA-4CF2-9C92-66EA8E1D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2728-7681-4E5F-9F1F-80D070DD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27B8-3D6A-4F5B-808C-40DAFC46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FB8F-E324-4ADF-B3BC-35FE7183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096C-AA43-4EBE-AEEC-C92C8C38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EB74-19EB-4857-9310-C59BAC20D4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18920" y="0"/>
            <a:ext cx="791820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9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778960" y="0"/>
            <a:ext cx="361800" cy="10796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108000" y="189000"/>
            <a:ext cx="511200" cy="790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6438960" y="5951520"/>
            <a:ext cx="906480" cy="9064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6"/>
          <a:stretch/>
        </p:blipFill>
        <p:spPr>
          <a:xfrm>
            <a:off x="7277040" y="5940360"/>
            <a:ext cx="1866960" cy="752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836640"/>
            <a:ext cx="9177480" cy="6021360"/>
          </a:xfrm>
          <a:prstGeom prst="rect">
            <a:avLst/>
          </a:prstGeom>
          <a:gradFill rotWithShape="0">
            <a:gsLst>
              <a:gs pos="0">
                <a:srgbClr val="158caf"/>
              </a:gs>
              <a:gs pos="100000">
                <a:srgbClr val="09405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479680" cy="8413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8"/>
          <a:stretch/>
        </p:blipFill>
        <p:spPr>
          <a:xfrm>
            <a:off x="539640" y="2160720"/>
            <a:ext cx="1596960" cy="341784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9"/>
          <a:stretch/>
        </p:blipFill>
        <p:spPr>
          <a:xfrm>
            <a:off x="7048440" y="0"/>
            <a:ext cx="2095560" cy="84456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10"/>
          <a:stretch/>
        </p:blipFill>
        <p:spPr>
          <a:xfrm>
            <a:off x="6032520" y="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38200" y="2158920"/>
            <a:ext cx="5397480" cy="32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778960" y="0"/>
            <a:ext cx="361800" cy="1079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108000" y="189000"/>
            <a:ext cx="511200" cy="790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438960" y="5951520"/>
            <a:ext cx="906480" cy="906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7277040" y="5940360"/>
            <a:ext cx="1866960" cy="7524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6658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718920" y="1439640"/>
            <a:ext cx="791820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1"/>
          </p:nvPr>
        </p:nvSpPr>
        <p:spPr>
          <a:xfrm>
            <a:off x="705960" y="6283440"/>
            <a:ext cx="1798920" cy="3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BE" sz="1200" spc="-1" strike="noStrike">
                <a:solidFill>
                  <a:srgbClr val="000066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597AC62-3384-4377-9A14-C057511F1AAE}" type="slidenum">
              <a:rPr b="0" lang="nl-BE" sz="1200" spc="-1" strike="noStrike">
                <a:solidFill>
                  <a:srgbClr val="000066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dt" idx="2"/>
          </p:nvPr>
        </p:nvSpPr>
        <p:spPr>
          <a:xfrm>
            <a:off x="3639600" y="6280200"/>
            <a:ext cx="1798920" cy="3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BE" sz="1200" spc="-1" strike="noStrike">
                <a:solidFill>
                  <a:srgbClr val="000066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nl-BE" sz="1200" spc="-1" strike="noStrike">
                <a:solidFill>
                  <a:srgbClr val="000066"/>
                </a:solidFill>
                <a:latin typeface="Candara"/>
              </a:rPr>
              <a:t>25/01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8778960" y="0"/>
            <a:ext cx="361800" cy="1079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108000" y="189000"/>
            <a:ext cx="511200" cy="790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6438960" y="5951520"/>
            <a:ext cx="906480" cy="906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7277040" y="5940360"/>
            <a:ext cx="1866960" cy="752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8920" y="0"/>
            <a:ext cx="79182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ldNum" idx="3"/>
          </p:nvPr>
        </p:nvSpPr>
        <p:spPr>
          <a:xfrm>
            <a:off x="705960" y="6283440"/>
            <a:ext cx="1798920" cy="3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BE" sz="1200" spc="-1" strike="noStrike">
                <a:solidFill>
                  <a:srgbClr val="000066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6BED135-CDFC-4F43-B4AA-9F06387B5BCA}" type="slidenum">
              <a:rPr b="0" lang="nl-BE" sz="1200" spc="-1" strike="noStrike">
                <a:solidFill>
                  <a:srgbClr val="000066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3639600" y="6280200"/>
            <a:ext cx="1798920" cy="3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BE" sz="1200" spc="-1" strike="noStrike">
                <a:solidFill>
                  <a:srgbClr val="000066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nl-BE" sz="1200" spc="-1" strike="noStrike">
                <a:solidFill>
                  <a:srgbClr val="000066"/>
                </a:solidFill>
                <a:latin typeface="Candara"/>
              </a:rPr>
              <a:t>25/01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8778960" y="0"/>
            <a:ext cx="361800" cy="1079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108000" y="189000"/>
            <a:ext cx="511200" cy="790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6438960" y="5951520"/>
            <a:ext cx="906480" cy="9064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7277040" y="5940360"/>
            <a:ext cx="1866960" cy="7524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96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20720" y="1438200"/>
            <a:ext cx="7918560" cy="46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182b52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182b52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5"/>
          </p:nvPr>
        </p:nvSpPr>
        <p:spPr>
          <a:xfrm>
            <a:off x="693720" y="6254280"/>
            <a:ext cx="179856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BE" sz="1200" spc="-1" strike="noStrike">
                <a:solidFill>
                  <a:srgbClr val="000066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nl-BE" sz="1200" spc="-1" strike="noStrike">
                <a:solidFill>
                  <a:srgbClr val="000066"/>
                </a:solidFill>
                <a:latin typeface="Candara"/>
              </a:rPr>
              <a:t>25/01/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6"/>
          </p:nvPr>
        </p:nvSpPr>
        <p:spPr>
          <a:xfrm>
            <a:off x="6850080" y="6229440"/>
            <a:ext cx="1798560" cy="3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BE" sz="1200" spc="-1" strike="noStrike">
                <a:solidFill>
                  <a:srgbClr val="000066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43EC31C-CBF6-45CE-ACA2-4EF6B59372BA}" type="slidenum">
              <a:rPr b="0" lang="nl-BE" sz="1200" spc="-1" strike="noStrike">
                <a:solidFill>
                  <a:srgbClr val="000066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600360" y="2982960"/>
                <a:ext cx="24606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=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=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