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png" ContentType="image/png"/>
  <Override PartName="/ppt/media/image9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18920" y="0"/>
            <a:ext cx="791820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18920" y="0"/>
            <a:ext cx="791820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8920" y="0"/>
            <a:ext cx="791820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5D7F6-3C41-4279-A519-58ABF5420C6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18920" y="0"/>
            <a:ext cx="791820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12B11-0155-4658-AF87-9E60DD85F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18920" y="0"/>
            <a:ext cx="791820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A6C96-E6EB-46A8-B903-2635B2AB8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18920" y="0"/>
            <a:ext cx="791820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334C1-61C9-45F2-BBB6-ED6ABD43E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18920" y="0"/>
            <a:ext cx="791820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E2ABF-C4F9-4A76-A8C0-B8C4296F8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718920" y="0"/>
            <a:ext cx="791820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C31B9-8142-49D1-8862-A82669D17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18920" y="0"/>
            <a:ext cx="791820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CADDC-5816-4B0C-9C90-D4C7BF4AF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18920" y="0"/>
            <a:ext cx="791820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18920" y="0"/>
            <a:ext cx="791820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8757F-FEBC-4C52-BEFE-9A824AD83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18920" y="0"/>
            <a:ext cx="791820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C9A96-3F9C-4946-A603-F6D777E6C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18920" y="0"/>
            <a:ext cx="791820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670C5-0229-4C90-9FB6-1BDBB4EA0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18920" y="0"/>
            <a:ext cx="791820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9F376-DBC2-48CA-9905-63BE38D53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18920" y="0"/>
            <a:ext cx="791820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B76AA-3976-4760-A43A-1ED7F19C310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0821-3CA7-45BB-B123-557487B8A2B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18920" y="0"/>
            <a:ext cx="791820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FC59-80D4-478B-AF47-844FDFBF9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18920" y="0"/>
            <a:ext cx="791820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645B-015D-4793-8544-5E8C3D6B0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18920" y="0"/>
            <a:ext cx="791820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3F76-0AD9-4A9D-9A52-AD7BEA1E8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18920" y="0"/>
            <a:ext cx="791820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1C97-5B60-4C05-9597-FB9E91FC3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18920" y="0"/>
            <a:ext cx="791820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718920" y="0"/>
            <a:ext cx="791820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6435-09DB-438A-B253-186B257B9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18920" y="0"/>
            <a:ext cx="791820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08FA-82BD-411F-95A0-AEB6D3846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18920" y="0"/>
            <a:ext cx="791820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EEE9-B1A3-4C1A-BC31-02AF1E4D7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18920" y="0"/>
            <a:ext cx="791820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2D72-F533-48AB-9EED-E30C04275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18920" y="0"/>
            <a:ext cx="791820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7033-6B85-4B95-B898-B2F607963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18920" y="0"/>
            <a:ext cx="791820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5098-2462-4E13-8A24-C1A29556D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18920" y="0"/>
            <a:ext cx="791820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DA62-0B6B-485A-B25E-F61D41D2138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02696-9E52-4C36-8D4D-EFBA79C6D64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18920" y="0"/>
            <a:ext cx="791820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31BDD-4ECB-413A-B3C7-C4847B0AB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18920" y="0"/>
            <a:ext cx="791820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CA98E-51F8-4E02-9517-5AA7C70D9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18920" y="0"/>
            <a:ext cx="791820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18920" y="0"/>
            <a:ext cx="791820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B55CA-B81C-4570-A189-318940121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18920" y="0"/>
            <a:ext cx="791820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657E4-C39E-42C5-AB8A-C1B8BA737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718920" y="0"/>
            <a:ext cx="791820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79E82-4A6F-4922-A694-4BFA89358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18920" y="0"/>
            <a:ext cx="791820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F83AE-5CA7-43A0-8924-39B265493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18920" y="0"/>
            <a:ext cx="791820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BA721-1DE0-4006-AD48-287682B64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18920" y="0"/>
            <a:ext cx="791820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151AA-9244-4D1F-80A3-F2733C1B0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18920" y="0"/>
            <a:ext cx="791820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37FC2-45C8-424B-9FC9-7988FD403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18920" y="0"/>
            <a:ext cx="791820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EDA8C-A9FE-4564-B31C-B2BE17038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18920" y="0"/>
            <a:ext cx="791820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4F977-721B-48A9-8D2B-8564FC10CF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18920" y="0"/>
            <a:ext cx="791820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718920" y="0"/>
            <a:ext cx="791820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18920" y="0"/>
            <a:ext cx="791820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18920" y="0"/>
            <a:ext cx="791820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18920" y="0"/>
            <a:ext cx="791820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jpeg"/><Relationship Id="rId8" Type="http://schemas.openxmlformats.org/officeDocument/2006/relationships/image" Target="../media/image7.png"/><Relationship Id="rId9" Type="http://schemas.openxmlformats.org/officeDocument/2006/relationships/image" Target="../media/image8.jpe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9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8778960" y="0"/>
            <a:ext cx="361800" cy="107964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>
            <a:lum contrast="18000"/>
          </a:blip>
          <a:stretch/>
        </p:blipFill>
        <p:spPr>
          <a:xfrm>
            <a:off x="108000" y="189000"/>
            <a:ext cx="511200" cy="790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5"/>
          <a:stretch/>
        </p:blipFill>
        <p:spPr>
          <a:xfrm>
            <a:off x="6438960" y="5951520"/>
            <a:ext cx="906480" cy="90648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6"/>
          <a:stretch/>
        </p:blipFill>
        <p:spPr>
          <a:xfrm>
            <a:off x="7277040" y="5940360"/>
            <a:ext cx="1866960" cy="7524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0" y="836640"/>
            <a:ext cx="9177480" cy="6021360"/>
          </a:xfrm>
          <a:prstGeom prst="rect">
            <a:avLst/>
          </a:prstGeom>
          <a:gradFill rotWithShape="0">
            <a:gsLst>
              <a:gs pos="0">
                <a:srgbClr val="158caf"/>
              </a:gs>
              <a:gs pos="100000">
                <a:srgbClr val="09405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7"/>
          <a:stretch/>
        </p:blipFill>
        <p:spPr>
          <a:xfrm>
            <a:off x="0" y="0"/>
            <a:ext cx="2479680" cy="84132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8"/>
          <a:stretch/>
        </p:blipFill>
        <p:spPr>
          <a:xfrm>
            <a:off x="539640" y="2160720"/>
            <a:ext cx="1596960" cy="341784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9"/>
          <a:stretch/>
        </p:blipFill>
        <p:spPr>
          <a:xfrm>
            <a:off x="7048440" y="0"/>
            <a:ext cx="2095560" cy="84456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10"/>
          <a:stretch/>
        </p:blipFill>
        <p:spPr>
          <a:xfrm>
            <a:off x="6032520" y="0"/>
            <a:ext cx="1079640" cy="107964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38200" y="2158920"/>
            <a:ext cx="5397480" cy="32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82b52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82b52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82b52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82b52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82b52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82b52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82b52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778960" y="0"/>
            <a:ext cx="361800" cy="1079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>
            <a:lum contrast="18000"/>
          </a:blip>
          <a:stretch/>
        </p:blipFill>
        <p:spPr>
          <a:xfrm>
            <a:off x="108000" y="189000"/>
            <a:ext cx="511200" cy="7905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6438960" y="5951520"/>
            <a:ext cx="906480" cy="906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7277040" y="5940360"/>
            <a:ext cx="1866960" cy="7524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0"/>
            <a:ext cx="766584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718920" y="1439640"/>
            <a:ext cx="7918200" cy="46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82b52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82b52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82b52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82b52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82b52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82b52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82b52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1"/>
          </p:nvPr>
        </p:nvSpPr>
        <p:spPr>
          <a:xfrm>
            <a:off x="705960" y="6283440"/>
            <a:ext cx="1798920" cy="3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nl-BE" sz="1200" spc="-1" strike="noStrike">
                <a:solidFill>
                  <a:srgbClr val="000066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FD6A2D1-9DF8-4DEB-8606-37BFAC859DB6}" type="slidenum">
              <a:rPr b="0" lang="nl-BE" sz="1200" spc="-1" strike="noStrike">
                <a:solidFill>
                  <a:srgbClr val="000066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dt" idx="2"/>
          </p:nvPr>
        </p:nvSpPr>
        <p:spPr>
          <a:xfrm>
            <a:off x="3639600" y="6280200"/>
            <a:ext cx="1798920" cy="3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spcBef>
                <a:spcPts val="238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nl-BE" sz="1200" spc="-1" strike="noStrike">
                <a:solidFill>
                  <a:srgbClr val="000066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spcBef>
                <a:spcPts val="238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nl-BE" sz="1200" spc="-1" strike="noStrike">
                <a:solidFill>
                  <a:srgbClr val="000066"/>
                </a:solidFill>
                <a:latin typeface="Candara"/>
              </a:rPr>
              <a:t>25/01/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8778960" y="0"/>
            <a:ext cx="361800" cy="10796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>
            <a:lum contrast="18000"/>
          </a:blip>
          <a:stretch/>
        </p:blipFill>
        <p:spPr>
          <a:xfrm>
            <a:off x="108000" y="189000"/>
            <a:ext cx="511200" cy="7905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6438960" y="5951520"/>
            <a:ext cx="906480" cy="9064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7277040" y="5940360"/>
            <a:ext cx="1866960" cy="7524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18920" y="0"/>
            <a:ext cx="791820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ldNum" idx="3"/>
          </p:nvPr>
        </p:nvSpPr>
        <p:spPr>
          <a:xfrm>
            <a:off x="705960" y="6283440"/>
            <a:ext cx="1798920" cy="3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nl-BE" sz="1200" spc="-1" strike="noStrike">
                <a:solidFill>
                  <a:srgbClr val="000066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51E54B3-882A-4840-A2E2-6A4F1F45AA5A}" type="slidenum">
              <a:rPr b="0" lang="nl-BE" sz="1200" spc="-1" strike="noStrike">
                <a:solidFill>
                  <a:srgbClr val="000066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4"/>
          </p:nvPr>
        </p:nvSpPr>
        <p:spPr>
          <a:xfrm>
            <a:off x="3639600" y="6280200"/>
            <a:ext cx="1798920" cy="3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spcBef>
                <a:spcPts val="238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nl-BE" sz="1200" spc="-1" strike="noStrike">
                <a:solidFill>
                  <a:srgbClr val="000066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spcBef>
                <a:spcPts val="238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nl-BE" sz="1200" spc="-1" strike="noStrike">
                <a:solidFill>
                  <a:srgbClr val="000066"/>
                </a:solidFill>
                <a:latin typeface="Candara"/>
              </a:rPr>
              <a:t>25/01/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82b52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82b52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82b52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82b52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82b52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82b52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82b52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8778960" y="0"/>
            <a:ext cx="361800" cy="10796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>
            <a:lum contrast="18000"/>
          </a:blip>
          <a:stretch/>
        </p:blipFill>
        <p:spPr>
          <a:xfrm>
            <a:off x="108000" y="189000"/>
            <a:ext cx="511200" cy="7905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6438960" y="5951520"/>
            <a:ext cx="906480" cy="9064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6"/>
          <a:stretch/>
        </p:blipFill>
        <p:spPr>
          <a:xfrm>
            <a:off x="7277040" y="5940360"/>
            <a:ext cx="1866960" cy="7524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7596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20720" y="1438200"/>
            <a:ext cx="7918560" cy="467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82b52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82b52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82b52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82b52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82b52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82b52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82b52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5"/>
          </p:nvPr>
        </p:nvSpPr>
        <p:spPr>
          <a:xfrm>
            <a:off x="693720" y="6254280"/>
            <a:ext cx="1798560" cy="3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spcBef>
                <a:spcPts val="238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nl-BE" sz="1200" spc="-1" strike="noStrike">
                <a:solidFill>
                  <a:srgbClr val="000066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spcBef>
                <a:spcPts val="238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nl-BE" sz="1200" spc="-1" strike="noStrike">
                <a:solidFill>
                  <a:srgbClr val="000066"/>
                </a:solidFill>
                <a:latin typeface="Candara"/>
              </a:rPr>
              <a:t>25/01/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sldNum" idx="6"/>
          </p:nvPr>
        </p:nvSpPr>
        <p:spPr>
          <a:xfrm>
            <a:off x="6850080" y="6229440"/>
            <a:ext cx="1798560" cy="3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spcBef>
                <a:spcPts val="238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nl-BE" sz="1200" spc="-1" strike="noStrike">
                <a:solidFill>
                  <a:srgbClr val="000066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spcBef>
                <a:spcPts val="238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3B5988B-37E0-4157-81D9-2EEE3A2F300E}" type="slidenum">
              <a:rPr b="0" lang="nl-BE" sz="1200" spc="-1" strike="noStrike">
                <a:solidFill>
                  <a:srgbClr val="000066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3600360" y="2982960"/>
                <a:ext cx="24606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=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ε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τ</m:t>
                    </m:r>
                    <m:r>
                      <m:rPr>
                        <m:lit/>
                        <m:nor/>
                      </m:rPr>
                      <m:t xml:space="preserve">=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