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0238-FB5E-4C64-819C-29298992F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856D-92D5-46A5-95C5-E49D4698A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B4E0-8692-4571-9171-03DDD05B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3480" y="404964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E000-4B33-4DA1-89E2-7A381C1A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700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5DB5-A732-4B52-921F-2FAB8CBC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060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736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9348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060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736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1E35-8C56-46FE-AF92-D3F600D7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7FAE-1CDB-47C6-B1CB-F27A8BDB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44F1-8F63-43A3-B525-A4D1DC58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9CAB-09BA-439C-B8CE-D9F364BD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EE67-03B8-4EF0-A2E5-1119D013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42CC-B045-4DDA-989F-79A6B38F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55680" y="-360"/>
            <a:ext cx="829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AC53-0605-42F2-98B9-CF77D5B9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E385-D2FE-4B9B-80A3-A3ED6D79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9F1D-8C56-4DBE-BCE3-EE152C87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1700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5D5C-CCC3-45B2-BD13-D3BE97EC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8F89-A408-4B15-82C5-A722CD00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3480" y="404964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9C22-907F-4103-A8E1-79482AAD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1700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B72E-CF53-42AE-8C98-FFBB4DDE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8060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736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9348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8060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736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9439-CD23-4A80-957C-29A5F765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4545-E9DB-46EB-A663-A16DCEC4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55680" y="-360"/>
            <a:ext cx="829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1700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93480" y="404964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1700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8060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67360" y="205092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9348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8060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67360" y="4049640"/>
            <a:ext cx="2653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21C1-38BF-41D1-9D77-7C7FCABA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09A1-992B-4FA5-9C3D-0BC5D748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-360"/>
            <a:ext cx="829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DB3B-B056-41C9-8298-1B29F518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A5A3-FD0B-44A2-92E8-DB21AB8B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7000" y="404964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42F7-64F9-48A9-9BDC-F07C973F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348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7000" y="2050920"/>
            <a:ext cx="402192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3480" y="4049640"/>
            <a:ext cx="8242200" cy="18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7BBA-B6D9-4C84-B72A-68E636C1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1749"/>
              </a:spcBef>
              <a:spcAft>
                <a:spcPts val="1749"/>
              </a:spcAft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90320" indent="-1886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75420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05588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bilingualcolourlogo"/>
          <p:cNvPicPr/>
          <p:nvPr/>
        </p:nvPicPr>
        <p:blipFill>
          <a:blip r:embed="rId2"/>
          <a:stretch/>
        </p:blipFill>
        <p:spPr>
          <a:xfrm>
            <a:off x="7129440" y="6369120"/>
            <a:ext cx="1824120" cy="336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7861320" y="6375240"/>
            <a:ext cx="5335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B86E-FD1E-47EF-B61A-290BDE860137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190440" y="2003400"/>
            <a:ext cx="615960" cy="2851200"/>
          </a:xfrm>
          <a:custGeom>
            <a:avLst/>
            <a:gdLst/>
            <a:ahLst/>
            <a:rect l="l" t="t" r="r" b="b"/>
            <a:pathLst>
              <a:path w="388" h="1796">
                <a:moveTo>
                  <a:pt x="384" y="0"/>
                </a:moveTo>
                <a:lnTo>
                  <a:pt x="0" y="612"/>
                </a:lnTo>
                <a:lnTo>
                  <a:pt x="0" y="1192"/>
                </a:lnTo>
                <a:lnTo>
                  <a:pt x="388" y="1796"/>
                </a:lnTo>
                <a:lnTo>
                  <a:pt x="388" y="1280"/>
                </a:lnTo>
                <a:lnTo>
                  <a:pt x="148" y="896"/>
                </a:lnTo>
                <a:lnTo>
                  <a:pt x="388" y="504"/>
                </a:lnTo>
                <a:lnTo>
                  <a:pt x="384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990720" y="2003400"/>
            <a:ext cx="615960" cy="2851200"/>
          </a:xfrm>
          <a:custGeom>
            <a:avLst/>
            <a:gdLst/>
            <a:ahLst/>
            <a:rect l="l" t="t" r="r" b="b"/>
            <a:pathLst>
              <a:path w="388" h="1796">
                <a:moveTo>
                  <a:pt x="384" y="0"/>
                </a:moveTo>
                <a:lnTo>
                  <a:pt x="0" y="612"/>
                </a:lnTo>
                <a:lnTo>
                  <a:pt x="0" y="1192"/>
                </a:lnTo>
                <a:lnTo>
                  <a:pt x="388" y="1796"/>
                </a:lnTo>
                <a:lnTo>
                  <a:pt x="388" y="1280"/>
                </a:lnTo>
                <a:lnTo>
                  <a:pt x="148" y="896"/>
                </a:lnTo>
                <a:lnTo>
                  <a:pt x="388" y="504"/>
                </a:lnTo>
                <a:lnTo>
                  <a:pt x="384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190440" y="2003400"/>
            <a:ext cx="615960" cy="2851200"/>
          </a:xfrm>
          <a:custGeom>
            <a:avLst/>
            <a:gdLst/>
            <a:ahLst/>
            <a:rect l="l" t="t" r="r" b="b"/>
            <a:pathLst>
              <a:path w="388" h="1796">
                <a:moveTo>
                  <a:pt x="384" y="0"/>
                </a:moveTo>
                <a:lnTo>
                  <a:pt x="0" y="612"/>
                </a:lnTo>
                <a:lnTo>
                  <a:pt x="0" y="1192"/>
                </a:lnTo>
                <a:lnTo>
                  <a:pt x="388" y="1796"/>
                </a:lnTo>
                <a:lnTo>
                  <a:pt x="388" y="1280"/>
                </a:lnTo>
                <a:lnTo>
                  <a:pt x="148" y="896"/>
                </a:lnTo>
                <a:lnTo>
                  <a:pt x="388" y="504"/>
                </a:lnTo>
                <a:lnTo>
                  <a:pt x="384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8"/>
          <p:cNvSpPr/>
          <p:nvPr/>
        </p:nvSpPr>
        <p:spPr>
          <a:xfrm>
            <a:off x="990720" y="2003400"/>
            <a:ext cx="615960" cy="2851200"/>
          </a:xfrm>
          <a:custGeom>
            <a:avLst/>
            <a:gdLst/>
            <a:ahLst/>
            <a:rect l="l" t="t" r="r" b="b"/>
            <a:pathLst>
              <a:path w="388" h="1796">
                <a:moveTo>
                  <a:pt x="384" y="0"/>
                </a:moveTo>
                <a:lnTo>
                  <a:pt x="0" y="612"/>
                </a:lnTo>
                <a:lnTo>
                  <a:pt x="0" y="1192"/>
                </a:lnTo>
                <a:lnTo>
                  <a:pt x="388" y="1796"/>
                </a:lnTo>
                <a:lnTo>
                  <a:pt x="388" y="1280"/>
                </a:lnTo>
                <a:lnTo>
                  <a:pt x="148" y="896"/>
                </a:lnTo>
                <a:lnTo>
                  <a:pt x="388" y="504"/>
                </a:lnTo>
                <a:lnTo>
                  <a:pt x="384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1749"/>
              </a:spcBef>
              <a:spcAft>
                <a:spcPts val="1749"/>
              </a:spcAft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90320" indent="-1886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75420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05588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bilingualcolourlogo"/>
          <p:cNvPicPr/>
          <p:nvPr/>
        </p:nvPicPr>
        <p:blipFill>
          <a:blip r:embed="rId2"/>
          <a:stretch/>
        </p:blipFill>
        <p:spPr>
          <a:xfrm>
            <a:off x="7129440" y="6369120"/>
            <a:ext cx="1824120" cy="3366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7861320" y="6375240"/>
            <a:ext cx="5335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B08B-CCC5-452A-AE7F-48469AA0AF3A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9"/>
          <p:cNvSpPr/>
          <p:nvPr/>
        </p:nvSpPr>
        <p:spPr>
          <a:xfrm>
            <a:off x="190440" y="2003400"/>
            <a:ext cx="615960" cy="2851200"/>
          </a:xfrm>
          <a:custGeom>
            <a:avLst/>
            <a:gdLst/>
            <a:ahLst/>
            <a:rect l="l" t="t" r="r" b="b"/>
            <a:pathLst>
              <a:path w="388" h="1796">
                <a:moveTo>
                  <a:pt x="384" y="0"/>
                </a:moveTo>
                <a:lnTo>
                  <a:pt x="0" y="612"/>
                </a:lnTo>
                <a:lnTo>
                  <a:pt x="0" y="1192"/>
                </a:lnTo>
                <a:lnTo>
                  <a:pt x="388" y="1796"/>
                </a:lnTo>
                <a:lnTo>
                  <a:pt x="388" y="1280"/>
                </a:lnTo>
                <a:lnTo>
                  <a:pt x="148" y="896"/>
                </a:lnTo>
                <a:lnTo>
                  <a:pt x="388" y="504"/>
                </a:lnTo>
                <a:lnTo>
                  <a:pt x="384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0"/>
          <p:cNvSpPr/>
          <p:nvPr/>
        </p:nvSpPr>
        <p:spPr>
          <a:xfrm>
            <a:off x="990720" y="2003400"/>
            <a:ext cx="615960" cy="2851200"/>
          </a:xfrm>
          <a:custGeom>
            <a:avLst/>
            <a:gdLst/>
            <a:ahLst/>
            <a:rect l="l" t="t" r="r" b="b"/>
            <a:pathLst>
              <a:path w="388" h="1796">
                <a:moveTo>
                  <a:pt x="384" y="0"/>
                </a:moveTo>
                <a:lnTo>
                  <a:pt x="0" y="612"/>
                </a:lnTo>
                <a:lnTo>
                  <a:pt x="0" y="1192"/>
                </a:lnTo>
                <a:lnTo>
                  <a:pt x="388" y="1796"/>
                </a:lnTo>
                <a:lnTo>
                  <a:pt x="388" y="1280"/>
                </a:lnTo>
                <a:lnTo>
                  <a:pt x="148" y="896"/>
                </a:lnTo>
                <a:lnTo>
                  <a:pt x="388" y="504"/>
                </a:lnTo>
                <a:lnTo>
                  <a:pt x="384" y="0"/>
                </a:lnTo>
                <a:close/>
              </a:path>
            </a:pathLst>
          </a:cu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393480" y="2050920"/>
            <a:ext cx="824220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1749"/>
              </a:spcBef>
              <a:spcAft>
                <a:spcPts val="1749"/>
              </a:spcAft>
              <a:buClr>
                <a:srgbClr val="0000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90320" indent="-1886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75420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05588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357560" indent="-150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 rot="16200000">
            <a:off x="6903000" y="-277200"/>
            <a:ext cx="366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8:11:20Z</dcterms:created>
  <dc:creator/>
  <dc:description/>
  <dc:language>en-US</dc:language>
  <cp:lastModifiedBy/>
  <dcterms:modified xsi:type="dcterms:W3CDTF">2023-10-16T10:36:28Z</dcterms:modified>
  <cp:revision>1</cp:revision>
  <dc:subject/>
  <dc:title/>
</cp:coreProperties>
</file>