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B786-7039-4A70-AC46-785E2264B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BEBB-E2C7-4D04-BD23-4C00E6281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D09-41D3-47E4-B48F-C850FA3F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B1C0-85B0-4EA8-BA64-111E87CD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704-5EB3-4FB2-AC95-0EFB8C2E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060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736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348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060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736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163-8E6D-411F-A435-F1A6DA1D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02A6-26A5-4AA9-A622-37AADC84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FE05-3F0B-4066-AA47-61ADC443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5B9B-8034-4BCD-B0F4-96F16C21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85D5-C7D7-424E-BB56-B2ADF619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EE54-EC08-4597-8B89-5CA90988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55680" y="-360"/>
            <a:ext cx="829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CAF1-55B0-4C75-B35E-B093C56F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BB0A-76FF-4531-8286-510CFA6A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C88-5B06-4877-B78A-EDB6AFE9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0EFC-E29E-431E-990C-AD072A48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A3A7-180F-44F2-B00B-8DE91C94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F503-1E69-4C8A-B370-75957155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B2DB-063D-4D74-92F0-D2C861A1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060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736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348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060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736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8DD4-61ED-49B1-9797-04E4D67C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E94-D7CB-42F7-A205-061D5085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55680" y="-360"/>
            <a:ext cx="829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060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736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9348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060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736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4EF-1C41-4D0B-B95F-7C999853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B0F-6B24-4FD7-BA80-7FBE3D20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-360"/>
            <a:ext cx="829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EAB-E0D9-406B-AEDD-B4E4923B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834-A5FE-4B28-9336-C4B87520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5E5-D14C-4C75-81CF-C85A25B3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05D-0235-41DB-B715-31D40498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749"/>
              </a:spcBef>
              <a:spcAft>
                <a:spcPts val="1749"/>
              </a:spcAft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bilingualcolourlogo"/>
          <p:cNvPicPr/>
          <p:nvPr/>
        </p:nvPicPr>
        <p:blipFill>
          <a:blip r:embed="rId2"/>
          <a:stretch/>
        </p:blipFill>
        <p:spPr>
          <a:xfrm>
            <a:off x="7129440" y="6369120"/>
            <a:ext cx="1824120" cy="336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7861320" y="6375240"/>
            <a:ext cx="53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204C-4371-4A0E-9430-9D6D725C372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19044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99072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19044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8"/>
          <p:cNvSpPr/>
          <p:nvPr/>
        </p:nvSpPr>
        <p:spPr>
          <a:xfrm>
            <a:off x="99072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749"/>
              </a:spcBef>
              <a:spcAft>
                <a:spcPts val="1749"/>
              </a:spcAft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bilingualcolourlogo"/>
          <p:cNvPicPr/>
          <p:nvPr/>
        </p:nvPicPr>
        <p:blipFill>
          <a:blip r:embed="rId2"/>
          <a:stretch/>
        </p:blipFill>
        <p:spPr>
          <a:xfrm>
            <a:off x="7129440" y="6369120"/>
            <a:ext cx="1824120" cy="336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7861320" y="6375240"/>
            <a:ext cx="53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A47C-7589-4B1F-B428-548B821DF6D7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9"/>
          <p:cNvSpPr/>
          <p:nvPr/>
        </p:nvSpPr>
        <p:spPr>
          <a:xfrm>
            <a:off x="19044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99072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749"/>
              </a:spcBef>
              <a:spcAft>
                <a:spcPts val="1749"/>
              </a:spcAft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 rot="16200000">
            <a:off x="6903000" y="-277200"/>
            <a:ext cx="366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8:11:20Z</dcterms:created>
  <dc:creator/>
  <dc:description/>
  <dc:language>en-US</dc:language>
  <cp:lastModifiedBy/>
  <dcterms:modified xsi:type="dcterms:W3CDTF">2023-10-16T10:36:28Z</dcterms:modified>
  <cp:revision>1</cp:revision>
  <dc:subject/>
  <dc:title/>
</cp:coreProperties>
</file>