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6913-CBB0-4258-B91A-49B2BD5B2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575D-DDD5-4E90-8F54-9EB85DA73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173A-4427-4CA7-9701-57BBFA64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824220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3480" y="4049640"/>
            <a:ext cx="824220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21AB-8C96-4DC7-B4AF-46198237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9348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700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B43B-B9A0-4B95-B1E2-6E0D7F38F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0600" y="205092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7360" y="205092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93480" y="404964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0600" y="404964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7360" y="404964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C9A7-65F8-4298-834D-14F16D6F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04A3-A7A1-495C-9B88-74C0CDFE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93480" y="2050920"/>
            <a:ext cx="8242200" cy="38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BF9D-79B2-4FB8-8929-82FBC79D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824220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E69A-1015-4101-A0B1-0CCC8B49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24EB-B26F-4F15-9D31-EED84CC5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BE23-C0C1-47AA-ADA6-34525DF2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55680" y="-360"/>
            <a:ext cx="8292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DD8C-E33B-46AD-B833-87729E31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348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6B98-1320-49E0-93C5-B4558C69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93480" y="2050920"/>
            <a:ext cx="8242200" cy="38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663E-CBDD-4EED-A031-DF1A8F8D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1700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7E26-ABCD-4264-9E9D-43E9843B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3480" y="4049640"/>
            <a:ext cx="824220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FCF9-67DB-446F-AA25-213B12A9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824220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3480" y="4049640"/>
            <a:ext cx="824220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65B7-2A8A-46BE-BF2E-27EACC17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9348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1700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61B5-43EA-43C3-B557-6F83CE2D7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80600" y="205092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7360" y="205092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93480" y="404964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80600" y="404964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7360" y="404964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D440-F68F-4BF4-BDD4-6AAF6FD59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3480" y="2050920"/>
            <a:ext cx="8242200" cy="38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824220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824220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F1FD-E4EC-4665-992B-B102F2C2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55680" y="-360"/>
            <a:ext cx="8292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348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1700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93480" y="4049640"/>
            <a:ext cx="824220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824220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93480" y="4049640"/>
            <a:ext cx="824220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9348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1700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80600" y="205092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67360" y="205092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93480" y="404964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80600" y="404964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67360" y="404964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C2E7-CCD2-48C0-B2D8-0FDA1D73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1C53-DABE-4316-95ED-462137E2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-360"/>
            <a:ext cx="8292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B3FD-1552-4F46-B841-76085413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348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ECB9-6FCC-4159-95D0-9CD4CF71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700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18C5-BEAD-42AF-8083-43F49813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93480" y="4049640"/>
            <a:ext cx="824220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1EA3-4602-4FEE-A3F8-74AA6B60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3480" y="2050920"/>
            <a:ext cx="824220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1749"/>
              </a:spcBef>
              <a:spcAft>
                <a:spcPts val="1749"/>
              </a:spcAft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90320" indent="-1886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75420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05588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35756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35756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35756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bilingualcolourlogo"/>
          <p:cNvPicPr/>
          <p:nvPr/>
        </p:nvPicPr>
        <p:blipFill>
          <a:blip r:embed="rId2"/>
          <a:stretch/>
        </p:blipFill>
        <p:spPr>
          <a:xfrm>
            <a:off x="7129440" y="6369120"/>
            <a:ext cx="1824120" cy="3366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7861320" y="6375240"/>
            <a:ext cx="5335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117E-1790-4891-ADD8-EACABE2755FE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190440" y="2003400"/>
            <a:ext cx="615960" cy="2851200"/>
          </a:xfrm>
          <a:custGeom>
            <a:avLst/>
            <a:gdLst/>
            <a:ahLst/>
            <a:rect l="l" t="t" r="r" b="b"/>
            <a:pathLst>
              <a:path w="388" h="1796">
                <a:moveTo>
                  <a:pt x="384" y="0"/>
                </a:moveTo>
                <a:lnTo>
                  <a:pt x="0" y="612"/>
                </a:lnTo>
                <a:lnTo>
                  <a:pt x="0" y="1192"/>
                </a:lnTo>
                <a:lnTo>
                  <a:pt x="388" y="1796"/>
                </a:lnTo>
                <a:lnTo>
                  <a:pt x="388" y="1280"/>
                </a:lnTo>
                <a:lnTo>
                  <a:pt x="148" y="896"/>
                </a:lnTo>
                <a:lnTo>
                  <a:pt x="388" y="504"/>
                </a:lnTo>
                <a:lnTo>
                  <a:pt x="384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990720" y="2003400"/>
            <a:ext cx="615960" cy="2851200"/>
          </a:xfrm>
          <a:custGeom>
            <a:avLst/>
            <a:gdLst/>
            <a:ahLst/>
            <a:rect l="l" t="t" r="r" b="b"/>
            <a:pathLst>
              <a:path w="388" h="1796">
                <a:moveTo>
                  <a:pt x="384" y="0"/>
                </a:moveTo>
                <a:lnTo>
                  <a:pt x="0" y="612"/>
                </a:lnTo>
                <a:lnTo>
                  <a:pt x="0" y="1192"/>
                </a:lnTo>
                <a:lnTo>
                  <a:pt x="388" y="1796"/>
                </a:lnTo>
                <a:lnTo>
                  <a:pt x="388" y="1280"/>
                </a:lnTo>
                <a:lnTo>
                  <a:pt x="148" y="896"/>
                </a:lnTo>
                <a:lnTo>
                  <a:pt x="388" y="504"/>
                </a:lnTo>
                <a:lnTo>
                  <a:pt x="384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7"/>
          <p:cNvSpPr/>
          <p:nvPr/>
        </p:nvSpPr>
        <p:spPr>
          <a:xfrm>
            <a:off x="190440" y="2003400"/>
            <a:ext cx="615960" cy="2851200"/>
          </a:xfrm>
          <a:custGeom>
            <a:avLst/>
            <a:gdLst/>
            <a:ahLst/>
            <a:rect l="l" t="t" r="r" b="b"/>
            <a:pathLst>
              <a:path w="388" h="1796">
                <a:moveTo>
                  <a:pt x="384" y="0"/>
                </a:moveTo>
                <a:lnTo>
                  <a:pt x="0" y="612"/>
                </a:lnTo>
                <a:lnTo>
                  <a:pt x="0" y="1192"/>
                </a:lnTo>
                <a:lnTo>
                  <a:pt x="388" y="1796"/>
                </a:lnTo>
                <a:lnTo>
                  <a:pt x="388" y="1280"/>
                </a:lnTo>
                <a:lnTo>
                  <a:pt x="148" y="896"/>
                </a:lnTo>
                <a:lnTo>
                  <a:pt x="388" y="504"/>
                </a:lnTo>
                <a:lnTo>
                  <a:pt x="384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8"/>
          <p:cNvSpPr/>
          <p:nvPr/>
        </p:nvSpPr>
        <p:spPr>
          <a:xfrm>
            <a:off x="990720" y="2003400"/>
            <a:ext cx="615960" cy="2851200"/>
          </a:xfrm>
          <a:custGeom>
            <a:avLst/>
            <a:gdLst/>
            <a:ahLst/>
            <a:rect l="l" t="t" r="r" b="b"/>
            <a:pathLst>
              <a:path w="388" h="1796">
                <a:moveTo>
                  <a:pt x="384" y="0"/>
                </a:moveTo>
                <a:lnTo>
                  <a:pt x="0" y="612"/>
                </a:lnTo>
                <a:lnTo>
                  <a:pt x="0" y="1192"/>
                </a:lnTo>
                <a:lnTo>
                  <a:pt x="388" y="1796"/>
                </a:lnTo>
                <a:lnTo>
                  <a:pt x="388" y="1280"/>
                </a:lnTo>
                <a:lnTo>
                  <a:pt x="148" y="896"/>
                </a:lnTo>
                <a:lnTo>
                  <a:pt x="388" y="504"/>
                </a:lnTo>
                <a:lnTo>
                  <a:pt x="384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93480" y="2050920"/>
            <a:ext cx="824220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1749"/>
              </a:spcBef>
              <a:spcAft>
                <a:spcPts val="1749"/>
              </a:spcAft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90320" indent="-1886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75420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05588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35756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35756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35756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bilingualcolourlogo"/>
          <p:cNvPicPr/>
          <p:nvPr/>
        </p:nvPicPr>
        <p:blipFill>
          <a:blip r:embed="rId2"/>
          <a:stretch/>
        </p:blipFill>
        <p:spPr>
          <a:xfrm>
            <a:off x="7129440" y="6369120"/>
            <a:ext cx="1824120" cy="3366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8"/>
          <p:cNvSpPr/>
          <p:nvPr/>
        </p:nvSpPr>
        <p:spPr>
          <a:xfrm>
            <a:off x="7861320" y="6375240"/>
            <a:ext cx="5335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46B5-3540-4574-A782-A6DA49C5CD9A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9"/>
          <p:cNvSpPr/>
          <p:nvPr/>
        </p:nvSpPr>
        <p:spPr>
          <a:xfrm>
            <a:off x="190440" y="2003400"/>
            <a:ext cx="615960" cy="2851200"/>
          </a:xfrm>
          <a:custGeom>
            <a:avLst/>
            <a:gdLst/>
            <a:ahLst/>
            <a:rect l="l" t="t" r="r" b="b"/>
            <a:pathLst>
              <a:path w="388" h="1796">
                <a:moveTo>
                  <a:pt x="384" y="0"/>
                </a:moveTo>
                <a:lnTo>
                  <a:pt x="0" y="612"/>
                </a:lnTo>
                <a:lnTo>
                  <a:pt x="0" y="1192"/>
                </a:lnTo>
                <a:lnTo>
                  <a:pt x="388" y="1796"/>
                </a:lnTo>
                <a:lnTo>
                  <a:pt x="388" y="1280"/>
                </a:lnTo>
                <a:lnTo>
                  <a:pt x="148" y="896"/>
                </a:lnTo>
                <a:lnTo>
                  <a:pt x="388" y="504"/>
                </a:lnTo>
                <a:lnTo>
                  <a:pt x="384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0"/>
          <p:cNvSpPr/>
          <p:nvPr/>
        </p:nvSpPr>
        <p:spPr>
          <a:xfrm>
            <a:off x="990720" y="2003400"/>
            <a:ext cx="615960" cy="2851200"/>
          </a:xfrm>
          <a:custGeom>
            <a:avLst/>
            <a:gdLst/>
            <a:ahLst/>
            <a:rect l="l" t="t" r="r" b="b"/>
            <a:pathLst>
              <a:path w="388" h="1796">
                <a:moveTo>
                  <a:pt x="384" y="0"/>
                </a:moveTo>
                <a:lnTo>
                  <a:pt x="0" y="612"/>
                </a:lnTo>
                <a:lnTo>
                  <a:pt x="0" y="1192"/>
                </a:lnTo>
                <a:lnTo>
                  <a:pt x="388" y="1796"/>
                </a:lnTo>
                <a:lnTo>
                  <a:pt x="388" y="1280"/>
                </a:lnTo>
                <a:lnTo>
                  <a:pt x="148" y="896"/>
                </a:lnTo>
                <a:lnTo>
                  <a:pt x="388" y="504"/>
                </a:lnTo>
                <a:lnTo>
                  <a:pt x="384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393480" y="2050920"/>
            <a:ext cx="824220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1749"/>
              </a:spcBef>
              <a:spcAft>
                <a:spcPts val="1749"/>
              </a:spcAft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90320" indent="-1886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75420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05588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35756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35756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35756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 rot="16200000">
            <a:off x="6903000" y="-277200"/>
            <a:ext cx="366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8:11:20Z</dcterms:created>
  <dc:creator/>
  <dc:description/>
  <dc:language>en-US</dc:language>
  <cp:lastModifiedBy/>
  <dcterms:modified xsi:type="dcterms:W3CDTF">2023-10-16T10:36:28Z</dcterms:modified>
  <cp:revision>1</cp:revision>
  <dc:subject/>
  <dc:title/>
</cp:coreProperties>
</file>