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2000" cy="6858000"/>
  <p:notesSz cx="7104063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208384-D884-4741-8BB4-3FFCE21EB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482760" y="1279440"/>
            <a:ext cx="6140160" cy="3454200"/>
          </a:xfrm>
          <a:prstGeom prst="rect">
            <a:avLst/>
          </a:prstGeom>
          <a:ln w="0">
            <a:noFill/>
          </a:ln>
        </p:spPr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1360" y="4925880"/>
            <a:ext cx="5682600" cy="40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4024440" y="9721800"/>
            <a:ext cx="3077280" cy="51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20EF0044-15B7-49FE-A69E-30197908E2D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787d"/>
            </a:gs>
            <a:gs pos="100000">
              <a:srgbClr val="0a3b35"/>
            </a:gs>
          </a:gsLst>
          <a:lin ang="15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570"/>
          <p:cNvSpPr/>
          <p:nvPr/>
        </p:nvSpPr>
        <p:spPr>
          <a:xfrm>
            <a:off x="2098080" y="4566240"/>
            <a:ext cx="24566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" rIns="5400" tIns="2520" bIns="252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chemeClr val="lt2"/>
                </a:solidFill>
                <a:latin typeface="Arial"/>
              </a:rPr>
              <a:t>Sc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42"/>
          <p:cNvSpPr/>
          <p:nvPr/>
        </p:nvSpPr>
        <p:spPr>
          <a:xfrm>
            <a:off x="653760" y="3215160"/>
            <a:ext cx="267048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" rIns="5400" tIns="2520" bIns="252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2800" spc="-1" strike="noStrike">
                <a:solidFill>
                  <a:schemeClr val="lt2"/>
                </a:solidFill>
                <a:latin typeface="Arial"/>
              </a:rPr>
              <a:t>Shred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44"/>
          <p:cNvSpPr/>
          <p:nvPr/>
        </p:nvSpPr>
        <p:spPr>
          <a:xfrm>
            <a:off x="3330000" y="2135160"/>
            <a:ext cx="2177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" rIns="5400" tIns="2520" bIns="252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3200" spc="-1" strike="noStrike">
                <a:solidFill>
                  <a:schemeClr val="lt2"/>
                </a:solidFill>
                <a:latin typeface="Arial"/>
              </a:rPr>
              <a:t>Fax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Clr clrSpc="rgb">
                                      <p:cBhvr>
                                        <p:cTn id="9" dur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30ba7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​​">
  <a:themeElements>
    <a:clrScheme name="SUSE palette">
      <a:dk1>
        <a:srgbClr val="000000"/>
      </a:dk1>
      <a:lt1>
        <a:srgbClr val="ffffff"/>
      </a:lt1>
      <a:dk2>
        <a:srgbClr val="0c322c"/>
      </a:dk2>
      <a:lt2>
        <a:srgbClr val="efefef"/>
      </a:lt2>
      <a:accent1>
        <a:srgbClr val="30ba78"/>
      </a:accent1>
      <a:accent2>
        <a:srgbClr val="192072"/>
      </a:accent2>
      <a:accent3>
        <a:srgbClr val="2453ff"/>
      </a:accent3>
      <a:accent4>
        <a:srgbClr val="fe7c3f"/>
      </a:accent4>
      <a:accent5>
        <a:srgbClr val="90ebcd"/>
      </a:accent5>
      <a:accent6>
        <a:srgbClr val="a5a5a5"/>
      </a:accent6>
      <a:hlink>
        <a:srgbClr val="ed7d31"/>
      </a:hlink>
      <a:folHlink>
        <a:srgbClr val="ffa5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c322c"/>
      </a:dk2>
      <a:lt2>
        <a:srgbClr val="efefef"/>
      </a:lt2>
      <a:accent1>
        <a:srgbClr val="30ba78"/>
      </a:accent1>
      <a:accent2>
        <a:srgbClr val="192072"/>
      </a:accent2>
      <a:accent3>
        <a:srgbClr val="2453ff"/>
      </a:accent3>
      <a:accent4>
        <a:srgbClr val="fe7c3f"/>
      </a:accent4>
      <a:accent5>
        <a:srgbClr val="90ebcd"/>
      </a:accent5>
      <a:accent6>
        <a:srgbClr val="a5a5a5"/>
      </a:accent6>
      <a:hlink>
        <a:srgbClr val="ed7d31"/>
      </a:hlink>
      <a:folHlink>
        <a:srgbClr val="ffa5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主题​​</Template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8-04T14:13:25Z</dcterms:created>
  <dc:creator>Keith Miracle</dc:creator>
  <dc:description/>
  <dc:language>en-US</dc:language>
  <cp:lastModifiedBy/>
  <dcterms:modified xsi:type="dcterms:W3CDTF">2023-08-26T12:10:43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120494C8AF253578B46CA643A2C10B2_43</vt:lpwstr>
  </property>
  <property fmtid="{D5CDD505-2E9C-101B-9397-08002B2CF9AE}" pid="3" name="KSOProductBuildVer">
    <vt:lpwstr>1033-5.5.1.7991</vt:lpwstr>
  </property>
  <property fmtid="{D5CDD505-2E9C-101B-9397-08002B2CF9AE}" pid="4" name="Notes">
    <vt:r8>1</vt:r8>
  </property>
  <property fmtid="{D5CDD505-2E9C-101B-9397-08002B2CF9AE}" pid="5" name="PresentationFormat">
    <vt:lpwstr>Widescreen</vt:lpwstr>
  </property>
  <property fmtid="{D5CDD505-2E9C-101B-9397-08002B2CF9AE}" pid="6" name="Slides">
    <vt:r8>1</vt:r8>
  </property>
</Properties>
</file>