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4E8-CF10-48F1-A89B-D0741AEC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1AE-6957-4BAA-AAF2-612B1635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5E1-E37D-4E3E-8685-04248F0B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037-403E-413E-8A8D-E302571B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F2A-547F-402B-8870-744C84C5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44F-8844-44B3-B48C-77985406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286-CCF5-4E9A-927F-18A3172F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4B2-70E4-44BF-A3F7-0EDDB482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85E-6368-4A7E-BD71-70261807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31C-F628-443E-A54B-27B6652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5F4-3817-4BE6-80C0-474B6258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FD1-2AB8-4E93-90C5-F19EB913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875D91-2010-4BE7-9841-6104EF86F9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720720" y="314280"/>
            <a:ext cx="2879640" cy="2160720"/>
          </a:xfrm>
          <a:custGeom>
            <a:avLst/>
            <a:gdLst>
              <a:gd name="textAreaLeft" fmla="*/ 488520 w 2879640"/>
              <a:gd name="textAreaRight" fmla="*/ 2066400 w 287964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32" hR="21600" stAng="10800000" swAng="5400000"/>
                <a:lnTo>
                  <a:pt x="11833" y="0"/>
                </a:lnTo>
                <a:arcTo wR="7332" hR="21600" stAng="-5400000" swAng="3051797"/>
                <a:lnTo>
                  <a:pt x="21335" y="15849"/>
                </a:lnTo>
                <a:lnTo>
                  <a:pt x="16915" y="21600"/>
                </a:lnTo>
                <a:lnTo>
                  <a:pt x="11964" y="15849"/>
                </a:lnTo>
                <a:lnTo>
                  <a:pt x="14399" y="15849"/>
                </a:lnTo>
                <a:arcTo wR="7332" hR="21600" stAng="-2348203" swAng="-2676944"/>
                <a:lnTo>
                  <a:pt x="9583" y="1043"/>
                </a:lnTo>
                <a:arcTo wR="7332" hR="21600" stAng="-5774852" swAng="-5025148"/>
                <a:close/>
              </a:path>
              <a:path fill="darkenLess" w="21600" h="21600">
                <a:moveTo>
                  <a:pt x="0" y="21600"/>
                </a:moveTo>
                <a:arcTo wR="7332" hR="21600" stAng="10800000" swAng="5400000"/>
                <a:lnTo>
                  <a:pt x="7332" y="0"/>
                </a:lnTo>
                <a:arcTo wR="7332" hR="21600" stAng="-5400000" swAng="374852"/>
                <a:lnTo>
                  <a:pt x="9583" y="1043"/>
                </a:lnTo>
                <a:arcTo wR="7332" hR="21600" stAng="-5774852" swAng="-502514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5040360" y="360360"/>
            <a:ext cx="2879640" cy="2160720"/>
          </a:xfrm>
          <a:custGeom>
            <a:avLst/>
            <a:gdLst>
              <a:gd name="textAreaLeft" fmla="*/ 504000 w 2879640"/>
              <a:gd name="textAreaRight" fmla="*/ 2088000 w 287964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0720" y="3646440"/>
            <a:ext cx="2879640" cy="2160720"/>
          </a:xfrm>
          <a:custGeom>
            <a:avLst/>
            <a:gdLst>
              <a:gd name="textAreaLeft" fmla="*/ 385560 w 2879640"/>
              <a:gd name="textAreaRight" fmla="*/ 2494080 w 287964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5040360" y="3600360"/>
            <a:ext cx="2879640" cy="2160720"/>
          </a:xfrm>
          <a:custGeom>
            <a:avLst/>
            <a:gdLst>
              <a:gd name="textAreaLeft" fmla="*/ 385560 w 2879640"/>
              <a:gd name="textAreaRight" fmla="*/ 2494080 w 287964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gina Henschel</cp:lastModifiedBy>
  <dcterms:modified xsi:type="dcterms:W3CDTF">2022-04-22T00:44:09Z</dcterms:modified>
  <cp:revision>1</cp:revision>
  <dc:subject/>
  <dc:title>PowerPoint Presentation</dc:title>
</cp:coreProperties>
</file>