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94F3-7C8C-4AD6-96E8-8B2284035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0E90-5281-4C23-B032-D3BA49A13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70D4-71D0-4A17-99D8-65C2EB993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EF3A-A782-4A93-92D7-1514D797D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FA09-8D70-4A64-B875-5C96CF369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3222-5D15-4068-9C58-F8BF09BB6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07ED-8B9C-4983-8714-2EEB55A3B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6991-3CD3-428A-A943-4EEF25B83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09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14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7249-DF45-4059-8BBD-7CF4A6571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278B-D890-4857-BE8D-3897014A9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0EDD-CD3E-4B92-8182-ED55E7FD0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E949-C428-4362-8304-CD03380F2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14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14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14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14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14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14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14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7E41EF7-4346-4033-8774-9A3CF7B4DD3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1"/>
          <p:cNvSpPr/>
          <p:nvPr/>
        </p:nvSpPr>
        <p:spPr>
          <a:xfrm>
            <a:off x="720720" y="314280"/>
            <a:ext cx="2879640" cy="2160720"/>
          </a:xfrm>
          <a:custGeom>
            <a:avLst/>
            <a:gdLst>
              <a:gd name="textAreaLeft" fmla="*/ 488520 w 2879640"/>
              <a:gd name="textAreaRight" fmla="*/ 2066400 w 287964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32" hR="21600" stAng="10800000" swAng="5400000"/>
                <a:lnTo>
                  <a:pt x="11833" y="0"/>
                </a:lnTo>
                <a:arcTo wR="7332" hR="21600" stAng="-5400000" swAng="3051797"/>
                <a:lnTo>
                  <a:pt x="21335" y="15849"/>
                </a:lnTo>
                <a:lnTo>
                  <a:pt x="16915" y="21600"/>
                </a:lnTo>
                <a:lnTo>
                  <a:pt x="11964" y="15849"/>
                </a:lnTo>
                <a:lnTo>
                  <a:pt x="14399" y="15849"/>
                </a:lnTo>
                <a:arcTo wR="7332" hR="21600" stAng="-2348203" swAng="-2676944"/>
                <a:lnTo>
                  <a:pt x="9583" y="1043"/>
                </a:lnTo>
                <a:arcTo wR="7332" hR="21600" stAng="-5774852" swAng="-5025148"/>
                <a:close/>
              </a:path>
              <a:path fill="darkenLess" w="21600" h="21600">
                <a:moveTo>
                  <a:pt x="0" y="21600"/>
                </a:moveTo>
                <a:arcTo wR="7332" hR="21600" stAng="10800000" swAng="5400000"/>
                <a:lnTo>
                  <a:pt x="7332" y="0"/>
                </a:lnTo>
                <a:arcTo wR="7332" hR="21600" stAng="-5400000" swAng="374852"/>
                <a:lnTo>
                  <a:pt x="9583" y="1043"/>
                </a:lnTo>
                <a:arcTo wR="7332" hR="21600" stAng="-5774852" swAng="-5025148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AutoShape 2"/>
          <p:cNvSpPr/>
          <p:nvPr/>
        </p:nvSpPr>
        <p:spPr>
          <a:xfrm>
            <a:off x="5040360" y="360360"/>
            <a:ext cx="2879640" cy="2160720"/>
          </a:xfrm>
          <a:custGeom>
            <a:avLst/>
            <a:gdLst>
              <a:gd name="textAreaLeft" fmla="*/ 504000 w 2879640"/>
              <a:gd name="textAreaRight" fmla="*/ 2088000 w 287964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AutoShape 3"/>
          <p:cNvSpPr/>
          <p:nvPr/>
        </p:nvSpPr>
        <p:spPr>
          <a:xfrm>
            <a:off x="720720" y="3646440"/>
            <a:ext cx="2879640" cy="2160720"/>
          </a:xfrm>
          <a:custGeom>
            <a:avLst/>
            <a:gdLst>
              <a:gd name="textAreaLeft" fmla="*/ 385560 w 2879640"/>
              <a:gd name="textAreaRight" fmla="*/ 2494080 w 2879640"/>
              <a:gd name="textAreaTop" fmla="*/ 378000 h 2160720"/>
              <a:gd name="textAreaBottom" fmla="*/ 156672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AutoShape 4"/>
          <p:cNvSpPr/>
          <p:nvPr/>
        </p:nvSpPr>
        <p:spPr>
          <a:xfrm>
            <a:off x="5040360" y="3600360"/>
            <a:ext cx="2879640" cy="2160720"/>
          </a:xfrm>
          <a:custGeom>
            <a:avLst/>
            <a:gdLst>
              <a:gd name="textAreaLeft" fmla="*/ 385560 w 2879640"/>
              <a:gd name="textAreaRight" fmla="*/ 2494080 w 2879640"/>
              <a:gd name="textAreaTop" fmla="*/ 378000 h 2160720"/>
              <a:gd name="textAreaBottom" fmla="*/ 156672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egina Henschel</cp:lastModifiedBy>
  <dcterms:modified xsi:type="dcterms:W3CDTF">2022-04-22T00:44:09Z</dcterms:modified>
  <cp:revision>1</cp:revision>
  <dc:subject/>
  <dc:title>PowerPoint Presentation</dc:title>
</cp:coreProperties>
</file>