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5B59-17A5-4F74-9DF0-38B76F0B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3321-62D0-4F31-8672-B3DCEA30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3CEA-3E3D-421B-AA45-92538151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078E-4A8E-44E5-944D-EEE749B5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712B-08C3-4F48-8870-E795FCE5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FC00-39B5-4750-8CAA-D8B01BB4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B3B5-1D9A-4071-86A7-0616B066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5D0-9C7C-4271-8B0B-33323C74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A18B-1258-41EB-BE2A-06891523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102-B90F-49B8-83B7-606B0DDA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FB5C-4C24-4D73-BD54-04B893FB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F952-1AF1-4DCB-AB2C-F32C5F44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5F54E4-8642-4AEF-9E4E-5592AB44E75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720720" y="314280"/>
            <a:ext cx="2879640" cy="2160720"/>
          </a:xfrm>
          <a:custGeom>
            <a:avLst/>
            <a:gdLst>
              <a:gd name="textAreaLeft" fmla="*/ 488520 w 2879640"/>
              <a:gd name="textAreaRight" fmla="*/ 2066400 w 287964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32" hR="21600" stAng="10800000" swAng="5400000"/>
                <a:lnTo>
                  <a:pt x="11833" y="0"/>
                </a:lnTo>
                <a:arcTo wR="7332" hR="21600" stAng="-5400000" swAng="3051797"/>
                <a:lnTo>
                  <a:pt x="21335" y="15849"/>
                </a:lnTo>
                <a:lnTo>
                  <a:pt x="16915" y="21600"/>
                </a:lnTo>
                <a:lnTo>
                  <a:pt x="11964" y="15849"/>
                </a:lnTo>
                <a:lnTo>
                  <a:pt x="14399" y="15849"/>
                </a:lnTo>
                <a:arcTo wR="7332" hR="21600" stAng="-2348203" swAng="-2676944"/>
                <a:lnTo>
                  <a:pt x="9583" y="1043"/>
                </a:lnTo>
                <a:arcTo wR="7332" hR="21600" stAng="-5774852" swAng="-5025148"/>
                <a:close/>
              </a:path>
              <a:path fill="darkenLess" w="21600" h="21600">
                <a:moveTo>
                  <a:pt x="0" y="21600"/>
                </a:moveTo>
                <a:arcTo wR="7332" hR="21600" stAng="10800000" swAng="5400000"/>
                <a:lnTo>
                  <a:pt x="7332" y="0"/>
                </a:lnTo>
                <a:arcTo wR="7332" hR="21600" stAng="-5400000" swAng="374852"/>
                <a:lnTo>
                  <a:pt x="9583" y="1043"/>
                </a:lnTo>
                <a:arcTo wR="7332" hR="21600" stAng="-5774852" swAng="-5025148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5040360" y="360360"/>
            <a:ext cx="2879640" cy="2160720"/>
          </a:xfrm>
          <a:custGeom>
            <a:avLst/>
            <a:gdLst>
              <a:gd name="textAreaLeft" fmla="*/ 504000 w 2879640"/>
              <a:gd name="textAreaRight" fmla="*/ 2088000 w 287964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720720" y="3646440"/>
            <a:ext cx="2879640" cy="2160720"/>
          </a:xfrm>
          <a:custGeom>
            <a:avLst/>
            <a:gdLst>
              <a:gd name="textAreaLeft" fmla="*/ 385560 w 2879640"/>
              <a:gd name="textAreaRight" fmla="*/ 2494080 w 287964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5040360" y="3600360"/>
            <a:ext cx="2879640" cy="2160720"/>
          </a:xfrm>
          <a:custGeom>
            <a:avLst/>
            <a:gdLst>
              <a:gd name="textAreaLeft" fmla="*/ 385560 w 2879640"/>
              <a:gd name="textAreaRight" fmla="*/ 2494080 w 287964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gina Henschel</cp:lastModifiedBy>
  <dcterms:modified xsi:type="dcterms:W3CDTF">2022-04-22T00:44:09Z</dcterms:modified>
  <cp:revision>1</cp:revision>
  <dc:subject/>
  <dc:title>PowerPoint Presentation</dc:title>
</cp:coreProperties>
</file>