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7C29-CF58-4535-88D1-7B934BFB4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9E42-D197-48FB-8239-A4EC098F6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2B11-2C00-4766-8EA6-9F0C3ED77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CB0C-2244-4D14-97A4-6A714DBDE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DD05-A9BF-40FC-8258-C9A3362D1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8582-6ABC-4B4E-BC4F-7B0CFC261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2F63-AF71-4D22-B7E4-2784BBFDC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91C1-60E7-4247-90B0-060F7F772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FB02-A4D0-4C48-B625-D6C0D6A03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61B5-A416-4CC6-9E4E-655DFC79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5F8D-4D6E-43A7-A3CC-D1ADD4E1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0770-4F24-40E0-B7F2-D2AE87FF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F330F-29E6-4B61-AF55-9073D2404B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228600"/>
            <a:ext cx="1447920" cy="914400"/>
          </a:xfrm>
          <a:custGeom>
            <a:avLst/>
            <a:gdLst>
              <a:gd name="textAreaLeft" fmla="*/ 361800 w 1447920"/>
              <a:gd name="textAreaRight" fmla="*/ 1086120 w 1447920"/>
              <a:gd name="textAreaTop" fmla="*/ 0 h 914400"/>
              <a:gd name="textAreaBottom" fmla="*/ 666720 h 914400"/>
            </a:gdLst>
            <a:ahLst/>
            <a:rect l="textAreaLeft" t="textAreaTop" r="textAreaRight" b="textAreaBottom"/>
            <a:pathLst>
              <a:path w="21600" h="21600">
                <a:moveTo>
                  <a:pt x="8100" y="15750"/>
                </a:moveTo>
                <a:lnTo>
                  <a:pt x="8100" y="20138"/>
                </a:lnTo>
                <a:cubicBezTo>
                  <a:pt x="8100" y="20869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3725"/>
                </a:lnTo>
                <a:lnTo>
                  <a:pt x="0" y="5850"/>
                </a:lnTo>
                <a:lnTo>
                  <a:pt x="5400" y="5850"/>
                </a:lnTo>
                <a:lnTo>
                  <a:pt x="5400" y="1463"/>
                </a:lnTo>
                <a:cubicBezTo>
                  <a:pt x="5400" y="731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731"/>
                  <a:pt x="16200" y="1463"/>
                </a:cubicBezTo>
                <a:lnTo>
                  <a:pt x="16200" y="5850"/>
                </a:lnTo>
                <a:lnTo>
                  <a:pt x="21600" y="5850"/>
                </a:lnTo>
                <a:lnTo>
                  <a:pt x="18850" y="13725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0869"/>
                  <a:pt x="13500" y="20138"/>
                </a:cubicBezTo>
                <a:lnTo>
                  <a:pt x="13500" y="15750"/>
                </a:lnTo>
                <a:close/>
              </a:path>
              <a:path fill="darkenLess" w="21600" h="21600">
                <a:moveTo>
                  <a:pt x="8100" y="15750"/>
                </a:moveTo>
                <a:lnTo>
                  <a:pt x="8100" y="20138"/>
                </a:lnTo>
                <a:cubicBezTo>
                  <a:pt x="8100" y="19406"/>
                  <a:pt x="7680" y="18675"/>
                  <a:pt x="7260" y="18675"/>
                </a:cubicBezTo>
                <a:lnTo>
                  <a:pt x="6240" y="18675"/>
                </a:lnTo>
                <a:cubicBezTo>
                  <a:pt x="5820" y="18675"/>
                  <a:pt x="5400" y="17944"/>
                  <a:pt x="5400" y="17213"/>
                </a:cubicBezTo>
                <a:cubicBezTo>
                  <a:pt x="5400" y="16481"/>
                  <a:pt x="5820" y="15750"/>
                  <a:pt x="6240" y="15750"/>
                </a:cubicBezTo>
                <a:close/>
              </a:path>
              <a:path fill="darkenLess" w="21600" h="21600">
                <a:moveTo>
                  <a:pt x="13500" y="15750"/>
                </a:moveTo>
                <a:lnTo>
                  <a:pt x="13500" y="20138"/>
                </a:lnTo>
                <a:cubicBezTo>
                  <a:pt x="13500" y="19406"/>
                  <a:pt x="13920" y="18675"/>
                  <a:pt x="14340" y="18675"/>
                </a:cubicBezTo>
                <a:lnTo>
                  <a:pt x="15360" y="18675"/>
                </a:lnTo>
                <a:cubicBezTo>
                  <a:pt x="15780" y="18675"/>
                  <a:pt x="16200" y="17944"/>
                  <a:pt x="16200" y="17213"/>
                </a:cubicBezTo>
                <a:cubicBezTo>
                  <a:pt x="16200" y="16481"/>
                  <a:pt x="15780" y="15750"/>
                  <a:pt x="15360" y="15750"/>
                </a:cubicBezTo>
                <a:close/>
              </a:path>
              <a:path fill="darkenLess" w="21600" h="21600">
                <a:moveTo>
                  <a:pt x="5400" y="17213"/>
                </a:moveTo>
                <a:lnTo>
                  <a:pt x="5400" y="5850"/>
                </a:lnTo>
              </a:path>
              <a:path fill="darkenLess" w="21600" h="21600">
                <a:moveTo>
                  <a:pt x="16200" y="17213"/>
                </a:moveTo>
                <a:lnTo>
                  <a:pt x="16200" y="5850"/>
                </a:ln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0" y="228600"/>
            <a:ext cx="1600200" cy="990720"/>
          </a:xfrm>
          <a:custGeom>
            <a:avLst/>
            <a:gdLst>
              <a:gd name="textAreaLeft" fmla="*/ 399960 w 1600200"/>
              <a:gd name="textAreaRight" fmla="*/ 1200240 w 1600200"/>
              <a:gd name="textAreaTop" fmla="*/ 19980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1091" stAng="16200000" swAng="5400000"/>
                <a:lnTo>
                  <a:pt x="8100" y="4362"/>
                </a:lnTo>
                <a:lnTo>
                  <a:pt x="13500" y="4362"/>
                </a:lnTo>
                <a:lnTo>
                  <a:pt x="13500" y="1091"/>
                </a:lnTo>
                <a:arcTo wR="675" hR="1091" stAng="10800000" swAng="5400000"/>
                <a:lnTo>
                  <a:pt x="21600" y="0"/>
                </a:lnTo>
                <a:lnTo>
                  <a:pt x="18900" y="8619"/>
                </a:lnTo>
                <a:lnTo>
                  <a:pt x="21600" y="17238"/>
                </a:lnTo>
                <a:lnTo>
                  <a:pt x="16200" y="17238"/>
                </a:lnTo>
                <a:lnTo>
                  <a:pt x="16200" y="20510"/>
                </a:lnTo>
                <a:arcTo wR="675" hR="1091" stAng="0" swAng="5400000"/>
                <a:lnTo>
                  <a:pt x="6075" y="21600"/>
                </a:lnTo>
                <a:arcTo wR="675" hR="1091" stAng="5400000" swAng="5400000"/>
                <a:lnTo>
                  <a:pt x="5400" y="17238"/>
                </a:lnTo>
                <a:lnTo>
                  <a:pt x="0" y="17238"/>
                </a:lnTo>
                <a:lnTo>
                  <a:pt x="2700" y="8619"/>
                </a:lnTo>
                <a:close/>
              </a:path>
              <a:path fill="none" w="21600" h="21600">
                <a:moveTo>
                  <a:pt x="8100" y="1091"/>
                </a:moveTo>
                <a:arcTo wR="675" hR="1091" stAng="0" swAng="5400000"/>
                <a:lnTo>
                  <a:pt x="6075" y="2181"/>
                </a:lnTo>
                <a:arcTo wR="675" hR="1091" stAng="16200000" swAng="-5400000"/>
                <a:arcTo wR="675" hR="1091" stAng="10800000" swAng="-5400000"/>
                <a:lnTo>
                  <a:pt x="8100" y="4362"/>
                </a:lnTo>
              </a:path>
              <a:path fill="none" w="21600" h="21600">
                <a:moveTo>
                  <a:pt x="13500" y="1091"/>
                </a:moveTo>
                <a:arcTo wR="675" hR="1091" stAng="10800000" swAng="-5400000"/>
                <a:lnTo>
                  <a:pt x="15525" y="2181"/>
                </a:lnTo>
                <a:arcTo wR="675" hR="1091" stAng="16200000" swAng="5400000"/>
                <a:arcTo wR="675" hR="1091" stAng="0" swAng="5400000"/>
                <a:lnTo>
                  <a:pt x="13500" y="4362"/>
                </a:lnTo>
              </a:path>
              <a:path fill="none" w="21600" h="21600">
                <a:moveTo>
                  <a:pt x="5400" y="3272"/>
                </a:moveTo>
                <a:lnTo>
                  <a:pt x="5400" y="17238"/>
                </a:lnTo>
              </a:path>
              <a:path fill="none" w="21600" h="21600">
                <a:moveTo>
                  <a:pt x="16200" y="3272"/>
                </a:moveTo>
                <a:lnTo>
                  <a:pt x="16200" y="17238"/>
                </a:ln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228600"/>
            <a:ext cx="1295280" cy="914400"/>
          </a:xfrm>
          <a:custGeom>
            <a:avLst/>
            <a:gdLst>
              <a:gd name="textAreaLeft" fmla="*/ 304560 w 1295280"/>
              <a:gd name="textAreaRight" fmla="*/ 990720 w 1295280"/>
              <a:gd name="textAreaTop" fmla="*/ 30240 h 914400"/>
              <a:gd name="textAreaBottom" fmla="*/ 5461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8700"/>
                </a:moveTo>
                <a:arcTo wR="21600" hR="20153" stAng="-7304956" swAng="921246"/>
                <a:lnTo>
                  <a:pt x="5082" y="719"/>
                </a:lnTo>
                <a:arcTo wR="21600" hR="20153" stAng="-6383711" swAng="1967422"/>
                <a:lnTo>
                  <a:pt x="16518" y="6719"/>
                </a:lnTo>
                <a:arcTo wR="21600" hR="20153" stAng="-4416289" swAng="921246"/>
                <a:lnTo>
                  <a:pt x="18900" y="1392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388952"/>
                <a:lnTo>
                  <a:pt x="13818" y="13098"/>
                </a:lnTo>
                <a:arcTo wR="21600" hR="20153" stAng="-4883995" swAng="-1032009"/>
                <a:lnTo>
                  <a:pt x="7782" y="19098"/>
                </a:lnTo>
                <a:arcTo wR="21600" hR="20153" stAng="-5916005" swAng="-1388952"/>
                <a:lnTo>
                  <a:pt x="2700" y="13921"/>
                </a:lnTo>
                <a:close/>
              </a:path>
              <a:path fill="none" w="21600" h="21600">
                <a:moveTo>
                  <a:pt x="7782" y="13098"/>
                </a:moveTo>
                <a:arcTo wR="21600" hR="20153" stAng="-5916005" swAng="-467706"/>
                <a:lnTo>
                  <a:pt x="7782" y="19098"/>
                </a:lnTo>
              </a:path>
              <a:path fill="none" w="21600" h="21600">
                <a:moveTo>
                  <a:pt x="13818" y="13098"/>
                </a:moveTo>
                <a:arcTo wR="21600" hR="20153" stAng="-4883995" swAng="467706"/>
                <a:lnTo>
                  <a:pt x="13818" y="19098"/>
                </a:lnTo>
              </a:path>
              <a:path fill="none" w="21600" h="21600">
                <a:moveTo>
                  <a:pt x="5082" y="6719"/>
                </a:moveTo>
                <a:lnTo>
                  <a:pt x="5082" y="13619"/>
                </a:lnTo>
              </a:path>
              <a:path fill="none" w="21600" h="21600">
                <a:moveTo>
                  <a:pt x="16518" y="6719"/>
                </a:moveTo>
                <a:lnTo>
                  <a:pt x="16518" y="13619"/>
                </a:ln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0" y="228600"/>
            <a:ext cx="1447920" cy="914400"/>
          </a:xfrm>
          <a:custGeom>
            <a:avLst/>
            <a:gdLst>
              <a:gd name="textAreaLeft" fmla="*/ 361800 w 1447920"/>
              <a:gd name="textAreaRight" fmla="*/ 1086120 w 1447920"/>
              <a:gd name="textAreaTop" fmla="*/ 311040 h 914400"/>
              <a:gd name="textAreaBottom" fmla="*/ 89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4250"/>
                </a:moveTo>
                <a:arcTo wR="21600" hR="15675" stAng="7710349" swAng="-1135203"/>
                <a:lnTo>
                  <a:pt x="5400" y="21102"/>
                </a:lnTo>
                <a:arcTo wR="21600" hR="15675" stAng="6575145" swAng="-2350291"/>
                <a:lnTo>
                  <a:pt x="16200" y="15852"/>
                </a:lnTo>
                <a:arcTo wR="21600" hR="15675" stAng="4224855" swAng="-1135203"/>
                <a:lnTo>
                  <a:pt x="18900" y="8081"/>
                </a:lnTo>
                <a:lnTo>
                  <a:pt x="21600" y="0"/>
                </a:lnTo>
                <a:lnTo>
                  <a:pt x="21600" y="0"/>
                </a:lnTo>
                <a:arcTo wR="21600" hR="15675" stAng="3089651" swAng="1719396"/>
                <a:lnTo>
                  <a:pt x="13500" y="7227"/>
                </a:lnTo>
                <a:arcTo wR="21600" hR="15675" stAng="4809048" swAng="1181905"/>
                <a:lnTo>
                  <a:pt x="8100" y="1977"/>
                </a:lnTo>
                <a:arcTo wR="21600" hR="15675" stAng="5990952" swAng="1719396"/>
                <a:lnTo>
                  <a:pt x="2700" y="8081"/>
                </a:lnTo>
                <a:close/>
              </a:path>
              <a:path fill="none" w="21600" h="21600">
                <a:moveTo>
                  <a:pt x="8100" y="7227"/>
                </a:moveTo>
                <a:arcTo wR="21600" hR="15675" stAng="5990952" swAng="584193"/>
                <a:lnTo>
                  <a:pt x="8100" y="1977"/>
                </a:lnTo>
              </a:path>
              <a:path fill="none" w="21600" h="21600">
                <a:moveTo>
                  <a:pt x="13500" y="7227"/>
                </a:moveTo>
                <a:arcTo wR="21600" hR="15675" stAng="4809048" swAng="-584193"/>
                <a:lnTo>
                  <a:pt x="13500" y="1977"/>
                </a:lnTo>
              </a:path>
              <a:path fill="none" w="21600" h="21600">
                <a:moveTo>
                  <a:pt x="5400" y="15852"/>
                </a:moveTo>
                <a:lnTo>
                  <a:pt x="5400" y="6852"/>
                </a:lnTo>
              </a:path>
              <a:path fill="none" w="21600" h="21600">
                <a:moveTo>
                  <a:pt x="16200" y="15852"/>
                </a:moveTo>
                <a:lnTo>
                  <a:pt x="16200" y="6852"/>
                </a:ln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3841920" cy="1168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800600" y="1447920"/>
            <a:ext cx="371484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16T22:22:55Z</dcterms:created>
  <dc:creator>Regina Henschel</dc:creator>
  <dc:description/>
  <dc:language>en-US</dc:language>
  <cp:lastModifiedBy>Regina Henschel</cp:lastModifiedBy>
  <dcterms:modified xsi:type="dcterms:W3CDTF">2022-04-16T23:50:37Z</dcterms:modified>
  <cp:revision>7</cp:revision>
  <dc:subject/>
  <dc:title>Kein Folientitel</dc:title>
</cp:coreProperties>
</file>