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600-F996-47F2-882A-54B8EB0C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D40-0D05-49BC-B638-AA4EB62F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138-D9D8-46BE-9404-5CAEAB34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CF3-7826-494C-92DD-FD6812DC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639-EBB6-4BDE-9A36-A40E963E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351-7B09-4425-AA28-EF9E80F9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2F3-174E-420A-BB83-DC4E357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17D-FDCE-4A6A-A8E5-CDC0758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921-EDD9-47EE-ACCD-1DD85F9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46B-26F7-4590-BB0A-07D422F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33C-E6B5-4A49-BA45-C703D4D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E13-CA64-4896-AABB-95DF71F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7AE-AB00-402A-8592-0CD0B967C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20869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3725"/>
                </a:lnTo>
                <a:lnTo>
                  <a:pt x="0" y="5850"/>
                </a:lnTo>
                <a:lnTo>
                  <a:pt x="5400" y="5850"/>
                </a:lnTo>
                <a:lnTo>
                  <a:pt x="5400" y="1463"/>
                </a:lnTo>
                <a:cubicBezTo>
                  <a:pt x="5400" y="731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731"/>
                  <a:pt x="16200" y="1463"/>
                </a:cubicBezTo>
                <a:lnTo>
                  <a:pt x="16200" y="5850"/>
                </a:lnTo>
                <a:lnTo>
                  <a:pt x="21600" y="5850"/>
                </a:lnTo>
                <a:lnTo>
                  <a:pt x="18850" y="13725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869"/>
                  <a:pt x="13500" y="20138"/>
                </a:cubicBezTo>
                <a:lnTo>
                  <a:pt x="13500" y="15750"/>
                </a:lnTo>
                <a:close/>
              </a:path>
              <a:path fill="darkenLess"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19406"/>
                  <a:pt x="7680" y="18675"/>
                  <a:pt x="7260" y="18675"/>
                </a:cubicBezTo>
                <a:lnTo>
                  <a:pt x="6240" y="18675"/>
                </a:lnTo>
                <a:cubicBezTo>
                  <a:pt x="5820" y="18675"/>
                  <a:pt x="5400" y="17944"/>
                  <a:pt x="5400" y="17213"/>
                </a:cubicBezTo>
                <a:cubicBezTo>
                  <a:pt x="5400" y="16481"/>
                  <a:pt x="5820" y="15750"/>
                  <a:pt x="6240" y="15750"/>
                </a:cubicBezTo>
                <a:close/>
              </a:path>
              <a:path fill="darkenLess" w="21600" h="21600">
                <a:moveTo>
                  <a:pt x="13500" y="15750"/>
                </a:moveTo>
                <a:lnTo>
                  <a:pt x="13500" y="20138"/>
                </a:lnTo>
                <a:cubicBezTo>
                  <a:pt x="13500" y="19406"/>
                  <a:pt x="13920" y="18675"/>
                  <a:pt x="14340" y="18675"/>
                </a:cubicBezTo>
                <a:lnTo>
                  <a:pt x="15360" y="18675"/>
                </a:lnTo>
                <a:cubicBezTo>
                  <a:pt x="15780" y="18675"/>
                  <a:pt x="16200" y="17944"/>
                  <a:pt x="16200" y="17213"/>
                </a:cubicBezTo>
                <a:cubicBezTo>
                  <a:pt x="16200" y="16481"/>
                  <a:pt x="15780" y="15750"/>
                  <a:pt x="15360" y="15750"/>
                </a:cubicBezTo>
                <a:close/>
              </a:path>
              <a:path fill="darkenLess" w="21600" h="21600">
                <a:moveTo>
                  <a:pt x="5400" y="17213"/>
                </a:moveTo>
                <a:lnTo>
                  <a:pt x="5400" y="5850"/>
                </a:lnTo>
              </a:path>
              <a:path fill="darkenLess" w="21600" h="21600">
                <a:moveTo>
                  <a:pt x="16200" y="17213"/>
                </a:moveTo>
                <a:lnTo>
                  <a:pt x="16200" y="585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28600"/>
            <a:ext cx="1600200" cy="99072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1998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091" stAng="16200000" swAng="5400000"/>
                <a:lnTo>
                  <a:pt x="8100" y="4362"/>
                </a:lnTo>
                <a:lnTo>
                  <a:pt x="13500" y="4362"/>
                </a:lnTo>
                <a:lnTo>
                  <a:pt x="13500" y="1091"/>
                </a:lnTo>
                <a:arcTo wR="675" hR="1091" stAng="10800000" swAng="5400000"/>
                <a:lnTo>
                  <a:pt x="21600" y="0"/>
                </a:lnTo>
                <a:lnTo>
                  <a:pt x="18900" y="8619"/>
                </a:lnTo>
                <a:lnTo>
                  <a:pt x="21600" y="17238"/>
                </a:lnTo>
                <a:lnTo>
                  <a:pt x="16200" y="17238"/>
                </a:lnTo>
                <a:lnTo>
                  <a:pt x="16200" y="20510"/>
                </a:lnTo>
                <a:arcTo wR="675" hR="1091" stAng="0" swAng="5400000"/>
                <a:lnTo>
                  <a:pt x="6075" y="21600"/>
                </a:lnTo>
                <a:arcTo wR="675" hR="1091" stAng="5400000" swAng="5400000"/>
                <a:lnTo>
                  <a:pt x="5400" y="17238"/>
                </a:lnTo>
                <a:lnTo>
                  <a:pt x="0" y="17238"/>
                </a:lnTo>
                <a:lnTo>
                  <a:pt x="2700" y="8619"/>
                </a:lnTo>
                <a:close/>
              </a:path>
              <a:path fill="none" w="21600" h="21600">
                <a:moveTo>
                  <a:pt x="8100" y="1091"/>
                </a:moveTo>
                <a:arcTo wR="675" hR="1091" stAng="0" swAng="5400000"/>
                <a:lnTo>
                  <a:pt x="6075" y="2181"/>
                </a:lnTo>
                <a:arcTo wR="675" hR="1091" stAng="16200000" swAng="-5400000"/>
                <a:arcTo wR="675" hR="1091" stAng="10800000" swAng="-5400000"/>
                <a:lnTo>
                  <a:pt x="8100" y="4362"/>
                </a:lnTo>
              </a:path>
              <a:path fill="none" w="21600" h="21600">
                <a:moveTo>
                  <a:pt x="13500" y="1091"/>
                </a:moveTo>
                <a:arcTo wR="675" hR="1091" stAng="10800000" swAng="-5400000"/>
                <a:lnTo>
                  <a:pt x="15525" y="2181"/>
                </a:lnTo>
                <a:arcTo wR="675" hR="1091" stAng="16200000" swAng="5400000"/>
                <a:arcTo wR="675" hR="1091" stAng="0" swAng="5400000"/>
                <a:lnTo>
                  <a:pt x="13500" y="4362"/>
                </a:lnTo>
              </a:path>
              <a:path fill="none" w="21600" h="21600">
                <a:moveTo>
                  <a:pt x="5400" y="3272"/>
                </a:moveTo>
                <a:lnTo>
                  <a:pt x="5400" y="17238"/>
                </a:lnTo>
              </a:path>
              <a:path fill="none" w="21600" h="21600">
                <a:moveTo>
                  <a:pt x="16200" y="3272"/>
                </a:moveTo>
                <a:lnTo>
                  <a:pt x="16200" y="1723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28600"/>
            <a:ext cx="1295280" cy="914400"/>
          </a:xfrm>
          <a:custGeom>
            <a:avLst/>
            <a:gdLst>
              <a:gd name="textAreaLeft" fmla="*/ 304560 w 1295280"/>
              <a:gd name="textAreaRight" fmla="*/ 990720 w 1295280"/>
              <a:gd name="textAreaTop" fmla="*/ 30240 h 914400"/>
              <a:gd name="textAreaBottom" fmla="*/ 546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8700"/>
                </a:moveTo>
                <a:arcTo wR="21600" hR="20153" stAng="-7304956" swAng="921246"/>
                <a:lnTo>
                  <a:pt x="5082" y="719"/>
                </a:lnTo>
                <a:arcTo wR="21600" hR="20153" stAng="-6383711" swAng="1967422"/>
                <a:lnTo>
                  <a:pt x="16518" y="6719"/>
                </a:lnTo>
                <a:arcTo wR="21600" hR="20153" stAng="-4416289" swAng="921246"/>
                <a:lnTo>
                  <a:pt x="18900" y="1392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388952"/>
                <a:lnTo>
                  <a:pt x="13818" y="13098"/>
                </a:lnTo>
                <a:arcTo wR="21600" hR="20153" stAng="-4883995" swAng="-1032009"/>
                <a:lnTo>
                  <a:pt x="7782" y="19098"/>
                </a:lnTo>
                <a:arcTo wR="21600" hR="20153" stAng="-5916005" swAng="-1388952"/>
                <a:lnTo>
                  <a:pt x="2700" y="13921"/>
                </a:lnTo>
                <a:close/>
              </a:path>
              <a:path fill="none" w="21600" h="21600">
                <a:moveTo>
                  <a:pt x="7782" y="13098"/>
                </a:moveTo>
                <a:arcTo wR="21600" hR="20153" stAng="-5916005" swAng="-467706"/>
                <a:lnTo>
                  <a:pt x="7782" y="19098"/>
                </a:lnTo>
              </a:path>
              <a:path fill="none" w="21600" h="21600">
                <a:moveTo>
                  <a:pt x="13818" y="13098"/>
                </a:moveTo>
                <a:arcTo wR="21600" hR="20153" stAng="-4883995" swAng="467706"/>
                <a:lnTo>
                  <a:pt x="13818" y="19098"/>
                </a:lnTo>
              </a:path>
              <a:path fill="none" w="21600" h="21600">
                <a:moveTo>
                  <a:pt x="5082" y="6719"/>
                </a:moveTo>
                <a:lnTo>
                  <a:pt x="5082" y="13619"/>
                </a:lnTo>
              </a:path>
              <a:path fill="none" w="21600" h="21600">
                <a:moveTo>
                  <a:pt x="16518" y="6719"/>
                </a:moveTo>
                <a:lnTo>
                  <a:pt x="16518" y="13619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311040 h 914400"/>
              <a:gd name="textAreaBottom" fmla="*/ 89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250"/>
                </a:moveTo>
                <a:arcTo wR="21600" hR="15675" stAng="7710349" swAng="-1135203"/>
                <a:lnTo>
                  <a:pt x="5400" y="21102"/>
                </a:lnTo>
                <a:arcTo wR="21600" hR="15675" stAng="6575145" swAng="-2350291"/>
                <a:lnTo>
                  <a:pt x="16200" y="15852"/>
                </a:lnTo>
                <a:arcTo wR="21600" hR="15675" stAng="4224855" swAng="-1135203"/>
                <a:lnTo>
                  <a:pt x="18900" y="8081"/>
                </a:lnTo>
                <a:lnTo>
                  <a:pt x="21600" y="0"/>
                </a:lnTo>
                <a:lnTo>
                  <a:pt x="21600" y="0"/>
                </a:lnTo>
                <a:arcTo wR="21600" hR="15675" stAng="3089651" swAng="1719396"/>
                <a:lnTo>
                  <a:pt x="13500" y="7227"/>
                </a:lnTo>
                <a:arcTo wR="21600" hR="15675" stAng="4809048" swAng="1181905"/>
                <a:lnTo>
                  <a:pt x="8100" y="1977"/>
                </a:lnTo>
                <a:arcTo wR="21600" hR="15675" stAng="5990952" swAng="1719396"/>
                <a:lnTo>
                  <a:pt x="2700" y="8081"/>
                </a:lnTo>
                <a:close/>
              </a:path>
              <a:path fill="none" w="21600" h="21600">
                <a:moveTo>
                  <a:pt x="8100" y="7227"/>
                </a:moveTo>
                <a:arcTo wR="21600" hR="15675" stAng="5990952" swAng="584193"/>
                <a:lnTo>
                  <a:pt x="8100" y="1977"/>
                </a:lnTo>
              </a:path>
              <a:path fill="none" w="21600" h="21600">
                <a:moveTo>
                  <a:pt x="13500" y="7227"/>
                </a:moveTo>
                <a:arcTo wR="21600" hR="15675" stAng="4809048" swAng="-584193"/>
                <a:lnTo>
                  <a:pt x="13500" y="1977"/>
                </a:lnTo>
              </a:path>
              <a:path fill="none" w="21600" h="21600">
                <a:moveTo>
                  <a:pt x="5400" y="15852"/>
                </a:moveTo>
                <a:lnTo>
                  <a:pt x="5400" y="6852"/>
                </a:lnTo>
              </a:path>
              <a:path fill="none" w="21600" h="21600">
                <a:moveTo>
                  <a:pt x="16200" y="15852"/>
                </a:moveTo>
                <a:lnTo>
                  <a:pt x="16200" y="6852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841920" cy="116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148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6T22:22:55Z</dcterms:created>
  <dc:creator>Regina Henschel</dc:creator>
  <dc:description/>
  <dc:language>en-US</dc:language>
  <cp:lastModifiedBy>Regina Henschel</cp:lastModifiedBy>
  <dcterms:modified xsi:type="dcterms:W3CDTF">2022-04-16T23:50:37Z</dcterms:modified>
  <cp:revision>7</cp:revision>
  <dc:subject/>
  <dc:title>Kein Folientitel</dc:title>
</cp:coreProperties>
</file>