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01C-040D-417C-9C12-7492060F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C7F5-E838-4E85-809B-075C970A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89F-0D2B-4F74-A549-A2A8B345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51A7-96AF-4D3E-9BE0-16090EF2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8D9-A6A3-4E9D-8D41-4199968C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C1D5-B13B-4F40-8EF7-1C1F75FA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2B98-3DCB-4181-8F84-E1CC22D0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558-6FF1-4CB2-A82E-7B762B40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C10-3571-4714-95B4-DBFC915A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71C9-1BA6-48CD-9891-8CC0E0C6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36C3-F7D3-4074-8EC2-B6D31D8D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096C-6E75-4CE3-AB20-07C0E843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F9C9-CFDC-401E-8607-D44C6B2C94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ext Placeholder 3" descr=""/>
          <p:cNvPicPr/>
          <p:nvPr/>
        </p:nvPicPr>
        <p:blipFill>
          <a:blip r:embed="rId1"/>
          <a:stretch/>
        </p:blipFill>
        <p:spPr>
          <a:xfrm>
            <a:off x="6480" y="3906720"/>
            <a:ext cx="891828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9T09:32:44Z</dcterms:created>
  <dc:creator>vmiklos</dc:creator>
  <dc:description/>
  <dc:language>en-US</dc:language>
  <cp:lastModifiedBy>Mike Kaganski</cp:lastModifiedBy>
  <dcterms:modified xsi:type="dcterms:W3CDTF">2022-03-21T16:44:31Z</dcterms:modified>
  <cp:revision>1</cp:revision>
  <dc:subject/>
  <dc:title>PowerPoint Presentation</dc:title>
</cp:coreProperties>
</file>