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AE4-F9BA-48CF-939E-98F562DE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B20-2324-4CBF-90F5-CB8FF8A8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D0C-9174-4FE0-B3F2-D16F2395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E0B-72D8-4A5A-A1CA-3D9EEE97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393-1824-43D4-ACC1-8268875F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29D-2249-487B-BC4B-BDA6D919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24D-2268-4A31-AD87-1C88D08D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D78-CD20-434D-BD47-FD25DE07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D86-8646-4A94-9649-CB4FA36F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6BD-00FE-4BB7-9ACC-CDE364FA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93D-8895-4ACB-9D32-30BCA9B6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BF5-AED7-4CA8-A832-C30CC58C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633C-05BB-4D5B-AD19-46E8B513A3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xt Placeholder 3" descr=""/>
          <p:cNvPicPr/>
          <p:nvPr/>
        </p:nvPicPr>
        <p:blipFill>
          <a:blip r:embed="rId1"/>
          <a:stretch/>
        </p:blipFill>
        <p:spPr>
          <a:xfrm>
            <a:off x="6480" y="3906720"/>
            <a:ext cx="891828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9T09:32:44Z</dcterms:created>
  <dc:creator>vmiklos</dc:creator>
  <dc:description/>
  <dc:language>en-US</dc:language>
  <cp:lastModifiedBy>Mike Kaganski</cp:lastModifiedBy>
  <dcterms:modified xsi:type="dcterms:W3CDTF">2022-03-21T16:44:31Z</dcterms:modified>
  <cp:revision>1</cp:revision>
  <dc:subject/>
  <dc:title>PowerPoint Presentation</dc:title>
</cp:coreProperties>
</file>