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C72-9E5A-41C8-A2F7-AE069B1E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045-8E72-458A-B92F-27010CC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A19-F294-45EC-9C6D-900BE8F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F9F-3FEE-4CE8-BC39-1AC75A32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A24-F1B6-4A15-A437-A17DEA41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827-3402-493A-BF2C-EDADC5BE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BCD-4761-4A37-B1D4-41D894C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5C1-1038-4E77-8469-D753A60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18F-B624-41F5-B620-C2033A3C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956-1973-4FD0-9ACC-260C9F1B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49C-38A6-4FDE-A93E-7F1CE42F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885-34CB-4021-912E-D2904D37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3B10-E9EB-41B4-A22F-A3DA9FFA60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 Placeholder 3" descr=""/>
          <p:cNvPicPr/>
          <p:nvPr/>
        </p:nvPicPr>
        <p:blipFill>
          <a:blip r:embed="rId1"/>
          <a:stretch/>
        </p:blipFill>
        <p:spPr>
          <a:xfrm>
            <a:off x="6480" y="3906720"/>
            <a:ext cx="89182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9T09:32:44Z</dcterms:created>
  <dc:creator>vmiklos</dc:creator>
  <dc:description/>
  <dc:language>en-US</dc:language>
  <cp:lastModifiedBy>Mike Kaganski</cp:lastModifiedBy>
  <dcterms:modified xsi:type="dcterms:W3CDTF">2022-03-21T16:44:31Z</dcterms:modified>
  <cp:revision>1</cp:revision>
  <dc:subject/>
  <dc:title>PowerPoint Presentation</dc:title>
</cp:coreProperties>
</file>