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12B7-D9A7-4F78-8A0C-32008C90E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D5CD-1FB4-4A97-A90E-82A4ECFE6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98480-E263-43B8-A88A-ADFB93BA4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4137-C537-455D-85A4-398B567F63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2948-0BC2-4D1F-B038-7124C1C015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BF65-4EF4-469A-85D5-B6D2A7761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BD30-1D6A-4BD9-8D22-D1372C997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4ABF-25B6-4899-9B95-E02E5770F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7600" y="3116160"/>
            <a:ext cx="4648680" cy="87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2745-B092-43C4-B365-345E1B348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739F7-A269-40A0-9AA5-0202D8C57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5708-58A4-4584-AAE4-6319A8B36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84C3-3C51-4660-B6CE-540F33E42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afik 8" descr=""/>
          <p:cNvPicPr/>
          <p:nvPr/>
        </p:nvPicPr>
        <p:blipFill>
          <a:blip r:embed="rId2"/>
          <a:srcRect l="42923" t="29634" r="9912" b="29508"/>
          <a:stretch/>
        </p:blipFill>
        <p:spPr>
          <a:xfrm>
            <a:off x="11146320" y="6210000"/>
            <a:ext cx="537840" cy="155160"/>
          </a:xfrm>
          <a:prstGeom prst="rect">
            <a:avLst/>
          </a:prstGeom>
          <a:ln w="0">
            <a:noFill/>
          </a:ln>
        </p:spPr>
      </p:pic>
      <p:cxnSp>
        <p:nvCxnSpPr>
          <p:cNvPr id="1" name="Gerader Verbinder 15"/>
          <p:cNvCxnSpPr/>
          <p:nvPr/>
        </p:nvCxnSpPr>
        <p:spPr>
          <a:xfrm>
            <a:off x="820800" y="6314400"/>
            <a:ext cx="443160" cy="360"/>
          </a:xfrm>
          <a:prstGeom prst="straightConnector1">
            <a:avLst/>
          </a:prstGeom>
          <a:ln>
            <a:solidFill>
              <a:srgbClr val="30ba78"/>
            </a:solidFill>
          </a:ln>
        </p:spPr>
      </p:cxnSp>
      <p:sp>
        <p:nvSpPr>
          <p:cNvPr id="2" name="Rechteck 1"/>
          <p:cNvSpPr/>
          <p:nvPr/>
        </p:nvSpPr>
        <p:spPr>
          <a:xfrm>
            <a:off x="0" y="0"/>
            <a:ext cx="12192840" cy="57416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rgbClr val="31ba78"/>
              </a:solidFill>
              <a:latin typeface="Work Sans"/>
            </a:endParaRPr>
          </a:p>
        </p:txBody>
      </p:sp>
      <p:pic>
        <p:nvPicPr>
          <p:cNvPr id="3" name="Grafik 19" descr=""/>
          <p:cNvPicPr/>
          <p:nvPr/>
        </p:nvPicPr>
        <p:blipFill>
          <a:blip r:embed="rId3"/>
          <a:stretch/>
        </p:blipFill>
        <p:spPr>
          <a:xfrm>
            <a:off x="7102800" y="244800"/>
            <a:ext cx="4845600" cy="2314440"/>
          </a:xfrm>
          <a:prstGeom prst="rect">
            <a:avLst/>
          </a:prstGeom>
          <a:ln w="0">
            <a:noFill/>
          </a:ln>
        </p:spPr>
      </p:pic>
      <p:sp>
        <p:nvSpPr>
          <p:cNvPr id="4" name="Rechteck: diagonal liegende Ecken abgerundet 14"/>
          <p:cNvSpPr/>
          <p:nvPr/>
        </p:nvSpPr>
        <p:spPr>
          <a:xfrm>
            <a:off x="-8280" y="1143720"/>
            <a:ext cx="6012360" cy="3072960"/>
          </a:xfrm>
          <a:custGeom>
            <a:avLst/>
            <a:gdLst>
              <a:gd name="textAreaLeft" fmla="*/ 0 w 6012360"/>
              <a:gd name="textAreaRight" fmla="*/ 6012720 w 6012360"/>
              <a:gd name="textAreaTop" fmla="*/ 0 h 3072960"/>
              <a:gd name="textAreaBottom" fmla="*/ 3073320 h 3072960"/>
            </a:gdLst>
            <a:ahLst/>
            <a:rect l="textAreaLeft" t="textAreaTop" r="textAreaRight" b="textAreaBottom"/>
            <a:pathLst>
              <a:path w="4540455" h="2320661">
                <a:moveTo>
                  <a:pt x="0" y="4435"/>
                </a:moveTo>
                <a:lnTo>
                  <a:pt x="4297568" y="0"/>
                </a:lnTo>
                <a:cubicBezTo>
                  <a:pt x="4431711" y="0"/>
                  <a:pt x="4540455" y="108744"/>
                  <a:pt x="4540455" y="242887"/>
                </a:cubicBezTo>
                <a:cubicBezTo>
                  <a:pt x="4539389" y="935478"/>
                  <a:pt x="4538324" y="1628070"/>
                  <a:pt x="4537258" y="2320661"/>
                </a:cubicBezTo>
              </a:path>
            </a:pathLst>
          </a:custGeom>
          <a:noFill/>
          <a:ln cap="rnd">
            <a:solidFill>
              <a:srgbClr val="ffffff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Work Sans"/>
            </a:endParaRPr>
          </a:p>
        </p:txBody>
      </p:sp>
      <p:sp>
        <p:nvSpPr>
          <p:cNvPr id="5" name="Rechteck: diagonal liegende Ecken abgerundet 14"/>
          <p:cNvSpPr/>
          <p:nvPr/>
        </p:nvSpPr>
        <p:spPr>
          <a:xfrm rot="10800000">
            <a:off x="5993640" y="3551040"/>
            <a:ext cx="5707800" cy="2188800"/>
          </a:xfrm>
          <a:custGeom>
            <a:avLst/>
            <a:gdLst>
              <a:gd name="textAreaLeft" fmla="*/ 0 w 5707800"/>
              <a:gd name="textAreaRight" fmla="*/ 5708160 w 5707800"/>
              <a:gd name="textAreaTop" fmla="*/ 0 h 2188800"/>
              <a:gd name="textAreaBottom" fmla="*/ 2189160 h 2188800"/>
            </a:gdLst>
            <a:ahLst/>
            <a:rect l="textAreaLeft" t="textAreaTop" r="textAreaRight" b="textAreaBottom"/>
            <a:pathLst>
              <a:path w="4310443" h="1653199">
                <a:moveTo>
                  <a:pt x="2003984" y="0"/>
                </a:moveTo>
                <a:cubicBezTo>
                  <a:pt x="2005443" y="743"/>
                  <a:pt x="2004060" y="1441526"/>
                  <a:pt x="2005542" y="1440581"/>
                </a:cubicBezTo>
                <a:cubicBezTo>
                  <a:pt x="2007000" y="1556605"/>
                  <a:pt x="1941981" y="1650455"/>
                  <a:pt x="1816134" y="1652764"/>
                </a:cubicBezTo>
                <a:cubicBezTo>
                  <a:pt x="1818731" y="1653963"/>
                  <a:pt x="182388" y="1652251"/>
                  <a:pt x="182212" y="1652762"/>
                </a:cubicBezTo>
                <a:cubicBezTo>
                  <a:pt x="60337" y="1643971"/>
                  <a:pt x="575" y="1553953"/>
                  <a:pt x="0" y="1454966"/>
                </a:cubicBezTo>
                <a:cubicBezTo>
                  <a:pt x="200" y="1456764"/>
                  <a:pt x="3772" y="817312"/>
                  <a:pt x="3597" y="819621"/>
                </a:cubicBezTo>
                <a:cubicBezTo>
                  <a:pt x="4620" y="706849"/>
                  <a:pt x="78952" y="632285"/>
                  <a:pt x="183558" y="633279"/>
                </a:cubicBezTo>
                <a:lnTo>
                  <a:pt x="4062119" y="640978"/>
                </a:lnTo>
                <a:cubicBezTo>
                  <a:pt x="4196262" y="640978"/>
                  <a:pt x="4305006" y="749722"/>
                  <a:pt x="4305006" y="883865"/>
                </a:cubicBezTo>
                <a:lnTo>
                  <a:pt x="4310443" y="1155875"/>
                </a:lnTo>
              </a:path>
            </a:pathLst>
          </a:custGeom>
          <a:noFill/>
          <a:ln cap="rnd" w="63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de-DE" sz="1800" spc="-1" strike="noStrike">
              <a:solidFill>
                <a:schemeClr val="lt1"/>
              </a:solidFill>
              <a:latin typeface="Work Sans"/>
            </a:endParaRPr>
          </a:p>
        </p:txBody>
      </p:sp>
      <p:sp>
        <p:nvSpPr>
          <p:cNvPr id="6" name="Ellipse 23"/>
          <p:cNvSpPr/>
          <p:nvPr/>
        </p:nvSpPr>
        <p:spPr>
          <a:xfrm>
            <a:off x="5913720" y="4134240"/>
            <a:ext cx="168840" cy="16884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de-DE" sz="1800" spc="-1" strike="noStrike">
                <a:solidFill>
                  <a:schemeClr val="lt1"/>
                </a:solidFill>
                <a:latin typeface="Work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" name="Gerader Verbinder 25"/>
          <p:cNvCxnSpPr/>
          <p:nvPr/>
        </p:nvCxnSpPr>
        <p:spPr>
          <a:xfrm>
            <a:off x="9047160" y="5741640"/>
            <a:ext cx="360" cy="1116720"/>
          </a:xfrm>
          <a:prstGeom prst="straightConnector1">
            <a:avLst/>
          </a:prstGeom>
          <a:ln>
            <a:solidFill>
              <a:srgbClr val="0c322c"/>
            </a:solidFill>
          </a:ln>
        </p:spPr>
      </p:cxnSp>
      <p:sp>
        <p:nvSpPr>
          <p:cNvPr id="8" name="PlaceHolder 1"/>
          <p:cNvSpPr>
            <a:spLocks noGrp="1"/>
          </p:cNvSpPr>
          <p:nvPr>
            <p:ph type="ftr" idx="1"/>
          </p:nvPr>
        </p:nvSpPr>
        <p:spPr>
          <a:xfrm>
            <a:off x="1454400" y="6256800"/>
            <a:ext cx="4114440" cy="1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de-DE" sz="800" spc="-1" strike="noStrike">
                <a:solidFill>
                  <a:srgbClr val="0c322c"/>
                </a:solidFill>
                <a:latin typeface="Work Sans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DE" sz="800" spc="-1" strike="noStrike">
                <a:solidFill>
                  <a:srgbClr val="0c322c"/>
                </a:solidFill>
                <a:latin typeface="Work Sans Ligh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2"/>
          </p:nvPr>
        </p:nvSpPr>
        <p:spPr>
          <a:xfrm>
            <a:off x="507600" y="6256800"/>
            <a:ext cx="195120" cy="1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de-DE" sz="800" spc="-1" strike="noStrike">
                <a:solidFill>
                  <a:srgbClr val="0c322c"/>
                </a:solidFill>
                <a:latin typeface="Work Sans Ligh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31B63D2-8D41-45F0-A055-E71EFB563983}" type="slidenum">
              <a:rPr b="0" lang="de-DE" sz="800" spc="-1" strike="noStrike">
                <a:solidFill>
                  <a:srgbClr val="0c322c"/>
                </a:solidFill>
                <a:latin typeface="Work Sans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507600" y="3116160"/>
            <a:ext cx="46486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52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c322c"/>
                </a:solidFill>
                <a:latin typeface="Work Sans Medium"/>
              </a:rPr>
              <a:t>This is a divider page without an image.</a:t>
            </a:r>
            <a:endParaRPr b="0" lang="de-DE" sz="4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Work Sans Light"/>
              </a:rPr>
              <a:t>Click to edit the outline text format</a:t>
            </a: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Work Sans Light"/>
              </a:rPr>
              <a:t>Second Outline Level</a:t>
            </a:r>
            <a:endParaRPr b="0" lang="de-DE" sz="1800" spc="-1" strike="noStrike">
              <a:solidFill>
                <a:srgbClr val="000000"/>
              </a:solidFill>
              <a:latin typeface="Work Sans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1800" spc="-1" strike="noStrike">
                <a:solidFill>
                  <a:srgbClr val="000000"/>
                </a:solidFill>
                <a:latin typeface="Work Sans"/>
              </a:rPr>
              <a:t>Third Outline Level</a:t>
            </a: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1800" spc="-1" strike="noStrike">
                <a:solidFill>
                  <a:srgbClr val="000000"/>
                </a:solidFill>
                <a:latin typeface="Work Sans"/>
              </a:rPr>
              <a:t>Fourth Outline Level</a:t>
            </a:r>
            <a:endParaRPr b="0" lang="de-DE" sz="1800" spc="-1" strike="noStrike">
              <a:solidFill>
                <a:srgbClr val="000000"/>
              </a:solidFill>
              <a:latin typeface="Work San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Work Sans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600" y="3097080"/>
            <a:ext cx="4648680" cy="19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252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chemeClr val="accent6"/>
                </a:solidFill>
                <a:latin typeface="Work Sans Medium"/>
              </a:rPr>
              <a:t>Setting expect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c322c"/>
                </a:solidFill>
                <a:latin typeface="Work Sans Medium"/>
              </a:rPr>
              <a:t>No screenshots!</a:t>
            </a:r>
            <a:endParaRPr b="0" lang="de-DE" sz="40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">
  <a:themeElements>
    <a:clrScheme name="Suse">
      <a:dk1>
        <a:srgbClr val="000000"/>
      </a:dk1>
      <a:lt1>
        <a:srgbClr val="ffffff"/>
      </a:lt1>
      <a:dk2>
        <a:srgbClr val="0c322c"/>
      </a:dk2>
      <a:lt2>
        <a:srgbClr val="f2f2f2"/>
      </a:lt2>
      <a:accent1>
        <a:srgbClr val="30ba78"/>
      </a:accent1>
      <a:accent2>
        <a:srgbClr val="7ad4aa"/>
      </a:accent2>
      <a:accent3>
        <a:srgbClr val="ff6a52"/>
      </a:accent3>
      <a:accent4>
        <a:srgbClr val="ff8e77"/>
      </a:accent4>
      <a:accent5>
        <a:srgbClr val="e8e8e8"/>
      </a:accent5>
      <a:accent6>
        <a:srgbClr val="dcdcdc"/>
      </a:accent6>
      <a:hlink>
        <a:srgbClr val="30ba78"/>
      </a:hlink>
      <a:folHlink>
        <a:srgbClr val="0c322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621</Words>
  <Paragraphs>7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8T10:28:05Z</dcterms:created>
  <dc:creator>Joachim Werner</dc:creator>
  <dc:description/>
  <dc:language>en-US</dc:language>
  <cp:lastModifiedBy>CRiley</cp:lastModifiedBy>
  <dcterms:modified xsi:type="dcterms:W3CDTF">2020-08-23T12:13:48Z</dcterms:modified>
  <cp:revision>27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