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63827-BFC6-4D11-9048-2033C5598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BCD02-C385-44F7-B6D4-16B8F0FE7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9AD10-131E-490A-B253-46F61BB661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490E8-C42E-4801-AE90-1B74C8F58E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DBFF1-87B3-4537-9D24-DEC387DEE9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D9AB6-E8B8-42AA-9DA5-7B82C2441B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AD10F-9809-444F-9D5E-3A4638893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442D5-C531-4610-B55F-0C0730D91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07600" y="3116160"/>
            <a:ext cx="4648680" cy="87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46295-EB2A-4A32-B7D8-F226A9CE2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E5918-BEB7-4CEB-9C7C-5D2B732B1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C06BC-4625-4273-A719-03B3DEAE7D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F8B5F-A097-43AA-869D-B0A7618204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afik 8" descr=""/>
          <p:cNvPicPr/>
          <p:nvPr/>
        </p:nvPicPr>
        <p:blipFill>
          <a:blip r:embed="rId2"/>
          <a:srcRect l="42923" t="29634" r="9912" b="29508"/>
          <a:stretch/>
        </p:blipFill>
        <p:spPr>
          <a:xfrm>
            <a:off x="11146320" y="6210000"/>
            <a:ext cx="537840" cy="155160"/>
          </a:xfrm>
          <a:prstGeom prst="rect">
            <a:avLst/>
          </a:prstGeom>
          <a:ln w="0">
            <a:noFill/>
          </a:ln>
        </p:spPr>
      </p:pic>
      <p:cxnSp>
        <p:nvCxnSpPr>
          <p:cNvPr id="1" name="Gerader Verbinder 15"/>
          <p:cNvCxnSpPr/>
          <p:nvPr/>
        </p:nvCxnSpPr>
        <p:spPr>
          <a:xfrm>
            <a:off x="820800" y="6314400"/>
            <a:ext cx="443160" cy="360"/>
          </a:xfrm>
          <a:prstGeom prst="straightConnector1">
            <a:avLst/>
          </a:prstGeom>
          <a:ln>
            <a:solidFill>
              <a:srgbClr val="30ba78"/>
            </a:solidFill>
          </a:ln>
        </p:spPr>
      </p:cxnSp>
      <p:sp>
        <p:nvSpPr>
          <p:cNvPr id="2" name="Rechteck 1"/>
          <p:cNvSpPr/>
          <p:nvPr/>
        </p:nvSpPr>
        <p:spPr>
          <a:xfrm>
            <a:off x="0" y="0"/>
            <a:ext cx="12192840" cy="57416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rgbClr val="31ba78"/>
              </a:solidFill>
              <a:latin typeface="Work Sans"/>
            </a:endParaRPr>
          </a:p>
        </p:txBody>
      </p:sp>
      <p:pic>
        <p:nvPicPr>
          <p:cNvPr id="3" name="Grafik 19" descr=""/>
          <p:cNvPicPr/>
          <p:nvPr/>
        </p:nvPicPr>
        <p:blipFill>
          <a:blip r:embed="rId3"/>
          <a:stretch/>
        </p:blipFill>
        <p:spPr>
          <a:xfrm>
            <a:off x="7102800" y="244800"/>
            <a:ext cx="4845600" cy="2314440"/>
          </a:xfrm>
          <a:prstGeom prst="rect">
            <a:avLst/>
          </a:prstGeom>
          <a:ln w="0">
            <a:noFill/>
          </a:ln>
        </p:spPr>
      </p:pic>
      <p:sp>
        <p:nvSpPr>
          <p:cNvPr id="4" name="Rechteck: diagonal liegende Ecken abgerundet 14"/>
          <p:cNvSpPr/>
          <p:nvPr/>
        </p:nvSpPr>
        <p:spPr>
          <a:xfrm>
            <a:off x="-8280" y="1143720"/>
            <a:ext cx="6012360" cy="3072960"/>
          </a:xfrm>
          <a:custGeom>
            <a:avLst/>
            <a:gdLst>
              <a:gd name="textAreaLeft" fmla="*/ 0 w 6012360"/>
              <a:gd name="textAreaRight" fmla="*/ 6012720 w 6012360"/>
              <a:gd name="textAreaTop" fmla="*/ 0 h 3072960"/>
              <a:gd name="textAreaBottom" fmla="*/ 3073320 h 3072960"/>
            </a:gdLst>
            <a:ahLst/>
            <a:rect l="textAreaLeft" t="textAreaTop" r="textAreaRight" b="textAreaBottom"/>
            <a:pathLst>
              <a:path w="4540455" h="2320661">
                <a:moveTo>
                  <a:pt x="0" y="4435"/>
                </a:moveTo>
                <a:lnTo>
                  <a:pt x="4297568" y="0"/>
                </a:lnTo>
                <a:cubicBezTo>
                  <a:pt x="4431711" y="0"/>
                  <a:pt x="4540455" y="108744"/>
                  <a:pt x="4540455" y="242887"/>
                </a:cubicBezTo>
                <a:cubicBezTo>
                  <a:pt x="4539389" y="935478"/>
                  <a:pt x="4538324" y="1628070"/>
                  <a:pt x="4537258" y="2320661"/>
                </a:cubicBezTo>
              </a:path>
            </a:pathLst>
          </a:custGeom>
          <a:noFill/>
          <a:ln cap="rnd">
            <a:solidFill>
              <a:srgbClr val="ffffff"/>
            </a:solidFill>
            <a:prstDash val="sysDot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Work Sans"/>
            </a:endParaRPr>
          </a:p>
        </p:txBody>
      </p:sp>
      <p:sp>
        <p:nvSpPr>
          <p:cNvPr id="5" name="Rechteck: diagonal liegende Ecken abgerundet 14"/>
          <p:cNvSpPr/>
          <p:nvPr/>
        </p:nvSpPr>
        <p:spPr>
          <a:xfrm rot="10800000">
            <a:off x="5993640" y="3551040"/>
            <a:ext cx="5707800" cy="2188800"/>
          </a:xfrm>
          <a:custGeom>
            <a:avLst/>
            <a:gdLst>
              <a:gd name="textAreaLeft" fmla="*/ 0 w 5707800"/>
              <a:gd name="textAreaRight" fmla="*/ 5708160 w 5707800"/>
              <a:gd name="textAreaTop" fmla="*/ 0 h 2188800"/>
              <a:gd name="textAreaBottom" fmla="*/ 2189160 h 2188800"/>
            </a:gdLst>
            <a:ahLst/>
            <a:rect l="textAreaLeft" t="textAreaTop" r="textAreaRight" b="textAreaBottom"/>
            <a:pathLst>
              <a:path w="4310443" h="1653199">
                <a:moveTo>
                  <a:pt x="2003984" y="0"/>
                </a:moveTo>
                <a:cubicBezTo>
                  <a:pt x="2005443" y="743"/>
                  <a:pt x="2004060" y="1441526"/>
                  <a:pt x="2005542" y="1440581"/>
                </a:cubicBezTo>
                <a:cubicBezTo>
                  <a:pt x="2007000" y="1556605"/>
                  <a:pt x="1941981" y="1650455"/>
                  <a:pt x="1816134" y="1652764"/>
                </a:cubicBezTo>
                <a:cubicBezTo>
                  <a:pt x="1818731" y="1653963"/>
                  <a:pt x="182388" y="1652251"/>
                  <a:pt x="182212" y="1652762"/>
                </a:cubicBezTo>
                <a:cubicBezTo>
                  <a:pt x="60337" y="1643971"/>
                  <a:pt x="575" y="1553953"/>
                  <a:pt x="0" y="1454966"/>
                </a:cubicBezTo>
                <a:cubicBezTo>
                  <a:pt x="200" y="1456764"/>
                  <a:pt x="3772" y="817312"/>
                  <a:pt x="3597" y="819621"/>
                </a:cubicBezTo>
                <a:cubicBezTo>
                  <a:pt x="4620" y="706849"/>
                  <a:pt x="78952" y="632285"/>
                  <a:pt x="183558" y="633279"/>
                </a:cubicBezTo>
                <a:lnTo>
                  <a:pt x="4062119" y="640978"/>
                </a:lnTo>
                <a:cubicBezTo>
                  <a:pt x="4196262" y="640978"/>
                  <a:pt x="4305006" y="749722"/>
                  <a:pt x="4305006" y="883865"/>
                </a:cubicBezTo>
                <a:lnTo>
                  <a:pt x="4310443" y="1155875"/>
                </a:lnTo>
              </a:path>
            </a:pathLst>
          </a:custGeom>
          <a:noFill/>
          <a:ln cap="rnd" w="635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Work Sans"/>
            </a:endParaRPr>
          </a:p>
        </p:txBody>
      </p:sp>
      <p:sp>
        <p:nvSpPr>
          <p:cNvPr id="6" name="Ellipse 23"/>
          <p:cNvSpPr/>
          <p:nvPr/>
        </p:nvSpPr>
        <p:spPr>
          <a:xfrm>
            <a:off x="5913720" y="4134240"/>
            <a:ext cx="168840" cy="168840"/>
          </a:xfrm>
          <a:prstGeom prst="ellipse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de-DE" sz="1800" spc="-1" strike="noStrike">
                <a:solidFill>
                  <a:schemeClr val="lt1"/>
                </a:solidFill>
                <a:latin typeface="Work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" name="Gerader Verbinder 25"/>
          <p:cNvCxnSpPr/>
          <p:nvPr/>
        </p:nvCxnSpPr>
        <p:spPr>
          <a:xfrm>
            <a:off x="9047160" y="5741640"/>
            <a:ext cx="360" cy="1116720"/>
          </a:xfrm>
          <a:prstGeom prst="straightConnector1">
            <a:avLst/>
          </a:prstGeom>
          <a:ln>
            <a:solidFill>
              <a:srgbClr val="0c322c"/>
            </a:solidFill>
          </a:ln>
        </p:spPr>
      </p:cxnSp>
      <p:sp>
        <p:nvSpPr>
          <p:cNvPr id="8" name="PlaceHolder 1"/>
          <p:cNvSpPr>
            <a:spLocks noGrp="1"/>
          </p:cNvSpPr>
          <p:nvPr>
            <p:ph type="ftr" idx="1"/>
          </p:nvPr>
        </p:nvSpPr>
        <p:spPr>
          <a:xfrm>
            <a:off x="1454400" y="6256800"/>
            <a:ext cx="4114440" cy="1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defRPr b="0" lang="de-DE" sz="800" spc="-1" strike="noStrike">
                <a:solidFill>
                  <a:srgbClr val="0c322c"/>
                </a:solidFill>
                <a:latin typeface="Work Sans Ligh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800" spc="-1" strike="noStrike">
                <a:solidFill>
                  <a:srgbClr val="0c322c"/>
                </a:solidFill>
                <a:latin typeface="Work Sans Light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ldNum" idx="2"/>
          </p:nvPr>
        </p:nvSpPr>
        <p:spPr>
          <a:xfrm>
            <a:off x="507600" y="6256800"/>
            <a:ext cx="195120" cy="1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defRPr b="0" lang="de-DE" sz="800" spc="-1" strike="noStrike">
                <a:solidFill>
                  <a:srgbClr val="0c322c"/>
                </a:solidFill>
                <a:latin typeface="Work Sans Ligh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77952DB-C2FD-4622-9858-E04772E88449}" type="slidenum">
              <a:rPr b="0" lang="de-DE" sz="800" spc="-1" strike="noStrike">
                <a:solidFill>
                  <a:srgbClr val="0c322c"/>
                </a:solidFill>
                <a:latin typeface="Work Sans Ligh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5200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000" spc="-1" strike="noStrike">
                <a:solidFill>
                  <a:srgbClr val="0c322c"/>
                </a:solidFill>
                <a:latin typeface="Work Sans Medium"/>
              </a:rPr>
              <a:t>This is a divider page without an image.</a:t>
            </a:r>
            <a:endParaRPr b="0" lang="de-DE" sz="4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1800" spc="-1" strike="noStrike">
                <a:solidFill>
                  <a:srgbClr val="000000"/>
                </a:solidFill>
                <a:latin typeface="Work Sans Light"/>
              </a:rPr>
              <a:t>Click to edit the outline text format</a:t>
            </a: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1800" spc="-1" strike="noStrike">
                <a:solidFill>
                  <a:srgbClr val="000000"/>
                </a:solidFill>
                <a:latin typeface="Work Sans Light"/>
              </a:rPr>
              <a:t>Second Outline Level</a:t>
            </a: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1800" spc="-1" strike="noStrike">
                <a:solidFill>
                  <a:srgbClr val="000000"/>
                </a:solidFill>
                <a:latin typeface="Work Sans"/>
              </a:rPr>
              <a:t>Third Outline Level</a:t>
            </a: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1800" spc="-1" strike="noStrike">
                <a:solidFill>
                  <a:srgbClr val="000000"/>
                </a:solidFill>
                <a:latin typeface="Work Sans"/>
              </a:rPr>
              <a:t>Fourth Outline Level</a:t>
            </a: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Work Sans"/>
              </a:rPr>
              <a:t>Fifth Outline Level</a:t>
            </a:r>
            <a:endParaRPr b="0" lang="de-DE" sz="2000" spc="-1" strike="noStrike">
              <a:solidFill>
                <a:srgbClr val="000000"/>
              </a:solidFill>
              <a:latin typeface="Work Sans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Work Sans"/>
              </a:rPr>
              <a:t>Sixth Outline Level</a:t>
            </a:r>
            <a:endParaRPr b="0" lang="de-DE" sz="2000" spc="-1" strike="noStrike">
              <a:solidFill>
                <a:srgbClr val="000000"/>
              </a:solidFill>
              <a:latin typeface="Work Sans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Work Sans"/>
              </a:rPr>
              <a:t>Seventh Outline Level</a:t>
            </a:r>
            <a:endParaRPr b="0" lang="de-DE" sz="20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7600" y="3097080"/>
            <a:ext cx="4648680" cy="19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5200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000" spc="-1" strike="noStrike">
                <a:solidFill>
                  <a:schemeClr val="accent6"/>
                </a:solidFill>
                <a:latin typeface="Work Sans Medium"/>
              </a:rPr>
              <a:t>Setting expectation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c322c"/>
                </a:solidFill>
                <a:latin typeface="Work Sans Medium"/>
              </a:rPr>
              <a:t>No screenshots!</a:t>
            </a:r>
            <a:endParaRPr b="0" lang="de-DE" sz="40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">
  <a:themeElements>
    <a:clrScheme name="Suse">
      <a:dk1>
        <a:srgbClr val="000000"/>
      </a:dk1>
      <a:lt1>
        <a:srgbClr val="ffffff"/>
      </a:lt1>
      <a:dk2>
        <a:srgbClr val="0c322c"/>
      </a:dk2>
      <a:lt2>
        <a:srgbClr val="f2f2f2"/>
      </a:lt2>
      <a:accent1>
        <a:srgbClr val="30ba78"/>
      </a:accent1>
      <a:accent2>
        <a:srgbClr val="7ad4aa"/>
      </a:accent2>
      <a:accent3>
        <a:srgbClr val="ff6a52"/>
      </a:accent3>
      <a:accent4>
        <a:srgbClr val="ff8e77"/>
      </a:accent4>
      <a:accent5>
        <a:srgbClr val="e8e8e8"/>
      </a:accent5>
      <a:accent6>
        <a:srgbClr val="dcdcdc"/>
      </a:accent6>
      <a:hlink>
        <a:srgbClr val="30ba78"/>
      </a:hlink>
      <a:folHlink>
        <a:srgbClr val="0c322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  <Words>3621</Words>
  <Paragraphs>78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8T10:28:05Z</dcterms:created>
  <dc:creator>Joachim Werner</dc:creator>
  <dc:description/>
  <dc:language>en-US</dc:language>
  <cp:lastModifiedBy>CRiley</cp:lastModifiedBy>
  <dcterms:modified xsi:type="dcterms:W3CDTF">2020-08-23T12:13:48Z</dcterms:modified>
  <cp:revision>27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2</vt:r8>
  </property>
</Properties>
</file>