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10B-89F9-4FB3-9DC0-FF80DEA4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8D2-DC73-418C-BD8F-3BF733B4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C2E-C767-45D1-8E01-BBA48EA3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A35-EA89-4737-A894-4FC2519B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B94-71A9-4B73-A76F-38F56D87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046-A503-4310-BBE9-FCF1EC2A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5FC-C11F-43D3-9A3F-F263CE73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18A-2EA5-4FDD-8E54-C68046E6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6A2-A589-4418-8D68-B3B4C90C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18F-CA9F-44A3-8FDB-705058AA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E55-2B9C-47E1-B3BE-1274EEE2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098-FA02-4B6C-BF6B-5241E997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C0FB-9BFB-451D-9C45-FD43BA61D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Heart 3"/>
          <p:cNvSpPr/>
          <p:nvPr/>
        </p:nvSpPr>
        <p:spPr>
          <a:xfrm>
            <a:off x="3753000" y="1166760"/>
            <a:ext cx="4991040" cy="4635720"/>
          </a:xfrm>
          <a:custGeom>
            <a:avLst/>
            <a:gdLst/>
            <a:ahLst/>
            <a:rect l="l" t="t" r="r" b="b"/>
            <a:pathLst>
              <a:path w="4992414" h="4635062">
                <a:moveTo>
                  <a:pt x="2496207" y="1158766"/>
                </a:moveTo>
                <a:cubicBezTo>
                  <a:pt x="3536293" y="-1545021"/>
                  <a:pt x="7592630" y="1158766"/>
                  <a:pt x="2496207" y="4635062"/>
                </a:cubicBezTo>
                <a:cubicBezTo>
                  <a:pt x="-2600216" y="1158766"/>
                  <a:pt x="1456121" y="-1545021"/>
                  <a:pt x="2496207" y="1158766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49720" y="956880"/>
            <a:ext cx="5005440" cy="51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 Light"/>
              </a:rPr>
              <a:t>LibreOffice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split dir="out" orient="ver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3T18:26:17Z</dcterms:created>
  <dc:creator>luke</dc:creator>
  <dc:description/>
  <dc:language>en-US</dc:language>
  <cp:lastModifiedBy>luke</cp:lastModifiedBy>
  <dcterms:modified xsi:type="dcterms:W3CDTF">2018-10-13T19:00:54Z</dcterms:modified>
  <cp:revision>6</cp:revision>
  <dc:subject/>
  <dc:title>PowerPoint Presentation</dc:title>
</cp:coreProperties>
</file>