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ind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0A6-FD31-4F69-804D-31324FA8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54A-EBF1-4F4F-AF58-3E3BCA30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506-778C-4A34-84A1-EFB368D7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7D4-8978-4E58-A892-F75A5075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516-CEEB-4218-B331-8902BF3E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488-A9C4-4BD1-937F-9AB822E0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C15-0680-449D-97DA-E53E80A3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9CE-0230-468A-94DE-F9025105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0D6-FB43-43A5-98CA-BEEE023D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330-CC5C-40A5-A2C5-6C88D313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442-B1F6-4D3B-A87B-DC3F38E3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D3B-2D49-48AC-B748-6D7F2715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8D3F-8CAF-4AEA-8025-97CF91B5C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Heart 3"/>
          <p:cNvSpPr/>
          <p:nvPr/>
        </p:nvSpPr>
        <p:spPr>
          <a:xfrm>
            <a:off x="3753000" y="1166760"/>
            <a:ext cx="4991040" cy="4635720"/>
          </a:xfrm>
          <a:custGeom>
            <a:avLst/>
            <a:gdLst/>
            <a:ahLst/>
            <a:rect l="l" t="t" r="r" b="b"/>
            <a:pathLst>
              <a:path w="4992414" h="4635062">
                <a:moveTo>
                  <a:pt x="2496207" y="1158766"/>
                </a:moveTo>
                <a:cubicBezTo>
                  <a:pt x="3536293" y="-1545021"/>
                  <a:pt x="7592630" y="1158766"/>
                  <a:pt x="2496207" y="4635062"/>
                </a:cubicBezTo>
                <a:cubicBezTo>
                  <a:pt x="-2600216" y="1158766"/>
                  <a:pt x="1456121" y="-1545021"/>
                  <a:pt x="2496207" y="1158766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49720" y="956880"/>
            <a:ext cx="5005440" cy="51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 Light"/>
              </a:rPr>
              <a:t>LibreOffice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split dir="out" orient="ver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3T18:26:17Z</dcterms:created>
  <dc:creator>luke</dc:creator>
  <dc:description/>
  <dc:language>en-US</dc:language>
  <cp:lastModifiedBy>luke</cp:lastModifiedBy>
  <dcterms:modified xsi:type="dcterms:W3CDTF">2018-10-13T19:00:54Z</dcterms:modified>
  <cp:revision>6</cp:revision>
  <dc:subject/>
  <dc:title>PowerPoint Presentation</dc:title>
</cp:coreProperties>
</file>