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E357-9A4C-4FD9-A44C-A5B372B23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5AFB-4A0F-41E9-92B9-F623A3019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4E8A-4BDF-4C03-91EE-A1C6E29C5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A3EE-2510-4DA9-B17B-1A5D6239D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FF20-2878-486C-A17A-217EC0B1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0E97-5268-4423-95E0-249CB0AE1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2718-6282-4E75-A213-E597B8E4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1AC8-C85F-45C4-B57C-F2EE571B9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6168-F3B5-4D36-9755-3351FEE0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7C1D-AAA3-4A6F-AEA2-7E691195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5D87-4D37-45C8-A05F-6D830FC0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04F0-38F4-4757-9890-2BFB8CA1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7B41-D200-4D9F-83B0-4F458E977A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2T05:40:30Z</dcterms:created>
  <dc:creator/>
  <dc:description/>
  <dc:language>en-US</dc:language>
  <cp:lastModifiedBy/>
  <dcterms:modified xsi:type="dcterms:W3CDTF">2018-02-12T05:41:16Z</dcterms:modified>
  <cp:revision>1</cp:revision>
  <dc:subject/>
  <dc:title/>
</cp:coreProperties>
</file>