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A81-C51B-4907-BA93-6133AB00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1D0-A5D7-40D4-9B4E-AB81FFEF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75A-1613-4843-80D3-94E8C146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B5B-5F3A-4FC0-A80C-A5E3ACCE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298-8ADB-40EE-88BD-42D8EB4D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4B3-EAE2-4A6B-A12B-6DB4089C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75A-B19F-4784-8624-B23DD6D3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BC1-C5B9-4746-B0D2-A0378171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9E6-BC9D-450B-9C4C-F460C345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3DB-7110-46F9-A4E0-74CC3761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017-5C4B-4B2F-8746-0F92AFC0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7A2-D55C-4649-A1E1-B90BEBC1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49A2-164B-4EE5-82AF-876383AB7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2T05:40:30Z</dcterms:created>
  <dc:creator/>
  <dc:description/>
  <dc:language>en-US</dc:language>
  <cp:lastModifiedBy/>
  <dcterms:modified xsi:type="dcterms:W3CDTF">2018-02-12T05:41:16Z</dcterms:modified>
  <cp:revision>1</cp:revision>
  <dc:subject/>
  <dc:title/>
</cp:coreProperties>
</file>