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D29-0CD6-4298-A6A1-B0D3F0E0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074-7CBA-4EC3-ACB4-13186F3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17D-E668-404B-9045-C304934A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EE1-9022-4B8E-904A-103F890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9C0-E4AF-4DB8-BA9B-3115A1B2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647-26D6-40FC-86B7-EE54D8CB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40E-813C-4C4B-BA0B-1CB08AD2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21C-8833-4820-94E7-03B21E3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3A3-AA16-4DB0-A264-6F341D8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9E9-325A-4451-A05B-7C21A2B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3EE-17A0-48A9-82EC-F010715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B0C-66CB-45B6-ACA9-C7DC5275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B837-C02F-4B18-88F8-CDAAE40E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05:40:30Z</dcterms:created>
  <dc:creator/>
  <dc:description/>
  <dc:language>en-US</dc:language>
  <cp:lastModifiedBy/>
  <dcterms:modified xsi:type="dcterms:W3CDTF">2018-02-12T05:41:16Z</dcterms:modified>
  <cp:revision>1</cp:revision>
  <dc:subject/>
  <dc:title/>
</cp:coreProperties>
</file>