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DA6-2837-4E7B-83F2-8B108B347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65F-94C0-47A5-8389-87AF67E3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8D27-9665-41B0-A9FE-A4AF7A16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3F62-5AD4-4718-B8FE-BFF3A329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A1AEB-98FE-4EC2-AB95-4D3C31CC2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71D28-096D-4161-BAC3-65AA8C03A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53A81-7F53-4CB1-86F6-3C80E5C5E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B3F8C-1DED-4AC6-AF58-C0A998BC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DBE3-36DB-4729-9F98-4EFD2D34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5B16B-FED1-4D2D-A5B0-B220579B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9DC24-8632-42C0-95B3-F5C8EA96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A816-9686-49AC-9B51-6F362DD7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C2E6-97DF-462A-9682-1627F0F3A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ED127-35C3-4D12-9D77-25885BA7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B2EA-1509-4703-B91D-3373D2D9B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3654-7251-498C-96F9-E3DEEABF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6585-D608-4176-9AE9-9C77E385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160A-90CC-4B68-ABB3-7ACE53A7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880-C8B2-4028-BDD3-AB5470035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4C35-50D8-4FDE-AF4E-929076A4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181-B3B0-43A9-B1BA-8A4F1F183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F9B-CAE7-4AED-BF8A-C4BB9D9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2D9D-4430-4393-85F8-0845FBD5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BF8-FD39-4C2D-9AF2-4106F9B8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6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F8F4E-C346-456A-8FA0-5A560C00BA66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7559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84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9862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B289D-D028-4253-A057-483C8A828C83}" type="slidenum"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92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50505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928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50505"/>
              </a:buClr>
              <a:buSzPct val="2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50505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7T16:39:43Z</dcterms:created>
  <dc:creator>Christian Hovine</dc:creator>
  <dc:description/>
  <dc:language>en-US</dc:language>
  <cp:lastModifiedBy>Christian Hovine</cp:lastModifiedBy>
  <dcterms:modified xsi:type="dcterms:W3CDTF">2017-05-07T16:45:11Z</dcterms:modified>
  <cp:revision>1</cp:revision>
  <dc:subject/>
  <dc:title/>
</cp:coreProperties>
</file>