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D92C-A8D2-4226-94C0-5468DCF4C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78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619280" y="1823760"/>
            <a:ext cx="8097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619280" y="4113360"/>
            <a:ext cx="8097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50A4-FC86-4A0E-810C-96EC356AC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78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19280" y="1823760"/>
            <a:ext cx="395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769000" y="1823760"/>
            <a:ext cx="395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19280" y="4113360"/>
            <a:ext cx="395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769000" y="4113360"/>
            <a:ext cx="395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5236-20C6-4757-9694-EEF2F6206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78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19280" y="1823760"/>
            <a:ext cx="26071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57080" y="1823760"/>
            <a:ext cx="26071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094880" y="1823760"/>
            <a:ext cx="26071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619280" y="4113360"/>
            <a:ext cx="26071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57080" y="4113360"/>
            <a:ext cx="26071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094880" y="4113360"/>
            <a:ext cx="26071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7650-5F7E-4D73-B6B0-CCA5F1689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53BDC-5A77-4C13-A006-D7B9D9F0C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78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619280" y="1823760"/>
            <a:ext cx="809784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E8AC4-33ED-46A9-B91F-372FAD9C3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78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19280" y="1823760"/>
            <a:ext cx="809784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79AC4-DAB5-4ACB-A107-0910F5432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78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619280" y="1823760"/>
            <a:ext cx="39517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769000" y="1823760"/>
            <a:ext cx="39517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729FC-52E1-4C08-9273-CB781C742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78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EFDB2-CFDA-4829-805B-ACDFBCACE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619280" y="287280"/>
            <a:ext cx="8097840" cy="57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DB714-EFEA-4CF7-AB36-A08A7A1D5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78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19280" y="1823760"/>
            <a:ext cx="395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769000" y="1823760"/>
            <a:ext cx="39517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619280" y="4113360"/>
            <a:ext cx="395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98D9E-CB65-4974-8706-968BB7FA7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78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619280" y="1823760"/>
            <a:ext cx="809784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002B-5E6A-4A0A-B37B-B8D87D40D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78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619280" y="1823760"/>
            <a:ext cx="39517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769000" y="1823760"/>
            <a:ext cx="395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769000" y="4113360"/>
            <a:ext cx="395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70D85-E950-4CC4-B729-4FC055817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78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619280" y="1823760"/>
            <a:ext cx="395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769000" y="1823760"/>
            <a:ext cx="395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619280" y="4113360"/>
            <a:ext cx="8097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75387-42F0-4A0C-90C6-150D2498B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78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619280" y="1823760"/>
            <a:ext cx="8097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619280" y="4113360"/>
            <a:ext cx="8097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9D8C7-23EC-45D3-80F7-5DBA38F8E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78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619280" y="1823760"/>
            <a:ext cx="395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769000" y="1823760"/>
            <a:ext cx="395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619280" y="4113360"/>
            <a:ext cx="395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769000" y="4113360"/>
            <a:ext cx="395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7A2DA-9418-4357-8AAF-FA51AC25C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78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19280" y="1823760"/>
            <a:ext cx="26071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57080" y="1823760"/>
            <a:ext cx="26071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094880" y="1823760"/>
            <a:ext cx="26071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619280" y="4113360"/>
            <a:ext cx="26071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357080" y="4113360"/>
            <a:ext cx="26071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7094880" y="4113360"/>
            <a:ext cx="26071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0A511-BD3D-408C-8E6B-E51F0EDF4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78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619280" y="1823760"/>
            <a:ext cx="809784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0D13-A630-4A7C-BBC4-2A362312C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78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619280" y="1823760"/>
            <a:ext cx="39517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769000" y="1823760"/>
            <a:ext cx="39517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B174-56B0-4BD7-98D5-EF1379DBE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78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BE4E-4455-49FA-ACD9-D467184F2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19280" y="287280"/>
            <a:ext cx="8097840" cy="57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8C69-0C48-4DA3-B00F-EC00FD66B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78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619280" y="1823760"/>
            <a:ext cx="395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769000" y="1823760"/>
            <a:ext cx="39517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619280" y="4113360"/>
            <a:ext cx="395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CD7F-288D-4A22-957E-F8E3F54EE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78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619280" y="1823760"/>
            <a:ext cx="39517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769000" y="1823760"/>
            <a:ext cx="395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769000" y="4113360"/>
            <a:ext cx="395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3AA7-8244-4E98-8491-087AAC1ED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78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19280" y="1823760"/>
            <a:ext cx="395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769000" y="1823760"/>
            <a:ext cx="39517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619280" y="4113360"/>
            <a:ext cx="8097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4C0D-3C6C-42CC-8ABD-C986A6A27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78920" cy="7564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286920"/>
            <a:ext cx="9070920" cy="86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02920" y="1823760"/>
            <a:ext cx="9070920" cy="438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44664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F77C67-A25F-41EF-9EBF-96386C8A9E62}" type="slidenum">
              <a:rPr b="0" lang="fr-FR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5400" cy="75596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784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50505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619280" y="1823760"/>
            <a:ext cx="8097840" cy="4383000"/>
          </a:xfrm>
          <a:prstGeom prst="rect">
            <a:avLst/>
          </a:prstGeom>
          <a:solidFill>
            <a:srgbClr val="3333ff"/>
          </a:solidFill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50505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50505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50505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50505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50505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50505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50505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158400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9862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780321-FA69-40DA-A697-2786F88FE593}" type="slidenum">
              <a:rPr b="0" lang="fr-FR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2920" y="286920"/>
            <a:ext cx="907236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02920" y="182376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2920" y="286920"/>
            <a:ext cx="907236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9072360" cy="438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19280" y="287280"/>
            <a:ext cx="809928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50505"/>
                </a:solidFill>
                <a:latin typeface="Times New Roman"/>
              </a:rPr>
              <a:t>t</a:t>
            </a:r>
            <a:endParaRPr b="0" lang="en-US" sz="4400" spc="-1" strike="noStrike">
              <a:solidFill>
                <a:srgbClr val="050505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619280" y="1823760"/>
            <a:ext cx="8099280" cy="438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50505"/>
              </a:buClr>
              <a:buSzPct val="2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50505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50505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07T16:39:43Z</dcterms:created>
  <dc:creator>Christian Hovine</dc:creator>
  <dc:description/>
  <dc:language>en-US</dc:language>
  <cp:lastModifiedBy>Christian Hovine</cp:lastModifiedBy>
  <dcterms:modified xsi:type="dcterms:W3CDTF">2017-05-07T16:45:11Z</dcterms:modified>
  <cp:revision>1</cp:revision>
  <dc:subject/>
  <dc:title/>
</cp:coreProperties>
</file>