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051-B3BC-4C05-B33C-D02E9DAF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942-60A4-48A2-9B20-78CBAB7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DAD-EE00-4D8F-8EE7-01CDAB0D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34E-762B-49C5-9A94-1D30D5AB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DFA-C612-4655-9FF5-28307B42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0C17-47CA-4FCA-A09D-29A4D82D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B9D3-2A73-4465-B3FA-A8A2D8C5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5C37-2927-4501-8C04-2270A9C3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CB5B-1674-408A-8A9B-329BA65B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9A46-35D7-4552-870E-5AE76468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E190-8FDB-4E8D-B756-ADF758A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417-C8E5-428F-815F-598CEAF2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2DC-E9CA-4F68-890D-F7C58DB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D458-61F5-4FD8-8DB0-4BA7598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FF07-BD23-4B42-91EB-E4DDA3B4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F74C-939C-47FD-9359-D1330E0D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C6B9-508C-4C31-AAE9-B91024AA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097-0E5A-4BB7-86FF-B08BCF4B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66E-B154-432F-BF9B-4237530B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AE3-9D10-4C3C-B59A-0FC7A453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3ED-8838-4449-8C90-7C028FD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0AD-1172-4C9D-8828-0B4BE59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396-D711-42B0-8910-6157BE5F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2FE-6BF1-47B4-9976-0CEBE140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0DD22-DFF7-49C7-9DC0-9834ABC13A6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84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862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FD007-8019-4E91-9C9D-6C3F72A01E0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50505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50505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50505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6:39:43Z</dcterms:created>
  <dc:creator>Christian Hovine</dc:creator>
  <dc:description/>
  <dc:language>en-US</dc:language>
  <cp:lastModifiedBy>Christian Hovine</cp:lastModifiedBy>
  <dcterms:modified xsi:type="dcterms:W3CDTF">2017-05-07T16:45:11Z</dcterms:modified>
  <cp:revision>1</cp:revision>
  <dc:subject/>
  <dc:title/>
</cp:coreProperties>
</file>