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5310-1725-4EB6-AF4E-D5773FBF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8097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19280" y="4113360"/>
            <a:ext cx="8097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526B-E3C3-41CB-AE05-F0F8BA9C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928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6900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8A6A-A5BE-4F04-9DEA-3BA868BF3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57080" y="18237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94880" y="18237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19280" y="41133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57080" y="41133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94880" y="41133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A64F-E5A7-4340-BD10-97FF03BF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D91F-3FD0-43B5-AED1-D0675F8D9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19280" y="1823760"/>
            <a:ext cx="80978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A6B2-6809-42DC-B2CA-E6D7317C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80978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8276-6207-4CB8-A9F7-DF9F847C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AE78-4135-4208-B28D-5B0F5047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EB9E-9A61-4623-9F23-070B82F2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19280" y="287280"/>
            <a:ext cx="809784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F487-F37E-41B4-BB47-29588C32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1928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83DD-D3B6-4403-95B8-6D8E3E76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19280" y="1823760"/>
            <a:ext cx="80978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42DF-131B-460E-B171-FFFAC6D4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6900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8A5E-7E1C-4BCE-8DA2-837222C1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619280" y="4113360"/>
            <a:ext cx="8097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585C-1EC4-4828-A4C3-0FB84255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8097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619280" y="4113360"/>
            <a:ext cx="8097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22CF-81D2-4AAF-9B9A-89D31C24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61928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76900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A5A7-62CC-4C48-B7DB-8FCF6D90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57080" y="18237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94880" y="18237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619280" y="41133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57080" y="41133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094880" y="41133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106A-6376-402D-BC55-3E85E6B0E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80978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B3C7-650A-4E32-9315-2BE8956C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69AA-ABFA-46F2-A619-B52E4B9B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FF5E-F4E8-4FF3-99DE-D77271E1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19280" y="287280"/>
            <a:ext cx="809784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9AC1-11C6-4631-A034-951DEECB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1928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3A0D-E0BD-482A-9840-733C802A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6900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99F6-EB13-42F2-BA8A-F38F1886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19280" y="4113360"/>
            <a:ext cx="8097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ECCC-7270-4B11-BFE1-1A3848D7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64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092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664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2C280-27E7-4441-84B2-DF746AFD996D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5400" cy="7559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5050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619280" y="1823760"/>
            <a:ext cx="8097840" cy="43830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58400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9862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E49E3-636D-4BDB-8471-A667E6DD5930}" type="slidenum">
              <a:rPr b="0" lang="fr-FR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23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23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92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50505"/>
                </a:solidFill>
                <a:latin typeface="Times New Roman"/>
              </a:rPr>
              <a:t>t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8099280" cy="438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50505"/>
              </a:buClr>
              <a:buSzPct val="2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50505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7T16:39:43Z</dcterms:created>
  <dc:creator>Christian Hovine</dc:creator>
  <dc:description/>
  <dc:language>en-US</dc:language>
  <cp:lastModifiedBy>Christian Hovine</cp:lastModifiedBy>
  <dcterms:modified xsi:type="dcterms:W3CDTF">2017-05-07T16:45:11Z</dcterms:modified>
  <cp:revision>1</cp:revision>
  <dc:subject/>
  <dc:title/>
</cp:coreProperties>
</file>