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3B8-64F6-4388-8360-30C56054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3FF-6C5B-41A4-9C16-1D5C530D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93A-8CB5-44A6-9F87-DFE33792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75E-AD7B-4D15-BC90-64CFED29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364-673A-47B8-AC7C-C14DA867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289-FE2F-456B-85AF-5F98BBB3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E0E-35EB-4E1A-A65C-E7A41EB2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BED-104F-4D5D-A0A6-897960D9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86920"/>
            <a:ext cx="907092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4C0-C510-4C43-8759-60B2E7EB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84F-AFA4-41BA-9DFC-E94666D9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7BC-4302-44FD-AE62-1EB3EB0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32E-E411-447F-900C-28F533A9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40A7D-21C2-4179-8E40-0C0969D67F9B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1 : test presenta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lustration of Bug 1075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2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3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4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6T19:52:28Z</dcterms:created>
  <dc:creator>Christian Hovine</dc:creator>
  <dc:description/>
  <dc:language>en-US</dc:language>
  <cp:lastModifiedBy>Christian Hovine</cp:lastModifiedBy>
  <dcterms:modified xsi:type="dcterms:W3CDTF">2017-05-06T19:56:58Z</dcterms:modified>
  <cp:revision>1</cp:revision>
  <dc:subject/>
  <dc:title/>
</cp:coreProperties>
</file>