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9DD-EBBF-453B-970F-C43328A6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915C-10FE-4A0E-9EE9-D2A084928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F8C-85AC-4EF5-BFBE-F2B9D4CE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E6EB-B478-4473-A539-F5DEDBB83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AFC-DFA3-4620-A94A-CB9EB5AE8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4F74-B15C-4E19-8A9C-3C7CDC4E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6870-64AD-4EF7-B15F-A41B7772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C14-9E2F-41DF-A942-C73B6C4C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02920" y="286920"/>
            <a:ext cx="9070920" cy="39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945E-4849-43D4-852C-9194B47E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4E18-3CE6-4123-B739-8DF582FA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9A6-6AAB-4885-AF7B-5AA1918E5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4FD3-892B-4C4B-83AA-09A0896C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Click to edit the outline text format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econd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Third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Four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Fif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ix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200" spc="-1" strike="noStrike">
                <a:solidFill>
                  <a:srgbClr val="3333ff"/>
                </a:solidFill>
                <a:latin typeface="Arial"/>
              </a:rPr>
              <a:t>Seventh Outline Level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E034DE-BA9B-406A-B39E-67DB8415D80D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1 : test presentation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lustration of Bug 1075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2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2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3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3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400" spc="-1" strike="noStrike">
                <a:solidFill>
                  <a:srgbClr val="3333ff"/>
                </a:solidFill>
                <a:latin typeface="Arial"/>
              </a:rPr>
              <a:t>Slide 4</a:t>
            </a:r>
            <a:endParaRPr b="1" lang="en-US" sz="44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1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2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3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3200" spc="-1" strike="noStrike">
                <a:solidFill>
                  <a:srgbClr val="3333ff"/>
                </a:solidFill>
                <a:latin typeface="Arial"/>
              </a:rPr>
              <a:t>Line 4 of slide 4</a:t>
            </a:r>
            <a:endParaRPr b="1" i="1" lang="en-US" sz="32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6T19:52:28Z</dcterms:created>
  <dc:creator>Christian Hovine</dc:creator>
  <dc:description/>
  <dc:language>en-US</dc:language>
  <cp:lastModifiedBy>Christian Hovine</cp:lastModifiedBy>
  <dcterms:modified xsi:type="dcterms:W3CDTF">2017-05-06T19:56:58Z</dcterms:modified>
  <cp:revision>1</cp:revision>
  <dc:subject/>
  <dc:title/>
</cp:coreProperties>
</file>