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4B-CCD3-493B-895B-356FCE3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BDD-05A7-4180-971E-1536254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872-9B9B-41BB-85F9-C041640F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320-64BE-491B-AE6D-13DB6674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FB9-195B-4487-A7DF-FB4B03E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D35-A3BE-4FB7-99E6-5CBF9C2B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272-B6CE-40B8-A416-0F74DD4D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CF7-B5D6-4121-B3B5-C917BB27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86920"/>
            <a:ext cx="907092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8CF-399D-45BC-8FA8-8B2F6D6C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3F0-676E-4693-8953-65502F4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11A-CDD2-435C-9F6A-48771C5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49E-910A-4710-BBE6-2496310F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054F0-A8A9-4AE7-AD46-26BC00A68AC5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1 : test presenta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lustration of Bug 1075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2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3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6T19:52:28Z</dcterms:created>
  <dc:creator>Christian Hovine</dc:creator>
  <dc:description/>
  <dc:language>en-US</dc:language>
  <cp:lastModifiedBy>Christian Hovine</cp:lastModifiedBy>
  <dcterms:modified xsi:type="dcterms:W3CDTF">2017-05-06T19:56:58Z</dcterms:modified>
  <cp:revision>1</cp:revision>
  <dc:subject/>
  <dc:title/>
</cp:coreProperties>
</file>