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12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1749-14AA-4D12-9A27-7A3ADC734FA5}" type="slidenum">
              <a:rPr b="1" lang="ru-RU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6493-9D14-4B25-8211-65E9D7FB5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0E59-5479-47D1-877D-B201916B0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FCDB-E479-4CF9-92C9-D8D86A3BC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16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16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484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59F6-F32E-43E8-9EB8-42C47231C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BA77-2421-4172-BC1D-F449BBEC87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391C-5E57-4519-9BAD-6C837F214C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83A4-A427-472A-86E3-57A9CB317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8D3F-04EE-459C-9E88-6E79059AFE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3381B-7FE9-4F44-96E8-D266B609AF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5120" y="228240"/>
            <a:ext cx="801072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1D01-CDB2-4119-832A-30396BA631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4116-EE50-49BE-B1D2-BB9A9269B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C754-78BD-454A-AEBB-1F81DA4DC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F55D-BBD2-408F-9497-2B428D9E8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07F8-EA4A-48FF-9904-3F69A79FFA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16D0-BED8-4B25-86E2-6F66F64A6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5C88D-6333-4044-85FA-77E67E6FD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716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4840" y="159984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716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4840" y="3906000"/>
            <a:ext cx="254988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2403B-B18A-48A7-8474-AC717133CF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914F-BDA2-4DD9-B447-0F20ED3C4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58BE-E4BD-44C8-A0A8-E84F803F2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F66E-2111-47E3-B2C2-D7685E8BC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5120" y="228240"/>
            <a:ext cx="8010720" cy="42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E002-BDAC-4C4D-86C3-A87D3C230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D46A-4FAC-42E5-83CF-7086BA5F3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7760" y="390600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C625-DBFA-424C-A547-077591F8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760" y="1599840"/>
            <a:ext cx="38646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6000"/>
            <a:ext cx="792000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9A22-A346-491C-B146-F8DAB891B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2120" cy="6091200"/>
            <a:chOff x="0" y="152280"/>
            <a:chExt cx="8682120" cy="609120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1240" cy="5709960"/>
            </a:xfrm>
            <a:prstGeom prst="roundRect">
              <a:avLst>
                <a:gd name="adj" fmla="val 13727"/>
              </a:avLst>
            </a:prstGeom>
            <a:noFill/>
            <a:ln cap="sq"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29480" cy="1214640"/>
            </a:xfrm>
            <a:custGeom>
              <a:avLst/>
              <a:gdLst>
                <a:gd name="textAreaLeft" fmla="*/ 0 w 8529480"/>
                <a:gd name="textAreaRight" fmla="*/ 4264920 w 8529480"/>
                <a:gd name="textAreaTop" fmla="*/ 0 h 1214640"/>
                <a:gd name="textAreaBottom" fmla="*/ 1215000 h 121464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228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4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1701B-48FF-4091-91F5-11AE7EB6BE07}" type="slidenum">
              <a:rPr b="1" lang="ru-RU" sz="4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86680" cy="4491000"/>
            <a:chOff x="0" y="927000"/>
            <a:chExt cx="8986680" cy="449100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86480" cy="3348000"/>
            </a:xfrm>
            <a:prstGeom prst="roundRect">
              <a:avLst>
                <a:gd name="adj" fmla="val 16667"/>
              </a:avLst>
            </a:prstGeom>
            <a:noFill/>
            <a:ln cap="sq"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57880" cy="986040"/>
            </a:xfrm>
            <a:prstGeom prst="rect">
              <a:avLst/>
            </a:prstGeom>
            <a:solidFill>
              <a:srgbClr val="ffffff"/>
            </a:solidFill>
            <a:ln cap="sq"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86680" cy="1824120"/>
            </a:xfrm>
            <a:custGeom>
              <a:avLst/>
              <a:gdLst>
                <a:gd name="textAreaLeft" fmla="*/ 0 w 8986680"/>
                <a:gd name="textAreaRight" fmla="*/ 4494240 w 8986680"/>
                <a:gd name="textAreaTop" fmla="*/ 0 h 1824120"/>
                <a:gd name="textAreaBottom" fmla="*/ 1824480 h 182412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0880" cy="0"/>
            </a:xfrm>
            <a:prstGeom prst="line">
              <a:avLst/>
            </a:prstGeom>
            <a:ln cap="sq"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10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00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ru-RU" sz="1200" spc="-1" strike="noStrike">
                <a:solidFill>
                  <a:srgbClr val="000000"/>
                </a:solidFill>
                <a:latin typeface="Arial Black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57B13-1CD4-4C12-AC8E-1D28E3FC7DF6}" type="slidenum">
              <a:rPr b="1" lang="ru-RU" sz="1200" spc="-1" strike="noStrike">
                <a:solidFill>
                  <a:srgbClr val="000000"/>
                </a:solidFill>
                <a:latin typeface="Arial Black"/>
                <a:ea typeface="DejaVu San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Оздоровление 201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9640" y="1484280"/>
          <a:ext cx="4319640" cy="31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4319640" cy="31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64000" y="2994120"/>
          <a:ext cx="4967280" cy="302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994120"/>
                    <a:ext cx="496728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8:11:50Z</dcterms:created>
  <dc:creator>Александр Шилович</dc:creator>
  <dc:description/>
  <dc:language>en-US</dc:language>
  <cp:lastModifiedBy/>
  <dcterms:modified xsi:type="dcterms:W3CDTF">2016-05-16T18:09:02Z</dcterms:modified>
  <cp:revision>629</cp:revision>
  <dc:subject/>
  <dc:title>Слайд 1</dc:title>
</cp:coreProperties>
</file>