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ru-RU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9D335-EA00-481B-89FC-7567CD026623}" type="slidenum">
              <a:rPr b="1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9EAA-B8D0-4BD4-8166-5A320C157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00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6000"/>
            <a:ext cx="79200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619A-A53F-4BB4-B2FE-3D9ED449A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600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7760" y="390600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702B-F93E-41CF-B3AC-F6EE93C4D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160" y="159984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4840" y="159984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600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160" y="390600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4840" y="390600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2540-2C55-40A2-A97B-7E14C82D8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C1BA-DA5E-4CD7-AE8B-7AFA18EABE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00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EADE5-BE76-4E31-B148-6F9A17E09E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00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4E3A-C33C-4C35-A3BE-84289E249B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90C4E-6CA4-4AD9-AAF2-C3F06C8E55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9286-5C44-4BA6-896B-CF27EAFD10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5120" y="228240"/>
            <a:ext cx="801072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F1F06-16E1-43BD-8046-16F322880D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600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292E-CC86-43A6-BC8B-1B81DBEF0A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00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5491-4205-4326-B28A-C9B52C9C4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7760" y="390600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EC3F-8125-46B8-9837-767BEC2412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6000"/>
            <a:ext cx="79200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11A24-3A8D-4790-A70A-0E97C4C3A6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00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6000"/>
            <a:ext cx="79200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F291C-6C94-4934-8D29-E9C423B707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600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7760" y="390600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511A-6ABE-492C-9044-7B38D3A4B1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7160" y="159984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4840" y="159984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600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7160" y="390600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4840" y="390600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47887-E62D-48DD-8C27-613C2E8448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00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588F-AED5-427E-AB96-6C9530010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C9D2-9127-45A7-90DF-6F8B3CD3E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68F6-7E4D-4CFC-9766-B9062B71E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5120" y="228240"/>
            <a:ext cx="801072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18AE-E66A-4041-984F-09C9FF7E2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600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BDD8-8398-4ECD-B832-238E1F494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7760" y="390600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4EE5-ADE0-4396-9390-66041E709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6000"/>
            <a:ext cx="79200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4C0A-5A81-4C94-B229-197C11D26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2120" cy="6091200"/>
            <a:chOff x="0" y="152280"/>
            <a:chExt cx="8682120" cy="609120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1240" cy="5709960"/>
            </a:xfrm>
            <a:prstGeom prst="roundRect">
              <a:avLst>
                <a:gd name="adj" fmla="val 13727"/>
              </a:avLst>
            </a:prstGeom>
            <a:noFill/>
            <a:ln cap="sq"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29480" cy="1214640"/>
            </a:xfrm>
            <a:custGeom>
              <a:avLst/>
              <a:gdLst>
                <a:gd name="textAreaLeft" fmla="*/ 0 w 8529480"/>
                <a:gd name="textAreaRight" fmla="*/ 4264920 w 8529480"/>
                <a:gd name="textAreaTop" fmla="*/ 0 h 1214640"/>
                <a:gd name="textAreaBottom" fmla="*/ 1215000 h 121464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228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00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ru-RU" sz="4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17B23-002E-4CE8-8A9E-2C385EDE90DB}" type="slidenum">
              <a:rPr b="1" lang="ru-RU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86680" cy="4491000"/>
            <a:chOff x="0" y="927000"/>
            <a:chExt cx="8986680" cy="449100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86480" cy="3348000"/>
            </a:xfrm>
            <a:prstGeom prst="roundRect">
              <a:avLst>
                <a:gd name="adj" fmla="val 16667"/>
              </a:avLst>
            </a:prstGeom>
            <a:noFill/>
            <a:ln cap="sq"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57880" cy="986040"/>
            </a:xfrm>
            <a:prstGeom prst="rect">
              <a:avLst/>
            </a:prstGeom>
            <a:solidFill>
              <a:srgbClr val="ffffff"/>
            </a:solidFill>
            <a:ln cap="sq"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86680" cy="1824120"/>
            </a:xfrm>
            <a:custGeom>
              <a:avLst/>
              <a:gdLst>
                <a:gd name="textAreaLeft" fmla="*/ 0 w 8986680"/>
                <a:gd name="textAreaRight" fmla="*/ 4494240 w 8986680"/>
                <a:gd name="textAreaTop" fmla="*/ 0 h 1824120"/>
                <a:gd name="textAreaBottom" fmla="*/ 1824480 h 182412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0880" cy="0"/>
            </a:xfrm>
            <a:prstGeom prst="line">
              <a:avLst/>
            </a:prstGeom>
            <a:ln cap="sq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00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9ED69-D8FD-402B-AA46-4D10641A42F8}" type="slidenum">
              <a:rPr b="1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Оздоровление 2012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9640" y="1484280"/>
          <a:ext cx="4319640" cy="31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4319640" cy="31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564000" y="2994120"/>
          <a:ext cx="4967280" cy="302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2994120"/>
                    <a:ext cx="496728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8:11:50Z</dcterms:created>
  <dc:creator>Александр Шилович</dc:creator>
  <dc:description/>
  <dc:language>en-US</dc:language>
  <cp:lastModifiedBy/>
  <dcterms:modified xsi:type="dcterms:W3CDTF">2016-05-16T18:09:02Z</dcterms:modified>
  <cp:revision>629</cp:revision>
  <dc:subject/>
  <dc:title>Слайд 1</dc:title>
</cp:coreProperties>
</file>