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0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5C6-28E3-4E31-B23A-1818A8A7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397-9AEC-4A9F-82D5-5D0E96BF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FC8-09E2-434A-AF48-8154FE49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D7A-4F82-4EFC-AB78-61133973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3D6-AD51-4A52-B685-60F63FB2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6F83-8280-4453-B222-C51BB0DE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7AB-2433-4DEC-903C-C892C26A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605-F335-42D9-9A05-DC21FFF2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5A8-FB12-44D9-A4AB-52199D09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015-A45E-4597-B5BE-0476E22C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27A-2FBD-4C47-87EB-2332382B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FBD-A497-488D-A69E-2A2BD555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F860-78FE-49A6-A13A-02332D5B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EE65-E6F1-41CA-A6F5-7C11B8DB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A7AD-BD99-470C-A26B-E084EB4A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CE43-2484-4B4F-A477-751F2EEC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6A14-8147-4909-A2C3-9C8EC0ED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7C0F-401D-4C7C-9C55-D1D93DD8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800E-0142-4A16-9A83-6325B7FA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7609-BB5A-4EBD-B795-37697FEA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E56C-1F4E-4D02-BBBF-8545D1F0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FBE6-9A1A-4381-9E6E-B359575F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1587-3BF0-48D7-A5EE-8993F561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89B3-A777-4599-897A-B63B496E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E14F-1174-4E4B-9BE1-561DD39E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A82AE-51F4-4FF2-B696-A3398103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F3D90-D259-4F50-B4D3-E3808A7B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14F90-34E3-4714-B0C3-916B680C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54699-7D47-4C79-8B7E-FDD8AE70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B0452-373F-4F45-9C09-82D31094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5D552-B65A-4923-9605-6455476F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9AF13-FF65-4660-82DD-32006F88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4DA26-F917-44F5-B02E-A5831C8D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21061-2BE3-4EA7-8CF4-792BD877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97B1B-E066-4ABD-AB83-B808CF82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E670D-7E83-4FF7-AF14-A7203195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A83E9-5BB8-4A8C-91EB-A065C290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152BF-DD10-40EC-B377-EC2D7B43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0BD38-C73C-4763-96C2-323307A5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2518C-602A-4221-8A93-67580B2E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15B8E-FCF3-4E1F-A28E-68F90C4B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D1CF4-B645-4CC6-9BC1-E285589B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543D8-EAC3-4E4C-BBCF-78E0D038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D4438-B13E-47F8-8BCB-0D29BE76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45238-A913-4CD0-9EB0-3726EA50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84BF8-4218-43E1-B21A-70D654C2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1D0BC-0DD1-48DB-816D-ABF6CBF9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88B1B-CE0F-4833-86A2-98433FEA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8A69C-08B5-47E1-A362-92ED6779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6499A-34B2-4080-96D9-71A5BD75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3556F-4A6F-467E-A2AF-F7034966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DEAF1-79EC-406B-AEA1-2B989F81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E844B-9962-4AB7-8B9C-89CC87F8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EE39B-12F7-4627-AFD3-08E803D8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21E40-F57A-4268-A91B-FEE03448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C52C0-29FD-4D17-9CBF-1C0FA9E0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216DD-82A6-4971-A0C5-F83CB198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9CEE4-666A-4543-A2C5-DD8FF9E3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CFFA0-F8AB-44BB-B17A-27DC4BC3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65766-1DC5-4935-8519-CACBEBEC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F3E22-64BB-4295-B56D-D2804D79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720D3-025B-4CBF-98A4-1FD3F8A5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092BF-6CED-49A0-A799-4C6EA906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082AB-9E68-4C51-8603-57DD7C9B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CA5BA-F52D-4166-891E-07B4FB09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1862D-3673-4F59-A89A-8E3C3FD6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6FE1E-BF33-4E08-8741-0356A81A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A7911-1B72-4F74-9977-95E1B1A2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01A2D-77A4-4225-BDE9-8F3D4465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C2B25-9B78-46E7-BE79-02ADC0C4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9CE1A-D612-41A9-A982-227B67CB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FB8EA-3808-46E5-B77B-2D14190B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9"/>
          <p:cNvSpPr/>
          <p:nvPr/>
        </p:nvSpPr>
        <p:spPr>
          <a:xfrm>
            <a:off x="287280" y="844560"/>
            <a:ext cx="431820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358920"/>
            <a:ext cx="2881440" cy="523800"/>
            <a:chOff x="0" y="358920"/>
            <a:chExt cx="2881440" cy="523800"/>
          </a:xfrm>
        </p:grpSpPr>
        <p:grpSp>
          <p:nvGrpSpPr>
            <p:cNvPr id="2" name="Group 4"/>
            <p:cNvGrpSpPr/>
            <p:nvPr/>
          </p:nvGrpSpPr>
          <p:grpSpPr>
            <a:xfrm>
              <a:off x="0" y="693720"/>
              <a:ext cx="2881440" cy="162000"/>
              <a:chOff x="0" y="693720"/>
              <a:chExt cx="2881440" cy="162000"/>
            </a:xfrm>
          </p:grpSpPr>
          <p:sp>
            <p:nvSpPr>
              <p:cNvPr id="3" name="Rectangle 20"/>
              <p:cNvSpPr/>
              <p:nvPr/>
            </p:nvSpPr>
            <p:spPr>
              <a:xfrm>
                <a:off x="0" y="693720"/>
                <a:ext cx="2879640" cy="144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6388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8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hanghai Jiao Tong Universi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AutoShape 22"/>
              <p:cNvSpPr/>
              <p:nvPr/>
            </p:nvSpPr>
            <p:spPr>
              <a:xfrm flipH="1">
                <a:off x="2773440" y="693720"/>
                <a:ext cx="108000" cy="16200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" name="Picture 18" descr="上海交通大学校徽"/>
            <p:cNvPicPr/>
            <p:nvPr/>
          </p:nvPicPr>
          <p:blipFill>
            <a:blip r:embed="rId2"/>
            <a:stretch/>
          </p:blipFill>
          <p:spPr>
            <a:xfrm>
              <a:off x="168120" y="358920"/>
              <a:ext cx="5241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9" descr="上海交通大学"/>
            <p:cNvPicPr/>
            <p:nvPr/>
          </p:nvPicPr>
          <p:blipFill>
            <a:blip r:embed="rId3"/>
            <a:stretch/>
          </p:blipFill>
          <p:spPr>
            <a:xfrm>
              <a:off x="777960" y="395280"/>
              <a:ext cx="118584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Rectangle 11"/>
          <p:cNvSpPr/>
          <p:nvPr/>
        </p:nvSpPr>
        <p:spPr>
          <a:xfrm>
            <a:off x="4826160" y="6477120"/>
            <a:ext cx="431784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46160" y="189000"/>
            <a:ext cx="71978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1835280" y="574560"/>
            <a:ext cx="7197480" cy="71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826160" y="179280"/>
            <a:ext cx="4317840" cy="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xm_3"/>
          <p:cNvPicPr/>
          <p:nvPr/>
        </p:nvPicPr>
        <p:blipFill>
          <a:blip r:embed="rId3"/>
          <a:stretch/>
        </p:blipFill>
        <p:spPr>
          <a:xfrm>
            <a:off x="6553080" y="179280"/>
            <a:ext cx="755640" cy="503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0" name="Picture 7" descr="xm_5"/>
          <p:cNvPicPr/>
          <p:nvPr/>
        </p:nvPicPr>
        <p:blipFill>
          <a:blip r:embed="rId4"/>
          <a:stretch/>
        </p:blipFill>
        <p:spPr>
          <a:xfrm>
            <a:off x="7308720" y="179280"/>
            <a:ext cx="755640" cy="503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1" name="Picture 8" descr=""/>
          <p:cNvPicPr/>
          <p:nvPr/>
        </p:nvPicPr>
        <p:blipFill>
          <a:blip r:embed="rId5"/>
          <a:srcRect l="0" t="0" r="2880" b="0"/>
          <a:stretch/>
        </p:blipFill>
        <p:spPr>
          <a:xfrm>
            <a:off x="5041800" y="179280"/>
            <a:ext cx="755640" cy="503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2" name="Picture 9" descr=""/>
          <p:cNvPicPr/>
          <p:nvPr/>
        </p:nvPicPr>
        <p:blipFill>
          <a:blip r:embed="rId6"/>
          <a:stretch/>
        </p:blipFill>
        <p:spPr>
          <a:xfrm>
            <a:off x="5797440" y="179280"/>
            <a:ext cx="755640" cy="503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3" name="Picture 10" descr="DPP_0016"/>
          <p:cNvPicPr/>
          <p:nvPr/>
        </p:nvPicPr>
        <p:blipFill>
          <a:blip r:embed="rId7"/>
          <a:stretch/>
        </p:blipFill>
        <p:spPr>
          <a:xfrm>
            <a:off x="8064360" y="179280"/>
            <a:ext cx="755640" cy="503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6160" y="189000"/>
            <a:ext cx="71978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8C49-252C-4E2E-A79A-09F020305DA3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9"/>
          <p:cNvSpPr/>
          <p:nvPr/>
        </p:nvSpPr>
        <p:spPr>
          <a:xfrm>
            <a:off x="287280" y="844560"/>
            <a:ext cx="431820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0" y="358920"/>
            <a:ext cx="2881440" cy="523800"/>
            <a:chOff x="0" y="358920"/>
            <a:chExt cx="2881440" cy="523800"/>
          </a:xfrm>
        </p:grpSpPr>
        <p:grpSp>
          <p:nvGrpSpPr>
            <p:cNvPr id="100" name="Group 4"/>
            <p:cNvGrpSpPr/>
            <p:nvPr/>
          </p:nvGrpSpPr>
          <p:grpSpPr>
            <a:xfrm>
              <a:off x="0" y="693720"/>
              <a:ext cx="2881440" cy="162000"/>
              <a:chOff x="0" y="693720"/>
              <a:chExt cx="2881440" cy="162000"/>
            </a:xfrm>
          </p:grpSpPr>
          <p:sp>
            <p:nvSpPr>
              <p:cNvPr id="101" name="Rectangle 20"/>
              <p:cNvSpPr/>
              <p:nvPr/>
            </p:nvSpPr>
            <p:spPr>
              <a:xfrm>
                <a:off x="0" y="693720"/>
                <a:ext cx="2879640" cy="144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6388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8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hanghai Jiao Tong Universi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22"/>
              <p:cNvSpPr/>
              <p:nvPr/>
            </p:nvSpPr>
            <p:spPr>
              <a:xfrm flipH="1">
                <a:off x="2773440" y="693720"/>
                <a:ext cx="108000" cy="16200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" name="Picture 18" descr="上海交通大学校徽"/>
            <p:cNvPicPr/>
            <p:nvPr/>
          </p:nvPicPr>
          <p:blipFill>
            <a:blip r:embed="rId2"/>
            <a:stretch/>
          </p:blipFill>
          <p:spPr>
            <a:xfrm>
              <a:off x="168120" y="358920"/>
              <a:ext cx="5241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9" descr="上海交通大学"/>
            <p:cNvPicPr/>
            <p:nvPr/>
          </p:nvPicPr>
          <p:blipFill>
            <a:blip r:embed="rId3"/>
            <a:stretch/>
          </p:blipFill>
          <p:spPr>
            <a:xfrm>
              <a:off x="777960" y="395280"/>
              <a:ext cx="118584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1"/>
          <p:cNvSpPr/>
          <p:nvPr/>
        </p:nvSpPr>
        <p:spPr>
          <a:xfrm>
            <a:off x="4826160" y="6477120"/>
            <a:ext cx="431784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4BFC-161F-47B5-BFB8-AF02B3BDABCB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80B8-A0B6-4FBA-BBAA-25DE73AA3914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6A2D-BB43-4DB1-8A07-80DB63B57742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B1F9-6D07-4B8D-B961-5F27F8646901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9034-3791-4EE0-B779-A312FA247244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Object 3"/>
          <p:cNvGraphicFramePr/>
          <p:nvPr/>
        </p:nvGraphicFramePr>
        <p:xfrm>
          <a:off x="1163520" y="1814400"/>
          <a:ext cx="502308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1814400"/>
                    <a:ext cx="502308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0:44:10Z</dcterms:created>
  <dc:creator>ZHANG XIANMING</dc:creator>
  <dc:description/>
  <cp:keywords/>
  <dc:language>en-US</dc:language>
  <cp:lastModifiedBy>Zhenbo Li</cp:lastModifiedBy>
  <cp:lastPrinted>1899-12-30T00:00:00Z</cp:lastPrinted>
  <dcterms:modified xsi:type="dcterms:W3CDTF">2016-01-03T07:01:54Z</dcterms:modified>
  <cp:revision>1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