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600-556A-421C-9EA0-7EFF35BA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ED2-7476-4F19-A823-57640768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0C7-7F99-4366-A498-5B4AAE8A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7DC-A37C-4897-A6F1-73ADD9C5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65C-B0C6-4828-9CC5-987E250E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7FC-1D33-4C54-B924-A5B6FE2C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6D0-8C44-45BC-8A34-3B21D5E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777-BD32-4F24-B8B1-A9C53641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84A-F7F3-4DA0-B45C-FF2018B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9DD-35CE-4558-90D1-65CC0CA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4D4-F28F-4015-8E3B-48416BA2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51F-A216-46B5-9F62-708797F6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DE8F-EE40-4CF3-97FC-CF9541C7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AF9-53A0-43ED-A002-8500D6A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2EB2-01CD-4CA9-B284-E3FFBB91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2E7D-F7D8-4105-80BB-AF7C34F2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CDE-7843-4217-B5B2-66172B47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4F92-85BE-4DAE-BF35-6870362C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F0BF-1A2F-4C31-B7DD-63CABA4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FE5B-77FC-4396-BA44-B52F5CF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C953-6BAC-47D8-B0D2-FB08588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DCB9-081C-475C-A1D9-B28B26F8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DA2E-6784-4E1F-83E3-36872D3D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F694-BE18-405A-9326-CA41A897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1F6D-1204-48BE-B0A1-0C2FBD53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581B-75ED-43E7-B54A-733B3590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2E44-81D3-4B5D-B597-05F94BE2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4077-C0C8-4689-A5C8-7168E6F0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6154-9825-433F-9211-E103F73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F20B-993A-492D-AF21-7E679042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E0E2-6ABA-4468-81F6-7C457292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FF65-149F-433F-8ACE-9A2A7240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725B-4CE9-4296-A2AC-D3F75CF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64FC-0C8A-4EE6-A2F2-D1340508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7BCE-8862-4EE7-8A23-DC54CF59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CAB2-0C38-4052-B678-BD04B75B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FE630-B539-49A6-AFB3-AFE57BE3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4AA43-2C14-415C-8D22-BBBB9A32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1244-59E0-46D5-AB57-3A488BF2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DECA-6D96-4CAB-B622-C61FD1C7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FDC9-6D67-400F-A311-CAB4B32F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8800-A81B-46CC-895C-DADE7CE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3E18-213B-4FD3-9EA7-19CC954B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D478-FF88-4E04-854D-3BFA529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8932-3688-4660-A327-D80A17F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0F1F7-078B-45EB-B1DF-D282BCCB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BA685-07FF-4283-86CE-E31AD4AC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B925-F8D5-4849-B72A-394D1BE0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692D-FF4C-4922-9F61-FF620A11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36BC1-BD96-4118-B968-5FA76AC9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AA2F-D5D0-4281-8CA9-8C76428C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10EF-3840-4349-A900-8B4F534B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25CA4-E7BB-4612-88B4-5F9A17D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F05E-D6C9-477B-89C7-D9027DB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E2B25-B3C2-4A19-AEA8-2E455C73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68793-353A-4ECA-BBF2-E9BCD9E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CAC7-2269-45B0-A49A-42B3F415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F484C-7148-491C-9610-A38BB32A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82BD-53E6-4D17-B942-B69E22D0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4CA6F-A1CF-4117-BDFD-7D644D00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A5C5-D99F-4EBB-B1DE-BB7D5D69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6205-304A-4FF7-A60C-0D2ECB0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2B836-3BF0-4AB1-858E-B1275C0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4ACE1-0FC2-4B47-9BDF-2FB46508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0F986-052F-43EA-8D86-088FA342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38010-7D42-44AF-8A3A-EC9A292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7209C-8E93-4A1C-AE3E-CCF8D58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2FFFF-7DA7-4BE8-9F93-5F038EA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78E5-4B17-4D43-91CF-16A9772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76D86-FAC5-4703-BBF0-AE5F8688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DD6C-DB0B-4EEE-BFC7-76AE23CB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06D0-BD47-4BD3-B593-7AF50FB6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287280" y="84456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358920"/>
            <a:ext cx="2881440" cy="523800"/>
            <a:chOff x="0" y="358920"/>
            <a:chExt cx="2881440" cy="523800"/>
          </a:xfrm>
        </p:grpSpPr>
        <p:grpSp>
          <p:nvGrpSpPr>
            <p:cNvPr id="2" name="Group 4"/>
            <p:cNvGrpSpPr/>
            <p:nvPr/>
          </p:nvGrpSpPr>
          <p:grpSpPr>
            <a:xfrm>
              <a:off x="0" y="693720"/>
              <a:ext cx="2881440" cy="162000"/>
              <a:chOff x="0" y="693720"/>
              <a:chExt cx="2881440" cy="162000"/>
            </a:xfrm>
          </p:grpSpPr>
          <p:sp>
            <p:nvSpPr>
              <p:cNvPr id="3" name="Rectangle 20"/>
              <p:cNvSpPr/>
              <p:nvPr/>
            </p:nvSpPr>
            <p:spPr>
              <a:xfrm>
                <a:off x="0" y="693720"/>
                <a:ext cx="2879640" cy="14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638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8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hanghai Jiao Tong Univers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AutoShape 22"/>
              <p:cNvSpPr/>
              <p:nvPr/>
            </p:nvSpPr>
            <p:spPr>
              <a:xfrm flipH="1">
                <a:off x="2773440" y="693720"/>
                <a:ext cx="108000" cy="162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18" descr="上海交通大学校徽"/>
            <p:cNvPicPr/>
            <p:nvPr/>
          </p:nvPicPr>
          <p:blipFill>
            <a:blip r:embed="rId2"/>
            <a:stretch/>
          </p:blipFill>
          <p:spPr>
            <a:xfrm>
              <a:off x="168120" y="358920"/>
              <a:ext cx="524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9" descr="上海交通大学"/>
            <p:cNvPicPr/>
            <p:nvPr/>
          </p:nvPicPr>
          <p:blipFill>
            <a:blip r:embed="rId3"/>
            <a:stretch/>
          </p:blipFill>
          <p:spPr>
            <a:xfrm>
              <a:off x="777960" y="395280"/>
              <a:ext cx="11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1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46160" y="189000"/>
            <a:ext cx="7197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835280" y="574560"/>
            <a:ext cx="7197480" cy="7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826160" y="179280"/>
            <a:ext cx="431784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xm_3"/>
          <p:cNvPicPr/>
          <p:nvPr/>
        </p:nvPicPr>
        <p:blipFill>
          <a:blip r:embed="rId3"/>
          <a:stretch/>
        </p:blipFill>
        <p:spPr>
          <a:xfrm>
            <a:off x="655308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0" name="Picture 7" descr="xm_5"/>
          <p:cNvPicPr/>
          <p:nvPr/>
        </p:nvPicPr>
        <p:blipFill>
          <a:blip r:embed="rId4"/>
          <a:stretch/>
        </p:blipFill>
        <p:spPr>
          <a:xfrm>
            <a:off x="730872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5"/>
          <a:srcRect l="0" t="0" r="2880" b="0"/>
          <a:stretch/>
        </p:blipFill>
        <p:spPr>
          <a:xfrm>
            <a:off x="504180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2" name="Picture 9" descr=""/>
          <p:cNvPicPr/>
          <p:nvPr/>
        </p:nvPicPr>
        <p:blipFill>
          <a:blip r:embed="rId6"/>
          <a:stretch/>
        </p:blipFill>
        <p:spPr>
          <a:xfrm>
            <a:off x="579744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3" name="Picture 10" descr="DPP_0016"/>
          <p:cNvPicPr/>
          <p:nvPr/>
        </p:nvPicPr>
        <p:blipFill>
          <a:blip r:embed="rId7"/>
          <a:stretch/>
        </p:blipFill>
        <p:spPr>
          <a:xfrm>
            <a:off x="806436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6160" y="189000"/>
            <a:ext cx="7197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FDD6-8AC6-46C7-A20E-D08A3BEA30B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287280" y="84456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0" y="358920"/>
            <a:ext cx="2881440" cy="523800"/>
            <a:chOff x="0" y="358920"/>
            <a:chExt cx="2881440" cy="523800"/>
          </a:xfrm>
        </p:grpSpPr>
        <p:grpSp>
          <p:nvGrpSpPr>
            <p:cNvPr id="100" name="Group 4"/>
            <p:cNvGrpSpPr/>
            <p:nvPr/>
          </p:nvGrpSpPr>
          <p:grpSpPr>
            <a:xfrm>
              <a:off x="0" y="693720"/>
              <a:ext cx="2881440" cy="162000"/>
              <a:chOff x="0" y="693720"/>
              <a:chExt cx="2881440" cy="162000"/>
            </a:xfrm>
          </p:grpSpPr>
          <p:sp>
            <p:nvSpPr>
              <p:cNvPr id="101" name="Rectangle 20"/>
              <p:cNvSpPr/>
              <p:nvPr/>
            </p:nvSpPr>
            <p:spPr>
              <a:xfrm>
                <a:off x="0" y="693720"/>
                <a:ext cx="2879640" cy="14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638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8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hanghai Jiao Tong Univers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2"/>
              <p:cNvSpPr/>
              <p:nvPr/>
            </p:nvSpPr>
            <p:spPr>
              <a:xfrm flipH="1">
                <a:off x="2773440" y="693720"/>
                <a:ext cx="108000" cy="162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" name="Picture 18" descr="上海交通大学校徽"/>
            <p:cNvPicPr/>
            <p:nvPr/>
          </p:nvPicPr>
          <p:blipFill>
            <a:blip r:embed="rId2"/>
            <a:stretch/>
          </p:blipFill>
          <p:spPr>
            <a:xfrm>
              <a:off x="168120" y="358920"/>
              <a:ext cx="524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9" descr="上海交通大学"/>
            <p:cNvPicPr/>
            <p:nvPr/>
          </p:nvPicPr>
          <p:blipFill>
            <a:blip r:embed="rId3"/>
            <a:stretch/>
          </p:blipFill>
          <p:spPr>
            <a:xfrm>
              <a:off x="777960" y="395280"/>
              <a:ext cx="11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1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58C-500C-427F-AC55-90E878EE6D2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2BBB-BE06-41C1-A122-C5B95A7618A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E4C-F783-40A6-84B7-649BBC79A39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1D1A-375D-4592-A3C2-FD9CA662452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5779-F8E4-4B69-8EBB-585DB371353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3"/>
          <p:cNvGraphicFramePr/>
          <p:nvPr/>
        </p:nvGraphicFramePr>
        <p:xfrm>
          <a:off x="1163520" y="1814400"/>
          <a:ext cx="50230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814400"/>
                    <a:ext cx="50230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0:44:10Z</dcterms:created>
  <dc:creator>ZHANG XIANMING</dc:creator>
  <dc:description/>
  <cp:keywords/>
  <dc:language>en-US</dc:language>
  <cp:lastModifiedBy>Zhenbo Li</cp:lastModifiedBy>
  <cp:lastPrinted>1899-12-30T00:00:00Z</cp:lastPrinted>
  <dcterms:modified xsi:type="dcterms:W3CDTF">2016-01-03T07:01:54Z</dcterms:modified>
  <cp:revision>1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