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342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CC82-2506-44B6-92F1-45979170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B11D-0B96-482A-98CC-804A8CB4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4377-B04B-44EA-90E9-83D0108D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F896-93F0-43CD-9A53-8E704B5B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26CE-F78C-4DE9-A69A-9C8E6B70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B62E-F69A-41C8-9FA9-01E9564F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DCC-EB5A-4F86-B6DC-DB93F933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2406-2E82-4AC9-BC9B-580334A7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308E-46FF-415F-B50F-F35AF2DB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C955-8675-4040-8EF8-3AC42847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175-9CFE-437E-AAF9-7F373607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8E3E-AA79-4077-BDED-19EC1540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20462D-A5A4-4541-B9C5-AFE105F62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0240"/>
          </a:xfrm>
          <a:prstGeom prst="rect">
            <a:avLst/>
          </a:prstGeom>
          <a:ln cap="sq" w="9360">
            <a:solidFill>
              <a:srgbClr val="bfbfb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0" y="658800"/>
            <a:ext cx="9144000" cy="914400"/>
          </a:xfrm>
          <a:prstGeom prst="rect">
            <a:avLst/>
          </a:prstGeom>
          <a:solidFill>
            <a:srgbClr val="e5e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04800"/>
            <a:ext cx="8153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rom: The Nature of Traumatic Memories: A 4-T fMRI Functional Connectivity 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5156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Journal of Psychia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33440" y="1476360"/>
            <a:ext cx="4678560" cy="3138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50468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5199120"/>
            <a:ext cx="82296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4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reas of connectivity/covariation determined by the statistical parametric map of the t statistic (SPM[t]) showing the psychophysiological interaction between activity in the right anterior cingulate cortex (Talairach coordinates x=2, y=20, z=36) and activity in other brain regions. The grid diagrams show all areas with significantly greater covariation in the subjects without PTSD. The cross-sectional brain images show sites of significant covariation in areas of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84440" y="6300720"/>
            <a:ext cx="32562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Copyright © American Psychiatric Association. All rights reserve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300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51560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Date of download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216000"/>
                <a:tab algn="l" pos="1130400"/>
                <a:tab algn="l" pos="2044800"/>
                <a:tab algn="l" pos="2959200"/>
                <a:tab algn="l" pos="3873600"/>
                <a:tab algn="l" pos="4788000"/>
                <a:tab algn="l" pos="5702400"/>
                <a:tab algn="l" pos="6616800"/>
                <a:tab algn="l" pos="7531200"/>
                <a:tab algn="l" pos="8445600"/>
                <a:tab algn="l" pos="9360000"/>
                <a:tab algn="l" pos="10274400"/>
                <a:tab algn="l" pos="1051560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Times New Roman"/>
              </a:rPr>
              <a:t>10/23/201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119640"/>
            <a:ext cx="8382240" cy="1800"/>
          </a:xfrm>
          <a:prstGeom prst="line">
            <a:avLst/>
          </a:prstGeom>
          <a:ln cap="sq"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