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342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65E-AB0B-466F-9149-33D86E02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E89-0D0A-4C2F-A1E8-7742AF4F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163-2D0D-491A-94DD-D70C85D7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457-FF87-4A43-BD28-5A0E793A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64E-414B-4E1D-9433-BAD08AF4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BC2-D78F-4B4E-A37F-382F6B39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B8A-FC79-4D83-BA7F-10C5774E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916-E895-450E-9A89-565BDC27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253-96DE-4137-BC13-7044C857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546-DDE9-477E-9F85-B1A6A3DC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FFF-F919-4CE6-BB45-A4403B0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AC6-9792-453C-B554-23FEC7F9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CA00BD-AEBF-4DD9-B16A-6263C4AD2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240"/>
          </a:xfrm>
          <a:prstGeom prst="rect">
            <a:avLst/>
          </a:prstGeom>
          <a:ln cap="sq" w="9360">
            <a:solidFill>
              <a:srgbClr val="bfbfb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658800"/>
            <a:ext cx="9144000" cy="914400"/>
          </a:xfrm>
          <a:prstGeom prst="rect">
            <a:avLst/>
          </a:prstGeom>
          <a:solidFill>
            <a:srgbClr val="e5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04800"/>
            <a:ext cx="8153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rom: The Nature of Traumatic Memories: A 4-T fMRI Functional Connectivity 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Journal of Psychia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33440" y="1476360"/>
            <a:ext cx="4678560" cy="3138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0468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5199120"/>
            <a:ext cx="8229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reas of connectivity/covariation determined by the statistical parametric map of the t statistic (SPM[t]) showing the psychophysiological interaction between activity in the right anterior cingulate cortex (Talairach coordinates x=2, y=20, z=36) and activity in other brain regions. The grid diagrams show all areas with significantly greater covariation in the subjects without PTSD. The cross-sectional brain images show sites of significant covariation in areas of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84440" y="6300720"/>
            <a:ext cx="32562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Copyright © American Psychiatric Association. All rights reserv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300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51560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Date of download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51560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10/23/20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119640"/>
            <a:ext cx="8382240" cy="1800"/>
          </a:xfrm>
          <a:prstGeom prst="line">
            <a:avLst/>
          </a:prstGeom>
          <a:ln cap="sq"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