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E3F0-2B80-4F60-8256-74135A56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27B-5EB4-4315-BF83-76E2961F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F65-3F92-4929-B51D-4A005189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8A7-2900-470C-B538-C4FE231F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69CE-4DCE-4728-98FB-49492257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EFC3-08B8-48A9-83D4-F2415B82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3B42-7006-46BA-B459-8D47BF32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ED6F-345A-48B7-A192-7B251968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8567-8CB4-49BF-9541-37980CBE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E04D-75D4-4DEA-9171-EE24D3D7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3BA0-6279-4A6E-BD48-BB8DC65F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275-B9FA-4CD0-B6B5-C5EAA29A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7856-E8E2-4E2D-80E7-91B7BAA2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A3ED-70A8-4B4B-A8D2-39385AD7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DC18-4602-4684-8C2D-A77B3279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AAED-EBE5-4EDC-A36C-DBB4687C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7FBE-3F2A-486C-80A2-675E0115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768-85CC-40DA-99FB-B98703E8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D36-FF20-4DE7-94DA-F6EBE5E5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E61-7A92-4B05-8168-9D0E6F67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71C-5BF7-4643-9626-0112CDD1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6B9-A002-4088-A6C3-A2A1440E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6A7-DDB2-4EEA-83A8-D4DEBA4D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CD1-320D-4FA3-A15A-4BDAF3D7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CC5A-F327-46C8-951E-54B8EF4AE88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B488-8417-476F-BBA2-381DD7DF0B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522B-19DF-4CBD-BB24-8B03BE5B5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4dd4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角三角形 15"/>
          <p:cNvSpPr/>
          <p:nvPr/>
        </p:nvSpPr>
        <p:spPr>
          <a:xfrm flipH="1">
            <a:off x="-720" y="5229360"/>
            <a:ext cx="9140760" cy="162864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4dd43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4dd43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4dd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7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ffc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角三角形 15"/>
          <p:cNvSpPr/>
          <p:nvPr/>
        </p:nvSpPr>
        <p:spPr>
          <a:xfrm flipH="1">
            <a:off x="-720" y="5243400"/>
            <a:ext cx="9140760" cy="162900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9000"/>
              <a:gd name="textAreaBottom" fmla="*/ 1629360 h 162900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395280" y="5877000"/>
            <a:ext cx="720720" cy="682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ffc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圆角矩形 3"/>
          <p:cNvSpPr/>
          <p:nvPr/>
        </p:nvSpPr>
        <p:spPr>
          <a:xfrm>
            <a:off x="5075280" y="119700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2ccd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9"/>
          <p:cNvSpPr/>
          <p:nvPr/>
        </p:nvSpPr>
        <p:spPr>
          <a:xfrm>
            <a:off x="5191200" y="133524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角三角形 15"/>
          <p:cNvSpPr/>
          <p:nvPr/>
        </p:nvSpPr>
        <p:spPr>
          <a:xfrm flipH="1">
            <a:off x="-720" y="5243400"/>
            <a:ext cx="9140760" cy="1629000"/>
          </a:xfrm>
          <a:custGeom>
            <a:avLst/>
            <a:gdLst>
              <a:gd name="textAreaLeft" fmla="*/ -360 w 9140760"/>
              <a:gd name="textAreaRight" fmla="*/ 9140760 w 9140760"/>
              <a:gd name="textAreaTop" fmla="*/ 0 h 1629000"/>
              <a:gd name="textAreaBottom" fmla="*/ 1629360 h 1629000"/>
            </a:gdLst>
            <a:ahLst/>
            <a:rect l="textAreaLeft" t="textAreaTop" r="textAreaRight" b="textAreaBottom"/>
            <a:pathLst>
              <a:path w="9144000" h="1988840">
                <a:moveTo>
                  <a:pt x="9144000" y="0"/>
                </a:moveTo>
                <a:lnTo>
                  <a:pt x="2946165" y="1755844"/>
                </a:lnTo>
                <a:lnTo>
                  <a:pt x="0" y="0"/>
                </a:lnTo>
                <a:lnTo>
                  <a:pt x="0" y="1988840"/>
                </a:lnTo>
                <a:lnTo>
                  <a:pt x="2123728" y="1988840"/>
                </a:lnTo>
                <a:lnTo>
                  <a:pt x="3337114" y="1988840"/>
                </a:lnTo>
                <a:lnTo>
                  <a:pt x="9144000" y="1988840"/>
                </a:lnTo>
                <a:close/>
              </a:path>
            </a:pathLst>
          </a:cu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50960" y="2462040"/>
            <a:ext cx="3333600" cy="31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90600" y="5783400"/>
            <a:ext cx="722160" cy="682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6"/>
          <p:cNvSpPr/>
          <p:nvPr/>
        </p:nvSpPr>
        <p:spPr>
          <a:xfrm>
            <a:off x="-212040" y="493560"/>
            <a:ext cx="40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2ccdc"/>
                </a:solidFill>
                <a:latin typeface="Berlin Sans FB Demi"/>
                <a:ea typeface="Calibri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3"/>
          <p:cNvSpPr/>
          <p:nvPr/>
        </p:nvSpPr>
        <p:spPr>
          <a:xfrm>
            <a:off x="5075280" y="2852640"/>
            <a:ext cx="3097080" cy="1440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528392" h="1800200">
                <a:moveTo>
                  <a:pt x="0" y="1184775"/>
                </a:moveTo>
                <a:lnTo>
                  <a:pt x="0" y="300039"/>
                </a:lnTo>
                <a:cubicBezTo>
                  <a:pt x="0" y="134332"/>
                  <a:pt x="134332" y="0"/>
                  <a:pt x="300039" y="0"/>
                </a:cubicBezTo>
                <a:lnTo>
                  <a:pt x="3228353" y="0"/>
                </a:lnTo>
                <a:cubicBezTo>
                  <a:pt x="3394060" y="0"/>
                  <a:pt x="3528392" y="134332"/>
                  <a:pt x="3528392" y="300039"/>
                </a:cubicBezTo>
                <a:lnTo>
                  <a:pt x="3528392" y="1500161"/>
                </a:lnTo>
                <a:cubicBezTo>
                  <a:pt x="3528392" y="1665868"/>
                  <a:pt x="3394060" y="1800200"/>
                  <a:pt x="3228353" y="1800200"/>
                </a:cubicBezTo>
                <a:lnTo>
                  <a:pt x="621287" y="1800200"/>
                </a:lnTo>
              </a:path>
            </a:pathLst>
          </a:custGeom>
          <a:noFill/>
          <a:ln w="25560">
            <a:solidFill>
              <a:srgbClr val="92ccdc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23"/>
          <p:cNvSpPr/>
          <p:nvPr/>
        </p:nvSpPr>
        <p:spPr>
          <a:xfrm>
            <a:off x="5191200" y="299088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92c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98640" y="618804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duct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25440" y="4437000"/>
            <a:ext cx="44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-1133280" y="5302080"/>
            <a:ext cx="57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73680" y="6004080"/>
            <a:ext cx="289080" cy="314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672240" y="5565600"/>
            <a:ext cx="290520" cy="317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962760" y="5562720"/>
            <a:ext cx="197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@Kingsoft_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kingsoft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61280" y="6102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91280" y="61722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4:45:00Z</dcterms:created>
  <dc:creator>Sophie</dc:creator>
  <dc:description/>
  <dc:language>en-US</dc:language>
  <cp:lastModifiedBy>微软用户</cp:lastModifiedBy>
  <cp:lastPrinted>1899-12-30T00:00:00Z</cp:lastPrinted>
  <dcterms:modified xsi:type="dcterms:W3CDTF">2011-05-30T23:57:0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