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3034-257D-48D9-8879-7F8BD51B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B85-8607-4BE6-B986-F304ED64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498-A2F3-47A2-BCD6-B19BEEBC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DB1-C940-4FE5-8A14-0A7D69EC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72E6-704D-4E91-8F46-2553C2A9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CD4D-E9C6-4AE8-A0C0-024AD027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1A09-0CAD-43AC-B92E-1E0BA4CB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F740-557D-4986-A9B6-ABF0C61A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D1D8-CFD7-492D-9397-72151992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E984-A7F5-49AA-A97F-7132C131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73F5-CF85-40FF-9400-1385E736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0416-8B9D-41B2-847F-52143FC0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D6E6-CF41-431D-A6E0-D320282F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FE7B-C3E1-425F-B7E2-CDF7058C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FAF0-BF1D-4207-9350-790C586E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79CF-1250-4A77-AE91-5E5EE52E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11DC-C68D-4F6D-A8E0-FB7FF773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446-7177-4BEB-B9AD-5231C4E9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BE7-8E79-42D8-A7F3-8C76657C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036-980A-4DA5-8DA3-EFD2E438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81C-BEAD-4912-9FF9-3FF8DC6E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706-7978-4996-A7F8-5C09EF57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880-0370-438A-8BC7-E1A56785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4D6-9DAF-4216-BD50-A9D3373D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1275-1579-421D-8313-36AE27AE499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9812-6F1F-4ED6-90E2-21E2DF26926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B039-6F74-4198-97A8-0D2A55D97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3"/>
          <p:cNvSpPr/>
          <p:nvPr/>
        </p:nvSpPr>
        <p:spPr>
          <a:xfrm>
            <a:off x="5075280" y="119700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94dd43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9"/>
          <p:cNvSpPr/>
          <p:nvPr/>
        </p:nvSpPr>
        <p:spPr>
          <a:xfrm>
            <a:off x="5191200" y="133524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角三角形 15"/>
          <p:cNvSpPr/>
          <p:nvPr/>
        </p:nvSpPr>
        <p:spPr>
          <a:xfrm flipH="1">
            <a:off x="-720" y="5229360"/>
            <a:ext cx="9140760" cy="1628640"/>
          </a:xfrm>
          <a:custGeom>
            <a:avLst/>
            <a:gdLst>
              <a:gd name="textAreaLeft" fmla="*/ -360 w 9140760"/>
              <a:gd name="textAreaRight" fmla="*/ 9140760 w 9140760"/>
              <a:gd name="textAreaTop" fmla="*/ 0 h 1628640"/>
              <a:gd name="textAreaBottom" fmla="*/ 1629000 h 1628640"/>
            </a:gdLst>
            <a:ahLst/>
            <a:rect l="textAreaLeft" t="textAreaTop" r="textAreaRight" b="textAreaBottom"/>
            <a:pathLst>
              <a:path w="9144000" h="1988840">
                <a:moveTo>
                  <a:pt x="9144000" y="0"/>
                </a:moveTo>
                <a:lnTo>
                  <a:pt x="2946165" y="1755844"/>
                </a:lnTo>
                <a:lnTo>
                  <a:pt x="0" y="0"/>
                </a:lnTo>
                <a:lnTo>
                  <a:pt x="0" y="1988840"/>
                </a:lnTo>
                <a:lnTo>
                  <a:pt x="2123728" y="1988840"/>
                </a:lnTo>
                <a:lnTo>
                  <a:pt x="3337114" y="1988840"/>
                </a:lnTo>
                <a:lnTo>
                  <a:pt x="9144000" y="1988840"/>
                </a:lnTo>
                <a:close/>
              </a:path>
            </a:pathLst>
          </a:cu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50960" y="2462040"/>
            <a:ext cx="3333600" cy="3152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390600" y="5783400"/>
            <a:ext cx="722160" cy="682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6"/>
          <p:cNvSpPr/>
          <p:nvPr/>
        </p:nvSpPr>
        <p:spPr>
          <a:xfrm>
            <a:off x="-212040" y="493560"/>
            <a:ext cx="40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4dd43"/>
                </a:solidFill>
                <a:latin typeface="Berlin Sans FB Demi"/>
                <a:ea typeface="Calibr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3"/>
          <p:cNvSpPr/>
          <p:nvPr/>
        </p:nvSpPr>
        <p:spPr>
          <a:xfrm>
            <a:off x="5075280" y="285264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94dd43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7"/>
          <p:cNvSpPr/>
          <p:nvPr/>
        </p:nvSpPr>
        <p:spPr>
          <a:xfrm>
            <a:off x="98640" y="618804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圆角矩形 3"/>
          <p:cNvSpPr/>
          <p:nvPr/>
        </p:nvSpPr>
        <p:spPr>
          <a:xfrm>
            <a:off x="5075280" y="119700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ffc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9"/>
          <p:cNvSpPr/>
          <p:nvPr/>
        </p:nvSpPr>
        <p:spPr>
          <a:xfrm>
            <a:off x="5191200" y="133524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角三角形 15"/>
          <p:cNvSpPr/>
          <p:nvPr/>
        </p:nvSpPr>
        <p:spPr>
          <a:xfrm flipH="1">
            <a:off x="-720" y="5243400"/>
            <a:ext cx="9140760" cy="1629000"/>
          </a:xfrm>
          <a:custGeom>
            <a:avLst/>
            <a:gdLst>
              <a:gd name="textAreaLeft" fmla="*/ -360 w 9140760"/>
              <a:gd name="textAreaRight" fmla="*/ 9140760 w 9140760"/>
              <a:gd name="textAreaTop" fmla="*/ 0 h 1629000"/>
              <a:gd name="textAreaBottom" fmla="*/ 1629360 h 1629000"/>
            </a:gdLst>
            <a:ahLst/>
            <a:rect l="textAreaLeft" t="textAreaTop" r="textAreaRight" b="textAreaBottom"/>
            <a:pathLst>
              <a:path w="9144000" h="1988840">
                <a:moveTo>
                  <a:pt x="9144000" y="0"/>
                </a:moveTo>
                <a:lnTo>
                  <a:pt x="2946165" y="1755844"/>
                </a:lnTo>
                <a:lnTo>
                  <a:pt x="0" y="0"/>
                </a:lnTo>
                <a:lnTo>
                  <a:pt x="0" y="1988840"/>
                </a:lnTo>
                <a:lnTo>
                  <a:pt x="2123728" y="1988840"/>
                </a:lnTo>
                <a:lnTo>
                  <a:pt x="3337114" y="1988840"/>
                </a:lnTo>
                <a:lnTo>
                  <a:pt x="9144000" y="198884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50960" y="2462040"/>
            <a:ext cx="3333600" cy="3152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395280" y="5877000"/>
            <a:ext cx="720720" cy="682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6"/>
          <p:cNvSpPr/>
          <p:nvPr/>
        </p:nvSpPr>
        <p:spPr>
          <a:xfrm>
            <a:off x="-212040" y="493560"/>
            <a:ext cx="40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0"/>
                </a:solidFill>
                <a:latin typeface="Berlin Sans FB Demi"/>
                <a:ea typeface="Calibr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3"/>
          <p:cNvSpPr/>
          <p:nvPr/>
        </p:nvSpPr>
        <p:spPr>
          <a:xfrm>
            <a:off x="5075280" y="285264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ffc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98640" y="618804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圆角矩形 3"/>
          <p:cNvSpPr/>
          <p:nvPr/>
        </p:nvSpPr>
        <p:spPr>
          <a:xfrm>
            <a:off x="5075280" y="119700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92ccd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9"/>
          <p:cNvSpPr/>
          <p:nvPr/>
        </p:nvSpPr>
        <p:spPr>
          <a:xfrm>
            <a:off x="5191200" y="133524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角三角形 15"/>
          <p:cNvSpPr/>
          <p:nvPr/>
        </p:nvSpPr>
        <p:spPr>
          <a:xfrm flipH="1">
            <a:off x="-720" y="5243400"/>
            <a:ext cx="9140760" cy="1629000"/>
          </a:xfrm>
          <a:custGeom>
            <a:avLst/>
            <a:gdLst>
              <a:gd name="textAreaLeft" fmla="*/ -360 w 9140760"/>
              <a:gd name="textAreaRight" fmla="*/ 9140760 w 9140760"/>
              <a:gd name="textAreaTop" fmla="*/ 0 h 1629000"/>
              <a:gd name="textAreaBottom" fmla="*/ 1629360 h 1629000"/>
            </a:gdLst>
            <a:ahLst/>
            <a:rect l="textAreaLeft" t="textAreaTop" r="textAreaRight" b="textAreaBottom"/>
            <a:pathLst>
              <a:path w="9144000" h="1988840">
                <a:moveTo>
                  <a:pt x="9144000" y="0"/>
                </a:moveTo>
                <a:lnTo>
                  <a:pt x="2946165" y="1755844"/>
                </a:lnTo>
                <a:lnTo>
                  <a:pt x="0" y="0"/>
                </a:lnTo>
                <a:lnTo>
                  <a:pt x="0" y="1988840"/>
                </a:lnTo>
                <a:lnTo>
                  <a:pt x="2123728" y="1988840"/>
                </a:lnTo>
                <a:lnTo>
                  <a:pt x="3337114" y="1988840"/>
                </a:lnTo>
                <a:lnTo>
                  <a:pt x="9144000" y="1988840"/>
                </a:lnTo>
                <a:close/>
              </a:path>
            </a:pathLst>
          </a:cu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750960" y="2462040"/>
            <a:ext cx="3333600" cy="31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390600" y="5783400"/>
            <a:ext cx="722160" cy="682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6"/>
          <p:cNvSpPr/>
          <p:nvPr/>
        </p:nvSpPr>
        <p:spPr>
          <a:xfrm>
            <a:off x="-212040" y="493560"/>
            <a:ext cx="40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2ccdc"/>
                </a:solidFill>
                <a:latin typeface="Berlin Sans FB Demi"/>
                <a:ea typeface="Calibr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3"/>
          <p:cNvSpPr/>
          <p:nvPr/>
        </p:nvSpPr>
        <p:spPr>
          <a:xfrm>
            <a:off x="5075280" y="285264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92ccd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98640" y="618804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25440" y="4437000"/>
            <a:ext cx="44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-1133280" y="5302080"/>
            <a:ext cx="57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73680" y="6004080"/>
            <a:ext cx="289080" cy="314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672240" y="5565600"/>
            <a:ext cx="290520" cy="317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962760" y="5562720"/>
            <a:ext cx="1970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@Kingsoft_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kingsoft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61280" y="6102360"/>
            <a:ext cx="12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91280" y="61722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4:45:00Z</dcterms:created>
  <dc:creator>Sophie</dc:creator>
  <dc:description/>
  <dc:language>en-US</dc:language>
  <cp:lastModifiedBy>微软用户</cp:lastModifiedBy>
  <cp:lastPrinted>1899-12-30T00:00:00Z</cp:lastPrinted>
  <dcterms:modified xsi:type="dcterms:W3CDTF">2011-05-30T23:57:0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