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757-1F74-41AC-8070-53B0D3D3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C68-3855-470C-A227-B5105B65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9CC-C5B3-4579-B98D-FD5B2407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3B1-8080-440E-B875-3296E73C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6A38-C339-4B9A-8C57-D8A25866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5945-B91C-4321-8C58-501580DD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E1A6-1E02-4513-93C4-2DECA18A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E545-2712-47DC-8CC2-6CCD79C5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0D43-584A-4C99-B977-B3103A4E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27F5-3652-475C-9E66-A46CC63F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0C8F-B1E0-403D-B91C-4DB2CC63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323-05FB-4F20-9EB0-D80A3746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6FBB-8AE1-4F40-ADF1-D3D9BF3F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7B67-BA8E-45D3-9606-F1B3A14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5F9B-13DE-4997-AD12-D3BC2D58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14D2-61CB-4BF8-908C-543A9029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44E1-F74E-4D69-979B-337DF967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A0C9-33CD-49A1-A979-96AC1A1F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A46A0-6AA2-4FE3-9D8C-B454A649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8CFD-5194-48F2-B33B-8B1DC539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5C70-1D14-4B2D-8302-D10218AF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8631-1302-4593-91A1-F4026475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F3C-7EE2-487F-A5FC-638D07AC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810F5-FCAA-419D-8061-EC6F2B14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2255C-0159-4C46-BDD1-F383FC2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66A2-6DF9-452A-9930-C0821660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800F-AD46-46CC-8058-2F1B6AC0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78DB-DD2A-4EBB-8293-B22ECE34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2A10-0807-4558-BDB9-60BD539C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A1F58-6CC0-4F3B-ADF2-0A1F87C1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87B-8DDB-4089-B027-06B5BA5C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68C-06D9-4123-B725-67EE5561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E4B-4843-44D4-9515-C9581DD7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912-5739-44F1-809E-30CF176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B22-005C-4A82-9595-1E52EA18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CFD-72E3-491A-98B2-29947BE3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1676520"/>
            <a:ext cx="8558280" cy="47574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82600" y="74520"/>
            <a:ext cx="8558280" cy="1465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1F92-7C68-4B8F-92F6-C617BE5E620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A81B-AEE6-4D6F-91E4-65519EEF57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F323-6DF0-4F1A-B597-44BC2208D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4419720"/>
            <a:ext cx="9144000" cy="206532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0" y="4137120"/>
            <a:ext cx="9144000" cy="202248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 flipH="1">
            <a:off x="0" y="5203800"/>
            <a:ext cx="9144000" cy="647640"/>
          </a:xfrm>
          <a:prstGeom prst="pie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4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400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400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95ED-4C85-4722-A995-493F33F1C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324000" y="4437000"/>
            <a:ext cx="54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Kingsoft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5:57:51Z</dcterms:created>
  <dc:creator>Administrator</dc:creator>
  <dc:description/>
  <dc:language>en-US</dc:language>
  <cp:lastModifiedBy/>
  <cp:lastPrinted>1899-12-30T00:00:00Z</cp:lastPrinted>
  <dcterms:modified xsi:type="dcterms:W3CDTF">2010-11-17T09:20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_TemplateID">
    <vt:lpwstr>TC018814329991</vt:lpwstr>
  </property>
</Properties>
</file>