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0C1-6971-4C5C-9CAA-823572FA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8BF-553E-4989-9B30-110EC5B2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8FD-FF32-49A5-B65B-4854150E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9AB-7050-42E7-9B7B-3DD5349E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93A1-A644-4CC9-956B-092F9A81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6922-54F5-4E96-8FB4-5D319B48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47E8-BBDF-43E7-9E1D-8C0AC06E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7E08-D1DF-433F-A88C-2A45CE17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6803-3147-4133-8324-D7E9AB29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95CB-604D-43C9-BC07-E2617565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25AB-D4CD-4326-9FF7-F3D210C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BD0-62F6-4805-9D06-C9F8EC00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8999-26B2-4A93-94E0-1CACBE09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310C-1731-4315-B5B7-38838C4D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D35B-9A1E-4DC7-8447-635D092A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8268-D1B4-4AAC-A475-DD4C92C6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7BBF-0D5C-44FE-9E21-6EF40252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12A4-8CD7-49D4-BE9C-61F96ACF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5DC6-513B-4C90-9CB6-7439D43C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D859-1326-47F8-93E3-394B01FF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12C1-41F8-41A4-B2CB-83553891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9440-FEBB-4244-B6C2-293FA815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91B-6DEE-412F-9E94-5298F7D8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A59A2-663A-4AAA-8F42-253386B2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C746-6110-429C-8437-1635D81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EF7F-580B-41A6-86F8-00BB7B36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86EF-D83C-4D33-9B8A-8A05FF0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3F3A-0775-4C1B-92D7-637980B6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3984-EF6D-481E-95FC-8EED6FA5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10EE-40F1-447B-AE7E-3F3BD9FD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929-FAC9-4A3C-AE8D-BDD0963A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D3D-B8FB-473E-AE8F-6A2B3EAD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9D4-C948-4E6B-B8CE-7F01E80F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63C-03B5-4567-9F45-78F0FF5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D81-07B5-4A12-9706-87BEA9B4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C2C-B2A7-496F-9F97-29641664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1676520"/>
            <a:ext cx="8558280" cy="47574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82600" y="74520"/>
            <a:ext cx="8558280" cy="1465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FA4B-C71A-42F4-9141-6A1D913C9C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02D-BF54-488C-BE1F-248B051DE6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67D2-7833-4E95-8DA2-E28AAAD23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4419720"/>
            <a:ext cx="9144000" cy="206532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0" y="4137120"/>
            <a:ext cx="9144000" cy="202248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 flipH="1">
            <a:off x="0" y="5203800"/>
            <a:ext cx="9144000" cy="64764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400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400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2999-0FB3-409F-B2BD-11D1785CA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4000" y="4437000"/>
            <a:ext cx="54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57:51Z</dcterms:created>
  <dc:creator>Administrator</dc:creator>
  <dc:description/>
  <dc:language>en-US</dc:language>
  <cp:lastModifiedBy/>
  <cp:lastPrinted>1899-12-30T00:00:00Z</cp:lastPrinted>
  <dcterms:modified xsi:type="dcterms:W3CDTF">2010-11-17T09:20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8814329991</vt:lpwstr>
  </property>
</Properties>
</file>